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9D3-E8AD-499E-8938-EDC4CFF7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8F8-828C-4CE8-AE5F-FE310DF3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4A4-1434-45B1-A4D3-0850F865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4FF-6B49-41B0-B417-2C9D4753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ADF5-C13D-4BEC-AB4B-70ED321C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10E8-A75F-4716-8D18-1649D9E6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79A7-396B-468E-B78F-34AC11A6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F4AC-A2F7-4209-82A2-549DD209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0EA0-0FCB-47F2-A557-9B67AF16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7829-3A74-4D98-AA72-355E6F43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7A33-3993-41D6-8577-785E6677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E0E-9608-43F8-AE98-5BB52A3D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FC60-9FFA-4F40-A9A3-AF34A22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CA2F-69D6-43FE-A49A-4D077748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B765-9305-47AB-8978-03CD0063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B926-8E23-4672-A342-A6E9807E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0997-8881-4188-BFCA-503A8935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A8F52-A06A-4399-BDFD-7AA7EBB9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4E674-3B7F-43D2-9630-D9BB40DA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F8D2A-557A-4840-9B42-E4DE9734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782A1-9E5B-46CA-A05E-0D5EFD05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6602B-BA52-4BBE-B94A-3AE7A8D5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1DA-44B4-46E6-A796-F18340DB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7604C-48FE-4B33-9847-DF4F161B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A8A2F-D28F-4998-B2A1-E9A7B7F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966EA-10D3-469B-BB7F-66239EBA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85876-CC02-43A5-986D-05CB7865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EBEC1-0831-4C00-918E-6C3C1B78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71CF1-4201-4CEE-995C-AE9C59EA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06093-1D90-4FF1-9A89-CE095D01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456C-2385-44B8-823E-857FDCE4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D4EB-6752-48F3-A5BB-9411F96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957B-F1F8-488E-8C1B-8C22AC31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25E-0437-40F0-B2DD-3FC597AB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E83D-D694-4F46-9A59-5C8B070D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C296-170A-4FC5-B82C-13DB7C0F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5E04-FC77-482F-BF16-ACAF26B6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882D-D6BB-4E13-AE9A-D8B1F406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4DDB8-70DB-43BF-952D-3AA55501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CA29-CC63-4CD8-8124-2895344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E0EB6-1618-41D6-B6E5-6D948D37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E26E1-F779-4B2B-8228-AA810B8B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1930D-9880-48ED-9950-CF0B87D3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76BF8-76AE-48E2-A83B-BA437665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9E8-55A4-42FB-B2EB-3A4C1765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62514-FE8D-427F-B3A2-9960CBEA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54920-2CBE-4540-A17F-E65D5482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1B13D-52BE-4B4F-A11E-A3F75485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0EB21-2F88-4DE2-AE90-ECCF0821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66F3F-A025-4BF4-BAAD-5A588460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D0B229-69AE-4F6D-B39C-3F596122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8FB69-2CEE-47A1-B8B9-0F8C083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9612C-89CD-4861-BD62-D14DFC7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B27046-CDC6-4AC2-82C6-08B31355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E441A-8B69-4B34-B237-1A4086FB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6B6-8F8B-4A1B-9A3E-E356B84F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524B1-B000-4833-978E-0ED341A2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752AD-496D-40F2-94C6-A8221463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4957C-D2D9-41CF-8C99-EDE374F1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1E171-01C8-4AB0-8091-E9FC39D1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0F90C-4141-4D81-AEE0-63279312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AF770-2851-4696-83FE-CE5B3140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7AF23-B48A-40C4-AE18-62B4B033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2BED4-8FF6-475D-962C-789050DF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1F960-5A11-483A-949A-5B99BE3F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32299-BE68-4BAD-AC8D-54D7770C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019-14FB-4835-9E83-AF46BE3F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702A5-0AE9-4C0E-98FF-F95AFD00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B1A8E-B353-46A7-99C3-585DF16C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8BF14-6D11-4C2C-AAD8-C0094D11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8B620F-739D-4176-8CA6-40A0EA81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EA771-522E-4881-80E7-ADE60612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6F200-9461-479C-B1D7-11634FD6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CB471-9985-4791-98F1-ACE1C152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8BDBB-D25E-43C6-A9AC-9F0B551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939B2-E0FD-49C1-BCB2-AC50D585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663A2-422D-4E63-9C03-389DD01B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BAE-806C-4399-810E-11018D72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0E549-E575-4425-9FCF-FBA2D1CE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E1116-ADB4-49C9-8D15-CCFF2C4C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F4A25-DC88-4F4C-A1CE-BCB74F22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29AF1-ECC4-4FB4-90C0-3B8A6AE0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8D1DE-0D97-4AC8-911F-EF4BF244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B61-1997-4EB3-B612-8BC159E5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CF9F-4277-4F0F-8B0B-BC8AA43C8C5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71A6-F585-47D9-AF7A-C69F20F5992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A350-A30D-491A-80F1-4F681E28B5E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2568-EE9C-4273-9B7A-63301A2DB6B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DFDA-EED6-4929-87F6-E9B141D0415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E92C-8A28-4837-A8F1-A0483E65EE6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484B-4D27-4305-A77B-D84DD8845D3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GROOMING PRODU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hapter 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Section 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THER SAFETY TIP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ash your hands before using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share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void test samples at st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use eye makeup if you have an eye inf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ep products tightly closed and out of sunligh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w away products that changes color, smells bad, or past its expiration 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apply makeup or shave while driv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ttp://images.ddccdn.com/otc/116411/force-power-up-01.jpg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greenbeautyjunkie.files.wordpress.com/2011/02/ingredients.jpg"/>
          <p:cNvPicPr/>
          <p:nvPr/>
        </p:nvPicPr>
        <p:blipFill>
          <a:blip r:embed="rId1"/>
          <a:stretch/>
        </p:blipFill>
        <p:spPr>
          <a:xfrm>
            <a:off x="1371600" y="914400"/>
            <a:ext cx="61722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GULATION OF GROOMING PRODU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assified as either drugs or cosmetics by the F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 drugs – claim to affect the structure or function of th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amples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 cosmetics – do not claim to affect the structure or function of the bod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amples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DA can stop the sale of harmful produ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BELS ARE IMPORTA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st have an ingredient list, in descending order of quantity, just like foo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ly specific fragrances, flavors, and trade secrets are exempt from the lis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rugs must divide the ingredients into “Active” and “Inactiv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ABEL TER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tural – this can mean whatever the manufacturer wants it to mean; there is no regulation on its 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ypoallergenic – means less likely to cause an allergic reaction; no evidence is required for its 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rmatologist-tested – no information is required for this clai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agrance-free – could actually have a small amount of fragrance to cover up other od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ORE LABEL TER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ncomedogenic – suggests it will not clog pores and cause acne; no proof is required for 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itamin-enriched – no evidence that vitamins help grooming products’ effec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INFORMED DECIS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k for recommendations or try sa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ryone is different; not everything works for every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ily vs dry ski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urly vs straight hai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 the label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er price does not mean better qua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DUCT SAFE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y a new product on a small area to test for allergi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y product can cause an allergic reaction: redness and irritation are the first sig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n’t use flammable products near fire or h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2:32:28Z</dcterms:created>
  <dc:creator>End User</dc:creator>
  <dc:description/>
  <dc:language>en-US</dc:language>
  <cp:lastModifiedBy>End User</cp:lastModifiedBy>
  <dcterms:modified xsi:type="dcterms:W3CDTF">2014-04-07T17:08:15Z</dcterms:modified>
  <cp:revision>5</cp:revision>
  <dc:subject/>
  <dc:title>Grooming Products</dc:title>
</cp:coreProperties>
</file>