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800EF-8A84-4D99-9CFD-F203F8BF5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E8E8A-D241-4CF7-A861-6797932E3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4A800-C114-4B8F-A3D2-FAF582131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98843-E0F1-433B-9126-289A46E45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72F12-6949-44F2-8735-3D8DB2254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704-9C11-4EAE-98D0-E6FCD784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4D2-10FE-4B65-B11A-961F4F78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301-5905-4920-AB76-D4DF75F4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638-42CC-4582-8EE4-475E4D8E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18F-DFB3-4379-A6D5-375EAC70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3FB-C57D-4A9D-B3C0-3A7EB151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EB0-558A-49C7-93BC-72AE9D8B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ED0-D0B9-4E0D-A78B-FFFB435A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3F4-5EA0-4A09-9483-F9146D18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88D-1D81-42BA-9D02-FD4A838E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45E-C928-415E-B687-019E674A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ECD-F082-4E53-8A7E-3F8E86D6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979DA5-1DDE-4BB9-926F-C6B6B34BC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03280" y="301680"/>
            <a:ext cx="9070920" cy="61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55200"/>
            <a:ext cx="90694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pter 18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tion 1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othing Decisions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http://styleslides.com/wp-content/uploads/2014/01/Fashion-Ad-1-Midtown.jpg"/>
          <p:cNvPicPr/>
          <p:nvPr/>
        </p:nvPicPr>
        <p:blipFill>
          <a:blip r:embed="rId1"/>
          <a:stretch/>
        </p:blipFill>
        <p:spPr>
          <a:xfrm>
            <a:off x="1230480" y="2408400"/>
            <a:ext cx="7840440" cy="48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drob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drobe – collection of clothes, shoes, and  accessories you 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ories – scarves, ties, jewelry, belts, and h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your current wardrobe meet all of your nee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it alway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http://bteen.files.wordpress.com/2013/12/bteen_wardrobeupdate_1.jpeg"/>
          <p:cNvPicPr/>
          <p:nvPr/>
        </p:nvPicPr>
        <p:blipFill>
          <a:blip r:embed="rId1"/>
          <a:stretch/>
        </p:blipFill>
        <p:spPr>
          <a:xfrm>
            <a:off x="1763640" y="1874880"/>
            <a:ext cx="65451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hysical Factors on Cloth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 – cold, warm, rain, and snow all change your cl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 – protective gear, spikes, high t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fort – looser fit for activities, on your feet all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sychological Facto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choose your cloth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fo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test Sty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cial Facto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hion Trends – look or style popular at a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– brand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asions – wedding, funeral, job int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ess codes – business casual, casual, 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2.bp.blogspot.com/-t2PwNLE9EPY/Tm1owH32tKI/AAAAAAAAFtc/wLUFPrSM-xE/s1600/fashion%2Bsilhouettes.jpg"/>
          <p:cNvPicPr/>
          <p:nvPr/>
        </p:nvPicPr>
        <p:blipFill>
          <a:blip r:embed="rId1"/>
          <a:stretch/>
        </p:blipFill>
        <p:spPr>
          <a:xfrm>
            <a:off x="696960" y="426960"/>
            <a:ext cx="873432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t I’ve Got NOTHING to Wear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Organizing a Wardrobe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out items you don’t w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n’t I wear it?  Stains, wrinkled, worn?  Wrong size?  Did I forget about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solution to the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te or sell unwanted items -&gt; Yard Sa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needs to be added to complete your wardro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tting More out of Your Wardrob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clothes, make alterations, go to the thrift 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with classics – plain col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items good for multiple occa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combinations – vests, undershi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2 or 3 colors as the basis for your wardro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ome access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16:08:34Z</dcterms:created>
  <dc:creator>Mike Farver</dc:creator>
  <dc:description>Presentation Layout Template</dc:description>
  <dc:language>en-US</dc:language>
  <cp:lastModifiedBy>End User</cp:lastModifiedBy>
  <dcterms:modified xsi:type="dcterms:W3CDTF">2014-03-31T13:01:16Z</dcterms:modified>
  <cp:revision>8</cp:revision>
  <dc:subject/>
  <dc:title>Blue Lines and Gradients</dc:title>
</cp:coreProperties>
</file>