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6F9AD-E82A-484E-B236-71BD8B1BB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A30F4-FDD5-43B2-BFDF-1FC811BF4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7DA46-A19F-404E-B194-093F4BDEB5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65879-9730-4EF6-957D-0A522E4A43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0806C-2D53-4D9C-8F59-5F42D32F45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5FDC-C8F2-46FA-9991-E8C447EC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D499-6009-40F4-B70C-C8440E46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DCD-B9A8-4519-9A24-4D15BF10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392C-C50B-404F-AC96-EABF88C3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E24-85FC-46A3-A3B7-08676737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B96-735D-4623-B744-C476FD00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1175-6481-4108-9240-D2B80448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0EFB-3263-4D61-BF0F-613CFC93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243-5561-489B-8DED-65467759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27CA-5A55-4EEE-8B0B-F417B978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8F8-89DD-4C20-8DA7-A79A6152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20D7-D05A-42C7-8B40-9A14333E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C05F00-2654-4AF1-B1E4-673EF2E69F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03280" y="301680"/>
            <a:ext cx="9070920" cy="61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655200"/>
            <a:ext cx="90694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apter 18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tion 1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othing Decisions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http://styleslides.com/wp-content/uploads/2014/01/Fashion-Ad-1-Midtown.jpg"/>
          <p:cNvPicPr/>
          <p:nvPr/>
        </p:nvPicPr>
        <p:blipFill>
          <a:blip r:embed="rId1"/>
          <a:stretch/>
        </p:blipFill>
        <p:spPr>
          <a:xfrm>
            <a:off x="1230480" y="2408400"/>
            <a:ext cx="7840440" cy="48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rdrob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drobe – collection of clothes, shoes, and  accessories you 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ories – scarves, ties, jewelry, belts, and h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your current wardrobe meet all of your nee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it alway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http://bteen.files.wordpress.com/2013/12/bteen_wardrobeupdate_1.jpeg"/>
          <p:cNvPicPr/>
          <p:nvPr/>
        </p:nvPicPr>
        <p:blipFill>
          <a:blip r:embed="rId1"/>
          <a:stretch/>
        </p:blipFill>
        <p:spPr>
          <a:xfrm>
            <a:off x="1763640" y="1874880"/>
            <a:ext cx="65451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hysical Factors on Cloth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 – cold, warm, rain, and snow all change your cl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 – protective gear, spikes, high t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fort – looser fit for activities, on your feet all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sychological Factor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choose your cloth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fo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test Sty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cial Factor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hion Trends – look or style popular at a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– brand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asions – wedding, funeral, job int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ess codes – business casual, casual, f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2.bp.blogspot.com/-t2PwNLE9EPY/Tm1owH32tKI/AAAAAAAAFtc/wLUFPrSM-xE/s1600/fashion%2Bsilhouettes.jpg"/>
          <p:cNvPicPr/>
          <p:nvPr/>
        </p:nvPicPr>
        <p:blipFill>
          <a:blip r:embed="rId1"/>
          <a:stretch/>
        </p:blipFill>
        <p:spPr>
          <a:xfrm>
            <a:off x="696960" y="426960"/>
            <a:ext cx="873432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ut I’ve Got NOTHING to Wear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(Organizing a Wardrobe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out items you don’t w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n’t I wear it?  Stains, wrinkled, worn?  Wrong size?  Did I forget about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 solution to the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ate or sell unwanted items -&gt; Yard Sal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needs to be added to complete your wardro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tting More out of Your Wardrob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clothes, make alterations, go to the thrift 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with classics – plain col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items good for multiple occa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combinations – vests, undershi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2 or 3 colors as the basis for your wardro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some access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16:08:34Z</dcterms:created>
  <dc:creator>Mike Farver</dc:creator>
  <dc:description>Presentation Layout Template</dc:description>
  <dc:language>en-US</dc:language>
  <cp:lastModifiedBy>End User</cp:lastModifiedBy>
  <dcterms:modified xsi:type="dcterms:W3CDTF">2014-03-31T13:01:16Z</dcterms:modified>
  <cp:revision>8</cp:revision>
  <dc:subject/>
  <dc:title>Blue Lines and Gradients</dc:title>
</cp:coreProperties>
</file>