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1D27C-2894-46BB-BFDE-D5BCDD779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46173-1E20-475A-A757-47B6E31A9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389D0-CD4F-4B15-A5A1-E2D0C323B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E800-F4EC-45C2-8188-100918464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ACFE2-C1AB-489E-A593-B4EA5AFEB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0FE18-3FF7-4ABC-A100-FC91E644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EB75A-2716-4ED6-8B67-28F7B596B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7B81B-6D4B-4607-97D0-A33F7CF3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0F91-CAAC-4241-8898-D9607577B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EE2E8-E94D-4365-9C90-2B4FEC75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FF10-14C6-4107-BC67-EC01B0D1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02D7-33D3-41C7-BA94-14D97110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7D7-233E-4019-ACC8-D03695F7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A3B-23E1-4BE6-A6BA-2D2E61F3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0F7-1729-4A12-BAE6-25F926E7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DC9-385D-492A-8AF6-C6465666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2A0B-02E9-410C-9DF8-59DCDDE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5AF-8A5E-447B-A83B-46E40BA8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FBC-EA8C-4129-BBA5-A3C9EE6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856-12DC-4490-8537-A4E3262B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566-1C4E-456B-8DA9-0869B6D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3FF-4EB1-4276-9CB6-E303D77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FB8951-CBDB-47E8-AF0A-829B52E1E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720720" y="554040"/>
            <a:ext cx="409104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cdn.simplifiedbuilding.com/legacy/sbcv1/blog/wp-content/uploads/2009/03/store.jpg"/>
          <p:cNvPicPr/>
          <p:nvPr/>
        </p:nvPicPr>
        <p:blipFill>
          <a:blip r:embed="rId1"/>
          <a:stretch/>
        </p:blipFill>
        <p:spPr>
          <a:xfrm>
            <a:off x="3363840" y="2712960"/>
            <a:ext cx="6096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Labe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includ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, store, or bran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fiber b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and price may be on a store hang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here to Shop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clothing stores – big &amp; tall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stores – Burlington Coat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ift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ment store – part of the sale pr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to the original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 &amp; Intern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– is it easy to move around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– colors and designs may compliment you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s look slender, lights look hea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s add height, horizontal lines add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go with accessories and other clot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ams and hems straight and sewed d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uttons secure and line up with h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ckets straight with reinforced co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elt loops rei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zipper work smooth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caftansandmalbec.files.wordpress.com/2012/10/screen-shot-2012-10-21-at-8-41-18-pm1.png"/>
          <p:cNvPicPr/>
          <p:nvPr/>
        </p:nvPicPr>
        <p:blipFill>
          <a:blip r:embed="rId1"/>
          <a:stretch/>
        </p:blipFill>
        <p:spPr>
          <a:xfrm>
            <a:off x="4284720" y="4618080"/>
            <a:ext cx="52419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eb.extension.illinois.edu/stain/images/care_label.jpg"/>
          <p:cNvPicPr/>
          <p:nvPr/>
        </p:nvPicPr>
        <p:blipFill>
          <a:blip r:embed="rId1"/>
          <a:stretch/>
        </p:blipFill>
        <p:spPr>
          <a:xfrm>
            <a:off x="2982960" y="655560"/>
            <a:ext cx="45432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othing Fiber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– natural sources (wool, cotton, silk, li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d – wood pulp &amp; oil (nylon, rayon, poly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s – combination of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bric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are twisted into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n is woven or knitted into fa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ven – interlaced yarns (usually stiffer and stro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tted – looped yarns in interlocki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ish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s applied to make a certain look, feel, 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s fo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lo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to wrinkles, stains, moths, sh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6:30:40Z</dcterms:created>
  <dc:creator>Mike Farver</dc:creator>
  <dc:description>Presentation Layout Template</dc:description>
  <dc:language>en-US</dc:language>
  <cp:lastModifiedBy>Mike Farver</cp:lastModifiedBy>
  <dcterms:modified xsi:type="dcterms:W3CDTF">2014-04-03T02:06:13Z</dcterms:modified>
  <cp:revision>3</cp:revision>
  <dc:subject/>
  <dc:title>White Blue and Lightnings</dc:title>
</cp:coreProperties>
</file>