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9F8EB-34CC-432C-A7B4-F7FABD3E1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1BD65-7578-4401-B3C7-E17823DE5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72EF2-8A30-4706-8306-24172F2EF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0DFB3-E1C3-4185-AA46-C138D8082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48C69-8269-4E20-9495-C97201FCA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4B1D2-7907-46B2-A0D0-129F6360C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AF942-6956-4E88-9C23-7E8B95BEE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95C7B-81AC-40F1-8904-1BA938F7F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FD5A2-9F54-4C1C-AFD9-2A56267C0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36BCC-8207-4ECE-AE7F-084512592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9F2-A554-4C93-A120-2C75DCE4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59D-E7E0-4A7E-93FA-75603526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BA3-6DE6-4BC1-BED8-BF89CEEA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47B-BC63-4FA5-A5B5-3BD15462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ABE-8DAD-4FFC-B2A8-97C01893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20E-0107-4915-A557-A2900EAC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24D-1142-4516-B79D-8FE5B753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00E-2F08-4E80-B19F-48665148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E91-8274-4AC4-A0F2-5F4770FD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907-F7A0-441A-BAB6-8ABBB5F8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77A-0D61-4F76-BB7A-9482ED7F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CAC-47C0-444C-ABE1-6ABBFAEF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DFAD6E-EC8E-4F23-A5B2-7CA6E18A8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720720" y="554040"/>
            <a:ext cx="409104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cdn.simplifiedbuilding.com/legacy/sbcv1/blog/wp-content/uploads/2009/03/store.jpg"/>
          <p:cNvPicPr/>
          <p:nvPr/>
        </p:nvPicPr>
        <p:blipFill>
          <a:blip r:embed="rId1"/>
          <a:stretch/>
        </p:blipFill>
        <p:spPr>
          <a:xfrm>
            <a:off x="3363840" y="2712960"/>
            <a:ext cx="60962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Labe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o includ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, store, or brand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fiber by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of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and price may be on a store hang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here to Shop?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ty clothing stores – big &amp; tall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stores – Burlington Coat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e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ift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nment store – part of the sale pr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s to the original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 &amp; Interne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aluating Clothes for Purchas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– is it easy to move around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– colors and designs may compliment your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s look slender, lights look heav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lines add height, horizontal lines add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go with accessories and other clot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aluating Clothes for Purchas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eams and hems straight and sewed d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buttons secure and line up with ho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ckets straight with reinforced cor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belt loops reinfor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zipper work smooth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aluating Clothes for Purchas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ttp://caftansandmalbec.files.wordpress.com/2012/10/screen-shot-2012-10-21-at-8-41-18-pm1.png"/>
          <p:cNvPicPr/>
          <p:nvPr/>
        </p:nvPicPr>
        <p:blipFill>
          <a:blip r:embed="rId1"/>
          <a:stretch/>
        </p:blipFill>
        <p:spPr>
          <a:xfrm>
            <a:off x="4284720" y="4618080"/>
            <a:ext cx="52419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eb.extension.illinois.edu/stain/images/care_label.jpg"/>
          <p:cNvPicPr/>
          <p:nvPr/>
        </p:nvPicPr>
        <p:blipFill>
          <a:blip r:embed="rId1"/>
          <a:stretch/>
        </p:blipFill>
        <p:spPr>
          <a:xfrm>
            <a:off x="2982960" y="655560"/>
            <a:ext cx="45432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othing Fiber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– natural sources (wool, cotton, silk, li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ed – wood pulp &amp; oil (nylon, rayon, poly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ds – combination of th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abric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 are twisted into y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rn is woven or knitted into fa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ven – interlaced yarns (usually stiffer and stron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tted – looped yarns in interlocking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nish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s applied to make a certain look, feel, 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es for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lo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to wrinkles, stains, moths, shr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6:30:40Z</dcterms:created>
  <dc:creator>Mike Farver</dc:creator>
  <dc:description>Presentation Layout Template</dc:description>
  <dc:language>en-US</dc:language>
  <cp:lastModifiedBy>Mike Farver</cp:lastModifiedBy>
  <dcterms:modified xsi:type="dcterms:W3CDTF">2014-04-03T02:06:13Z</dcterms:modified>
  <cp:revision>3</cp:revision>
  <dc:subject/>
  <dc:title>White Blue and Lightnings</dc:title>
</cp:coreProperties>
</file>