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39E-E06A-4B3E-9E18-2DCC04CC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083-8FE0-49CA-8EC2-CED6BABB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427-1311-4FC1-A5D3-9A9AAC71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69F-0E28-4302-B355-8B983B59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5DBB-D5DE-4EE1-AE28-313C1F62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8A81-A1D2-4947-97D8-89121BF5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C7D1-674B-43FA-9E95-2D6BC6C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B82C-4828-4031-BF1A-672487B1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2D9D-6DF8-49D9-A3E9-B803321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7CFE-6B02-4BB9-9B8E-A2F12F6C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91DE-FDC7-4F41-9433-D07EAE4E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C5F-D35B-462E-9FED-E1F8C439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2CDC-8D91-4B66-8804-6E417E7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CF8C-50F0-40D7-89F1-BBE9430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DBFC-FD6B-4005-B5F6-8902AC12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4C50-6640-40EE-84A3-F0E9622D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4F0D-033C-4C87-B386-E2144D4A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498C-2610-4CEF-85A3-BED2C508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31E42-640A-4EB0-9FFB-C1008CD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6703-89B3-4022-886B-F5E2C58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15EEF-CCC8-467B-BD8B-370A2B3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6486-819E-4F75-AE16-C62FFB64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2ED-3A4B-4D4E-A8B4-B5F3A84C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21E8-EA26-4677-A319-734C6658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26B5-1772-4EB7-8B0D-936B81BB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8137-D7FF-4727-9DD3-A74947A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8BA9-6098-400B-B9C5-36CE599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1028-019C-4DE4-84DF-CD5D91C7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2A8B0-C9F9-4F0D-8312-0D4C30B1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7EFB-8BA4-4713-A4E2-B28BD147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DF96-9FC3-48E1-B2A9-AE0F7F8C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9E0F5-47A8-4410-845A-3E7FC210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7177-5E65-4322-8F13-25A577A9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899-3154-423D-B6CD-CEBEA58C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7C2A-6A2C-493D-BA67-CFC565F0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7E53A-0908-4BB8-A9DB-9BBC6CB4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68AB-85A1-460B-B571-2244AF46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0DCF-689F-4B4C-9A84-B6B6D9E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2070-E745-4E62-8079-775D5E8B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8D0FE-A239-42EA-965D-98BEF447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C3D7-DA43-407F-8764-B597CA5D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C9E0E-762C-429A-A186-E961D7E2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0FC9-4E33-4CF8-9094-ED5D8D2C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1026B-4DAC-48E1-A918-DB2191C9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F20-3AB9-4948-8DAB-A4937998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7777-5336-49E4-9036-FB3EF93A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E20E-DD09-48D0-85F1-ECF79E9A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5F95-892F-4A18-A38A-69CFC89D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16D97-6197-466A-97D3-18A1FBB6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DC34-56FB-4C2B-9CA0-CFC69AFE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1A0C-71D3-4557-BB0B-20F4612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AD2E-E043-4135-8337-976EA3B6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26E1D-80FB-4B55-ABA3-34C7EF7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18B4-96A3-4F13-AC11-18C1C26B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FC9A-08F8-4666-96CB-64B0EE52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FD9-9E91-499E-A808-9D68C996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8092-463D-4EEF-8A2B-EAD9C881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C94E8-1C54-4226-A0F2-F3E1FF3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F9DD6-9C7A-4126-962B-5F47CA16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FEF6-5CF4-461D-BE16-E828D1A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F481B-680E-4DE6-B2AC-890DB29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269FE-BA2F-480E-92A0-15C5DA6B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EF88A-86D5-4BC3-A1AE-68085037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6ADDF-B25D-4ECD-A1BB-0AC25E8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7855A-187C-4540-8846-AB53B182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4845-0AA3-474D-B790-103D7675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2EA-FE63-4D64-80AF-C84854E9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600F2-E149-41CA-8997-9632163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21E2-2739-4765-9EF8-2FCC4188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46C13-90D7-4E31-B39F-0E562FD5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AE6A-735C-46C0-9F58-79E2D4C0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20C8-5C9D-4084-8EEE-B3512D3D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7CBF5-71AD-4163-8CD6-EB5F038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4A82-53D4-4CF5-8DEC-00AB627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EE26C-B42F-472B-90BD-EB8B39FA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4C779-DA47-4952-8302-E919BFDB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8CBCE-1642-4E08-AEE3-C2146D8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0988-8310-46AF-B367-E4C9416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B2744-F0BA-489E-B48B-7E59F14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86602-8499-4E3E-9215-C4E06A4E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A7718-B8B2-4708-BC6D-3A78A386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D0CC-5202-4189-858C-4FB48465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7E17-864A-4223-B831-EA0B72E3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9B4-AB8C-49EE-A94F-D9C4C8D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6C97-8F0C-47F5-8409-2A7B4B54ED5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5941-EBA1-44E0-9547-790032189C9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180D-0BAA-44CF-B156-5E51075413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CD0B-493F-47B0-BD60-97627A42895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142-4A18-464A-82D8-072B0FF99F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294-74F1-4B54-859F-526540324B9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AF2-A377-4207-88B3-F853FD51CB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laxxdrycleaning.com/content.aspx?id=29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outine Ca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ding cloth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ty the pocke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for sta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reat soon, because older stains are tougher to remo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me clothes don’t need to be washed after each wea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aundry Time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e care specified on the item’s lab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rt by care instructions and then by light and dark col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reat sta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ybe need to be presoaked or pretrea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ad and set the mach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detergent and any bleach or fabric softe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and Wash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d for delicate fabr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lk, wool, la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mild deterg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queeze the soapy water through the i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inse in cool water until the water is cle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oll the items in a towel to remove most of the wa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y out flat to air d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ying Method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umble dry – use the drying machine at the specified heat set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ng to dry – hang them on a line to drip d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ry flat – lay on a waterproof surface to dry 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ro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moves  wrinkles from fabr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fibers need higher temperat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nufactured fibers need lower temperat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stilled water is recommen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3" descr="C:\Program Files\Microsoft Office\Office 2007\MEDIA\CAGCAT10\j0234266.wmf"/>
          <p:cNvPicPr/>
          <p:nvPr/>
        </p:nvPicPr>
        <p:blipFill>
          <a:blip r:embed="rId1"/>
          <a:stretch/>
        </p:blipFill>
        <p:spPr>
          <a:xfrm>
            <a:off x="6400800" y="4343400"/>
            <a:ext cx="23194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y Clea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special liquids instead of water to wash cloth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n be done at home with special produ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 longer must you deliver the items for clea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Relaxx Dry Clea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oring Cloth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nitted items should be fol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ven items can be hu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n’t overstuff closets and draw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prezijedi.com/wp-content/uploads/2013/10/Closet-before-and-after.jpg"/>
          <p:cNvPicPr/>
          <p:nvPr/>
        </p:nvPicPr>
        <p:blipFill>
          <a:blip r:embed="rId1"/>
          <a:stretch/>
        </p:blipFill>
        <p:spPr>
          <a:xfrm>
            <a:off x="1371600" y="1066680"/>
            <a:ext cx="65833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08:07:51Z</dcterms:created>
  <dc:creator>Mike Farver</dc:creator>
  <dc:description/>
  <dc:language>en-US</dc:language>
  <cp:lastModifiedBy>Mike Farver</cp:lastModifiedBy>
  <dcterms:modified xsi:type="dcterms:W3CDTF">2014-04-05T11:11:10Z</dcterms:modified>
  <cp:revision>19</cp:revision>
  <dc:subject/>
  <dc:title>Caring for Clothing</dc:title>
</cp:coreProperties>
</file>