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FFC5-2CA1-4B2C-AE00-D0838F89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325B-6D15-47B1-AF6A-79D78AE7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B8E2-356C-46D0-BE48-21107B2E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4756-E4CF-4FEF-AA86-7589C762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5010-9E83-4839-9146-9563634E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DEA0-E6D7-4959-BEA4-9DC8755E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62EE-1103-4825-86A4-CADC834D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39C0-D4ED-45D3-BCA2-E28EF062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6977-367C-4A2A-B630-FBF2BAB6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4A7A-C1DF-4358-808A-B5334ADD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DA56-7AA1-4DCC-A844-EE69AD54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BB59-FF98-4587-9B27-0D5FF362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2780-03D7-4EA5-8F88-EC12B6ED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D99D-824B-4D78-AA4D-67AAD2A0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CB52-043E-4FA3-8019-45ADD184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6B98-A1B0-4C71-B382-E215BA5C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FC95-A582-4298-BF8B-4D5993D0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538F4-AC85-4AAA-BB12-27A249BF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0F8B2-2D8D-4CD1-87FC-6840CCBC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E536F-A03F-4B59-BA34-B3C783E2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3CA25-D4A1-4CF6-9666-7625FF2B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DD02D-F51C-4364-8C0F-744E6579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FD13-7590-4270-B74E-92B736F3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DF080-5480-4FCF-9968-649FF77C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F1114-9823-47DB-9468-F8AC22C9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8A9CE-0849-4C1E-8402-84C85717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9CFC7-F3C3-4E4F-AC52-43BF8C99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6E02A-516E-4142-98E2-79D21B4D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C2DB0-E557-4E6D-85A3-A5CC5BE2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11ED6-C406-4125-ABA0-481F78D1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4AF2A-5CE8-4F86-9BF1-D37C26B4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9F79C-29E3-43FA-A4CA-BF15E115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29E5D-E7C4-46A8-AE53-23A02BBD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7DFB-DD09-4582-A923-7663F2C4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66C12-E544-4A49-8608-3529D8DB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1BC8E-85C4-45FF-AB4E-8E419D40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84438-CD6C-4443-ACC9-EC209C6C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B1A21-42B9-431B-9DA6-C4DC720E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676D4-CAEA-41D9-BD16-A5F34957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40E45-0C27-440D-94F7-97DC96C3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E17A1-24C4-47F8-8FFB-3D77210E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168FA-5C6F-4F80-9635-E80361D8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DC5EE-096A-4EB3-8C27-14EE5522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57342-3046-44EA-A73B-C0CFE494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2E36-4E46-41CF-9D3B-5E991853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792BD-7A80-4EEC-A809-3075CFC2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042E7-03C2-40EC-8392-00F4D914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D765B-24CB-43CD-A1B3-FA9ECC02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220E6-FDF9-40BD-BAE3-9164D203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2577D-600B-4017-ADED-68DF41AE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25D81-8EB2-448B-8974-F740CE43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EFD8F-B3F4-404A-B1FE-4886C952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31863-18E5-4E9C-9AD6-F478ADB3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6C637-5230-415E-BE2A-CF070C58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A049E-D655-4243-BA14-2D9F9729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6956-D0C0-4D1C-9C1B-D77EE327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6E579-2C75-4C16-A672-EC03C830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9D743-20A6-4409-9153-2C5589F2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6500C-CDE4-44B9-A61E-556BA37D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4F12B-6895-4DDE-8444-3AFABBE4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8EE01-25A5-48CF-93C7-435E2153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EC800-DEA5-4A73-A961-E3D78F24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E3F90-13EE-40F3-AA9E-8A4E28F0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F7EB7-DE53-466B-B4AA-34DFF113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48F51-FAC9-4E1C-947F-61DD2669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4F674-300A-4DC1-9268-08F5AFD7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594C-6BE1-4300-AE86-224872CC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D661B-A564-4017-AEC0-B7A019D4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9FE13-50A8-40B4-8B62-85CEBE7A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6FD03-99AD-4177-B23B-9F4D33BD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CD4C5-8595-4CAE-922E-E1074335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51625-77A3-470F-A65D-F39B7F77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76D46-14E2-4D87-B83F-C3DBD72C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CE176-D026-4E82-A754-F09F015A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CD994-B720-4D2F-8490-C88699A3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694DB-D18A-432C-97FA-60A1F5AE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67386-4F9D-4B49-8A06-4DD28718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0FE0-D416-4E72-ADB0-A36DA523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A8B40-7AAD-4E38-81AD-A81DFA8D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CA3ED-238D-4E2B-8FCC-CA7C5659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4E38A-4C6D-495D-B9DC-DC0CDF26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A6304-CC11-4B52-B72D-F3D483E5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D87BB-01B5-43E2-897D-8FF3B839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8906-A825-480C-8704-EBF95342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5BFC-601E-43F1-8B90-816A36E3F65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2709-8B1A-49E6-9A1F-E0C420D1B13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D158-6623-441E-90C1-15F04D70E18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778A-EC4F-4252-9BB6-EB8C086C3E7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1ACB-7569-4F98-85B5-42B5230AB8D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E86E-B7E5-49F0-BDFB-DE9DA1C9F7B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E542-CA8B-4F18-A2E9-CB74EAAE730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relaxxdrycleaning.com/content.aspx?id=29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hapter 18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tion 3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Routine Car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ending cloth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mpty the pocke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heck for stai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reat soon, because older stains are tougher to remov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ome clothes don’t need to be washed after each wear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aundry Time!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the care specified on the item’s lab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ort by care instructions and then by light and dark colo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reat stai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2240" indent="-28296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aybe need to be presoaked or pretreate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ad and set the machin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d detergent and any bleach or fabric soften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and Wash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d for delicate fabric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09920" indent="-27432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lk, wool, lac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a mild deterg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queeze the soapy water through the ite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inse in cool water until the water is clea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oll the items in a towel to remove most of the wa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y out flat to air dr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rying Method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umble dry – use the drying machine at the specified heat sett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ang to dry – hang them on a line to drip dr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ry flat – lay on a waterproof surface to dry ou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ron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moves  wrinkles from fabric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atural fibers need higher temperat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anufactured fibers need lower temperat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istilled water is recommend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0" name="Picture 3" descr="C:\Program Files\Microsoft Office\Office 2007\MEDIA\CAGCAT10\j0234266.wmf"/>
          <p:cNvPicPr/>
          <p:nvPr/>
        </p:nvPicPr>
        <p:blipFill>
          <a:blip r:embed="rId1"/>
          <a:stretch/>
        </p:blipFill>
        <p:spPr>
          <a:xfrm>
            <a:off x="6400800" y="4343400"/>
            <a:ext cx="231948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ry Clean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s special liquids instead of water to wash cloth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an be done at home with special produc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o longer must you deliver the items for clean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Relaxx Dry Clean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toring Cloth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Knitted items should be fold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oven items can be hu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on’t overstuff closets and drawe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http://prezijedi.com/wp-content/uploads/2013/10/Closet-before-and-after.jpg"/>
          <p:cNvPicPr/>
          <p:nvPr/>
        </p:nvPicPr>
        <p:blipFill>
          <a:blip r:embed="rId1"/>
          <a:stretch/>
        </p:blipFill>
        <p:spPr>
          <a:xfrm>
            <a:off x="1371600" y="1066680"/>
            <a:ext cx="658332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5T08:07:51Z</dcterms:created>
  <dc:creator>Mike Farver</dc:creator>
  <dc:description/>
  <dc:language>en-US</dc:language>
  <cp:lastModifiedBy>Mike Farver</cp:lastModifiedBy>
  <dcterms:modified xsi:type="dcterms:W3CDTF">2014-04-05T11:11:10Z</dcterms:modified>
  <cp:revision>19</cp:revision>
  <dc:subject/>
  <dc:title>Caring for Clothing</dc:title>
</cp:coreProperties>
</file>