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07D1-6F39-4835-90CC-631F129A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19BC-EF59-43CA-B571-DF2CD7EE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39A5-7EDF-4F7F-B1E4-5CCBE99F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B6DE-C90D-4DEC-ACAF-5C4B95E3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1E7C-3376-42C9-B15E-6679B2AE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C8BE-CE3C-4647-ADCA-9586F459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40A1-34CF-4EDA-B59D-7B65B049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AAB7-9646-455E-89CB-69A07781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B166-507A-40B1-914B-32E0DCBE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FB30-D709-49EF-BD4B-D066A102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C4C0-4BFB-4EE7-B2FF-D0B48BB4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9BF3-9783-4A1F-B844-48ACCD0D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B59F-0368-4C75-8003-6AEB67C6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7EF3-AA21-4EB4-89A3-B4245C26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6283-2EA4-4C3A-AB43-3E605C77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B72F-53D2-412B-91AB-930BC1B9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949A-E682-440A-9F3D-A4ED5F2E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48C1FE-1A7A-4252-8E67-8CD74512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C6B50-1406-4770-B680-F548A55C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20770-A2D0-42BB-BBAC-82A7C3F9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629544-ABEA-428C-AB0F-9E0133DA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9E3F7-E13C-4A89-8E62-D4DD4CDB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D96C-6DB4-4456-B5ED-DE907B0E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FDC30-AC6B-4AB9-9DD7-FE3CF4A1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3091D-23F7-4ED3-BFBE-CACACB24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41BFF-CAF4-4303-BAE4-2E7480F2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25017-51D4-4AB5-AB0D-A469BFCC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28A6E5-B842-4AA0-BBEC-9E1444B6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CCA17-695D-491B-91C0-EC07B7FB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8290A-EA7F-4D29-B211-C5F49E91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5B5D3-ED99-4573-81F6-A742BAA1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63981-05D3-4A31-8DD2-7CA85F14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03F2F-1747-4DB0-8F12-464DCED4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9035-37E6-4B6D-8B9B-AB04012D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1D9A7-0B3F-402B-99D7-A984A069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8B761-9068-4A52-8AE9-3502110B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B4608-B909-44E4-B7A9-752B4D43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C1225-A5C7-470E-8AAB-20AD86A5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F0FF0-17C9-481A-8F65-EAEA43BE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FD00B-7C5C-4E3B-B53C-048DF4CE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FBC06-CA69-482C-A469-B57268B5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BF788-A40F-4734-B856-B184586D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C2036-D475-408C-AD69-D4409A9B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F48EF5-1714-4A62-A8E3-00D57677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09DE-BB85-4C43-9FC1-DC1711C4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00E2BE-ED75-44C2-A87C-442A8EED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A6C5C0-0200-4317-888F-FF1CE821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E682E6-07D8-496F-A39C-3990376E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ED4F51-2968-4576-AE59-E0BBB35B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2D5BEB-2336-4FDA-81C9-2FE06B8E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1EEE7E-09FC-43D2-924C-48519C58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2E73B6-F91F-411D-972B-4978E4B2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D2A88F-36D9-4EB1-8B0A-BBA19053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20ECF7-A609-4F27-98CD-226C3269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156D2A-F76B-418C-925E-45C6C516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D80E-4420-4B8A-9560-84826D78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E88713-C63E-468F-9319-9DB2009D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951B82-A724-453A-9384-913A651B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713F1D-4B1B-46F9-A7A3-E99F3BA1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CA5380-3A43-4FB6-AEEB-A649A239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9966F2-DDC1-472C-8EB4-FDDD37CA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FFDD2A-4F0F-4227-BA0C-B15309C2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287660-D5BD-4BBD-A231-9C82BC46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160708-137B-43F0-8C5B-D613C27A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95408D-2A85-46B1-80A5-BBAAD754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824432-3B76-4950-B680-259C68AF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6212-4BB3-49D4-BA2C-09A7B060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88BEF4-B557-4C9A-A7FF-E63FC680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D3215-1B39-43AD-95FA-F21B9AAE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07569B-B86B-4DE8-B38E-3DC9C0EA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E6A92A-BCAD-4A8A-8C3B-8EB835FA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3E6E47-F158-4860-A002-CBE6A115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DD571D-BB96-4F2A-B710-68250694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3C6DA0-D330-4800-9E62-140CCCA9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3E24F1-2E42-435E-8CCF-56FE5035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C69685-97E0-4FB9-80F5-101E55E7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871619-3665-4399-A4F7-F6A815F1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D88A-0620-4DA4-870B-4E1B1C8A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5133A4-FAF7-49EE-ACF2-C75DE3E9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83F9ED-4D62-41C2-97DB-BC240DD8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7F75A6-FF93-46D1-89B0-C8A640FF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60BF7A-0A35-4A81-A8C8-02BF9236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D69956-595C-4B48-86F2-BAD0CAC1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D28-AF3B-4E0C-8912-4E6A22E8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E542-6BF9-4BA5-BE7C-8F90D4E1290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7FA2-CDA8-44A1-ABA5-4A0F19E7DE8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F1EC-7EB1-4FC5-9E5B-F3CB4E67A02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F895-B142-4EE5-9319-081A5AB5319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7284-F3C8-4AB1-A107-626B94FE2D8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DA9C-74AA-4983-BAF7-AA36E2F66C9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0B64-136D-4268-B86C-2503F3715FB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GROOMING PRODUC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hapter 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Section 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THER SAFETY TIP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ash your hands before using produc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n’t share produc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void test samples at st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n’t use eye makeup if you have an eye inf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eep products tightly closed and out of sunligh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row away products that changes color, smells bad, or past its expiration d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n’t apply makeup or shave while driv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http://images.ddccdn.com/otc/116411/force-power-up-01.jpg"/>
          <p:cNvPicPr/>
          <p:nvPr/>
        </p:nvPicPr>
        <p:blipFill>
          <a:blip r:embed="rId1"/>
          <a:stretch/>
        </p:blipFill>
        <p:spPr>
          <a:xfrm>
            <a:off x="914400" y="38088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http://greenbeautyjunkie.files.wordpress.com/2011/02/ingredients.jpg"/>
          <p:cNvPicPr/>
          <p:nvPr/>
        </p:nvPicPr>
        <p:blipFill>
          <a:blip r:embed="rId1"/>
          <a:stretch/>
        </p:blipFill>
        <p:spPr>
          <a:xfrm>
            <a:off x="1371600" y="914400"/>
            <a:ext cx="61722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GULATION OF GROOMING PRODUC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assified as either drugs or cosmetics by the F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s drugs – claim to affect the structure or function of the bod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xamples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s cosmetics – do not claim to affect the structure or function of the bod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xamples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DA can stop the sale of harmful produc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ABELS ARE IMPORTAN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st have an ingredient list, in descending order of quantity, just like foo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nly specific fragrances, flavors, and trade secrets are exempt from the lis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rugs must divide the ingredients into “Active” and “Inactive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ABEL TER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atural – this can mean whatever the manufacturer wants it to mean; there is no regulation on its u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ypoallergenic – means less likely to cause an allergic reaction; no evidence is required for its u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rmatologist-tested – no information is required for this clai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ragrance-free – could actually have a small amount of fragrance to cover up other od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ORE LABEL TER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ncomedogenic – suggests it will not clog pores and cause acne; no proof is required for u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itamin-enriched – no evidence that vitamins help grooming products’ effec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AKING INFORMED DECISI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k for recommendations or try sa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veryone is different; not everything works for every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ily vs dry ski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urly vs straight hai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ad the labe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gher price does not mean better qual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ODUCT SAFET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y a new product on a small area to test for allerg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y product can cause an allergic reaction: redness and irritation are the first sig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n’t use flammable products near fire or he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7T12:32:28Z</dcterms:created>
  <dc:creator>End User</dc:creator>
  <dc:description/>
  <dc:language>en-US</dc:language>
  <cp:lastModifiedBy>End User</cp:lastModifiedBy>
  <dcterms:modified xsi:type="dcterms:W3CDTF">2014-04-07T17:08:15Z</dcterms:modified>
  <cp:revision>5</cp:revision>
  <dc:subject/>
  <dc:title>Grooming Products</dc:title>
</cp:coreProperties>
</file>