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04C-6A79-420E-BB27-6438FD56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4FC-77F1-48FB-A2D4-CAA0F8FC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EEF-55C1-4946-A9A4-752567B2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F8D-C1B7-442C-B0CE-21A32746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1CFC-D5E3-4399-BCAB-48B1B647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1021-849F-404C-8FB3-2E3D447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C56F-6CCE-4400-BEDE-F740262C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E238-9221-4669-9700-2BAF89BE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AB58-EB86-4C27-B80B-FA9B3D3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8FDF-E6F1-4797-AEA1-15C8D5E8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BF0D-F44B-4276-A854-6FA23D4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929-CAE4-4034-955F-73062477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81C8-A798-4051-82C5-DBC45E5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EF87-9976-4422-8492-4CA04D33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13DE-5703-4710-985E-BEA8F14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82BB-1740-4252-9553-CCEAA1C9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03AD-E0E6-4EE4-A02C-30164BE1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6F67E-7E1D-4FD6-8679-CD458C48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ECCA6-B1A5-4193-9E56-8ACBA1D8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0718B-78E1-4797-8877-57D2EAB0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291B6-AA3D-43AD-8457-05AF20BA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978C6-821A-4A80-A4DE-DB0B8119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89A-089C-4BEE-A8C5-D21F16B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67B5E-4FA6-4E12-A58B-6907975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282DB-6433-42C6-B288-0CE3EC72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C3864-9344-47A3-8AE6-30427BA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05F12-CBA1-4F80-AB7D-6EBE3DA1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701D6-8A1B-44C1-BC63-1053C9D7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2CDAD-CA82-4845-8CB4-B7E9710D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38B8C-B13E-4F63-A259-E4A3BF29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35A5-7838-469B-8544-523B2C75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B199-3EE3-456E-9A78-F8CD4637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EC09-E3BA-45F1-90E7-CCE17B0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ABE-42CD-4BEC-822E-35B8D846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1E80-5018-4487-B694-489E07D6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68BB-AD7F-4579-8F02-F4B67A8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0539-5E26-41CD-B182-094C88EF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9B0E-264B-4BE5-B7BB-B165892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4DDC8-23D1-446B-8DC9-57F91FFB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CA15-476C-412F-980B-98DFF57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3430A-0578-419A-910B-86C0ABE2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886D-5D2C-4D7D-8D36-5440AFD4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60DB-8F57-4168-8703-7EDAFADA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C2850E-0A4F-4ACD-BC4C-A31A6951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A76-7AB2-41E0-BE44-AE417F75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23CDB-BC97-4896-A386-F94D8C56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64078-98B2-4C43-8FB3-BDF91B3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4FC1C-5934-4C59-8094-BF4872F8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FB049-38CA-473D-A94A-50115F33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BD649-D3D8-4124-8D23-95EF3031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86E45-B0F0-4CCF-A9D6-0BC89B8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F0BB8-5320-4AEE-8681-047AC35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40F86-E310-4BD4-80C1-E20C5037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4369AB-BED3-45A4-87A7-F8B4EAA7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587904-6C8F-4E56-8EB0-E8812EBC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F6D-3F78-4450-8482-0BFFEC9D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5C7F8-670B-4429-AF5B-87CFE35E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CEB05-D0E2-4279-AAE4-E9849CB3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57443-564A-4960-A67C-1066E581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C7CD1-7880-4E7C-B1A4-0E5EA96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2D0EE9-C3B3-43DA-8E10-D2A4CEEF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EEA3A-88E3-433F-A6D0-20AD8778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E63F7-B882-4C63-B2AA-D29BFF2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BEC4B8-46E2-42EB-BD63-49B648D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9B0C9-AA04-4EED-9B25-61A717D5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6D950-65D8-47E7-AB03-19CE9AC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62C-797E-48A6-8EAD-0605A217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16100B-AC3C-43F2-A4B7-DF2CDD7B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DD853-0A92-499A-9BE8-E6711A0B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D726B-DBC1-4950-B704-18D5F362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956FA-0A0F-4052-902E-E0297B66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1B290B-576B-493F-8010-4B6582FB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417CF-D05E-4237-A600-B6A73F63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EDC81-1540-4390-BBD2-5DB22467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8926B-7414-40CD-BBAB-F319E056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24091-E671-43D6-9F0E-5FF9FCA6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D7C18-0FBC-487D-AC65-44F96C5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C46-C2E1-4AE2-BA6C-88E0D82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34DBF-4C18-44CC-9DC4-97965C61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0ECF7-AD05-4C8F-99E2-EB8F0F1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3787B-58CC-4D70-984C-0CB0CFAB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60C94-523A-45F8-94A7-F1223D73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BE1DA-283C-4096-BBCF-EE8CF81C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C7F-1A91-4DEC-AC1D-C70DDB2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9D93-3DDD-404E-A5DF-4294EFEBB43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BBB6-77EB-484E-B94B-A33370A5538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CA4-7E95-488A-876F-A9F7499A08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D4B0-357D-420A-9097-E7AB3663AEC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AE2E-A5BE-4446-A3D8-2B0AB2E092E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F2C3-2093-4CA8-82E6-66940683549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BC29-1E5F-4067-97D5-CB9350FBF4B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OOMING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apter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ection 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THER SAFETY TI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sh your hands before using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share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oid test samples at s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use eye makeup if you have an eye inf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ep products tightly closed and out of sunl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w away products that changes color, smells bad, or past its expiration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apply makeup or shave while dri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s.ddccdn.com/otc/116411/force-power-up-01.jpg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greenbeautyjunkie.files.wordpress.com/2011/02/ingredients.jpg"/>
          <p:cNvPicPr/>
          <p:nvPr/>
        </p:nvPicPr>
        <p:blipFill>
          <a:blip r:embed="rId1"/>
          <a:stretch/>
        </p:blipFill>
        <p:spPr>
          <a:xfrm>
            <a:off x="1371600" y="914400"/>
            <a:ext cx="6172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GULATION OF GROOMING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ified as either drugs or cosmetics by the F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drugs – claim to affect the structure or function of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amples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cosmetics – do not claim to affect the structure or function of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amples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DA can stop the sale of harmful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ELS ARE IMPORTA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st have an ingredient list, in descending order of quantity, just like f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specific fragrances, flavors, and trade secrets are exempt from the lis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ugs must divide the ingredients into “Active” and “Inactiv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EL TE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ural – this can mean whatever the manufacturer wants it to mean; there is no regulation on its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oallergenic – means less likely to cause an allergic reaction; no evidence is required for its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rmatologist-tested – no information is required for this clai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agrance-free – could actually have a small amount of fragrance to cover up other od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E LABEL TE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comedogenic – suggests it will not clog pores and cause acne; no proof is required for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tamin-enriched – no evidence that vitamins help grooming products’ effe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INFORMED DECI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k for recommendations or try sa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ryone is different; not everything works for every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ily vs dry sk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urly vs straight hai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the labe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er price does not mean better qua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DUCT SAFE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y a new product on a small area to test for aller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y product can cause an allergic reaction: redness and irritation are the first 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use flammable products near fire or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2:32:28Z</dcterms:created>
  <dc:creator>End User</dc:creator>
  <dc:description/>
  <dc:language>en-US</dc:language>
  <cp:lastModifiedBy>End User</cp:lastModifiedBy>
  <dcterms:modified xsi:type="dcterms:W3CDTF">2014-04-07T17:08:15Z</dcterms:modified>
  <cp:revision>5</cp:revision>
  <dc:subject/>
  <dc:title>Grooming Products</dc:title>
</cp:coreProperties>
</file>