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png" ContentType="image/png"/>
  <Override PartName="/ppt/media/image14.png" ContentType="image/png"/>
  <Override PartName="/ppt/media/image9.png" ContentType="image/png"/>
  <Override PartName="/ppt/media/image1.jpeg" ContentType="image/jpe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5.png" ContentType="image/png"/>
  <Override PartName="/ppt/media/image8.jpeg" ContentType="image/jpe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B98463-8168-4263-9C6E-138201EFF2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17091-F2B2-4FE4-B9C5-59FFBE85A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F6EF99-998F-4C53-8892-7D5D055C8A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85DD16-EE29-4B7D-833E-ADCDFE75DF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CA604E-91B2-4028-BE70-CF71757347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A21669-AA96-4AAD-B121-3D7D35ACA0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03066A-9860-45AA-8B48-FBAAFB47E1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E8DBF4-CE9A-4E18-80F1-2D5F0895C8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F8E2B1-4B63-443F-B787-78765E4538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CDAD80-6EEB-4552-9C19-AAC8F1C58E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C60D14-0D95-435F-A21F-A6C10796A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4122C-1C35-4BCF-B464-CD7DBE3DF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F051A8-36F2-4442-A679-9AEDFB0A92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6B9C2-03D5-43EF-AFAD-F76AD11982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3D9375-DD5A-43E7-BF69-179DE4EF2E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B7EE31-4519-445C-A4B8-16AA0AD576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F25A14-B1F5-4A72-94AD-25FE9468EF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CB2DF2-02FB-4824-BFCB-3A78222876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6A54E5-6FA9-43D4-AE6E-57D6470A2C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CA230B-2B49-402B-AC39-D793C348F8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3CB3B9-34D4-44BC-B38C-B384F3093D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ABC15B-6DE4-4D8A-82CE-77F47C8775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C37BC-2049-4024-A60D-3FB2B39A5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16A384-DA5B-4413-A666-4C0842C6FE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4778E8-78B2-4150-8E12-68A8FA5795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6F1200-B29D-4D75-9402-E909DB69AE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0FB2E3-AE2E-4887-94E2-C88966630B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6F51F2-A834-468B-A5A5-126632194F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666BEC-05E4-406B-A5E4-E04072DE6F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D15438-7B72-46AE-A31B-0D1101EB65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32C0CC-BB0A-4AFE-B15F-F506F8B771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A8CA07-51F2-4BDA-9A6C-55E5885B9F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57EE2F-28E6-47C2-B587-04D0B7CA44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12504-0399-4A2F-877A-B82E9AB41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0BBF8F-8086-4D83-A6E7-2821BBD533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E3266D-90CF-4C0B-9A91-D6C5572D74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F80C03-C7CF-4FA6-B57A-0D924A66E9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7B25AA-0E7D-4831-B997-CA5A07AFAD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A21192-25DD-4067-B425-32C5717F54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3E02CA-587A-46F2-9DD8-6D248FFE2C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72BAD6-E5F3-4E3A-876F-63911CEF4D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ECB843-AA4D-45F0-8B1A-76D1118960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7BB938-4115-4A9B-97DD-601E51D72D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C63911-DF88-4AC5-A8D0-DFA066EAAC3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19422-5CCB-4054-B1FC-DFC861BA9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F16EDB-8477-4B4E-B86A-E337010F7C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6129E1-8316-4758-A7A6-08C5BF0F73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3F46EE-2BC0-432E-B063-8A099EA945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3F6887-20F6-410B-A190-9B9456E31C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F33E38-DCF5-4B3C-BD86-2C03824FA0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43A9FF-6D5D-4506-B738-09D81912E0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D817E2-88D8-4C8F-BC49-27F67AC3C4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2B9720-8491-417C-87B2-BAC6DCD749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3AF2E4-D817-4A72-93A6-FE5317AED0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C37F37-D443-410C-AD0B-8F21E1E8C5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D7932-37EF-4FF4-8907-7741E95AC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F7B272-5C17-42B5-A6F2-845B3CBA4C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3F9F388-2B31-4B91-83A1-6B9CAFA9857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907BD5-4F8E-4280-957D-1CA775E10F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4154D1-FABD-4217-9D68-05FA0D80DE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13F881-E9D8-42F9-8B6E-F1D7B28A92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F1C747-E38D-4ECE-AABF-2E736FA36B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1B6F72-A9F8-43F6-914E-FF611F74AF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5DA36A-2DE2-4E18-80A0-75D22CA843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BFD862-B189-4019-AB91-1AA0C5B497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F63C79-99F7-47F4-B739-AB55E0511A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141D3-5C0E-47DA-8AE9-58F12A7DC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E1A9C3-7684-4FB6-97EF-150D1E273D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BDE6AC-F8B9-4C1C-9C74-E9D31BC2D2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FB0378C-DAED-4C6F-A107-488C600F73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496772-9CC0-494A-8CB8-DB4FA27D5FE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35477B-4803-48C4-8448-202AD15A50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9F182D-82A5-4AD9-B10F-9444E38259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0634DF-A819-4C9F-BF39-E6A682DD29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D86C17-EFC9-4FBB-8502-326EB39F64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205213-3F38-450D-A7A7-5EE011C7F2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257290-1D76-4FC4-94E5-332B0AFDCC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03214-EE88-4420-8F79-43539012C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B1AFD3-F3D4-41D2-9D53-876865F9C5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C706A5-95D1-4F50-A187-5648BAF85D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AB155B-F8B9-4C05-B539-4A3F32D04C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4A9B666-49D5-4FF4-8F86-31D9701493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F3830DD-47B9-4EDE-9DA0-6FEBBC140E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186DC-E08D-41A0-88FE-77AD4E7FF7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19797-0AF1-4D65-BDD9-3817989449D8}"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F6F2D-7C76-4E76-82D9-5F557438ECB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9803E-41BC-42DC-A98E-6BAD4E092AF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7ED3A-35BE-4C63-BE64-A574331354E4}"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29CAD-D41B-4737-9598-82D909CF9CB6}"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995E9-3996-4045-B7F1-E57D2A881BA0}"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BB9D1-00C3-43C7-8733-605AE521B130}"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396720" y="3157560"/>
            <a:ext cx="8375760" cy="1878120"/>
          </a:xfrm>
          <a:prstGeom prst="rect">
            <a:avLst/>
          </a:prstGeom>
          <a:ln w="0">
            <a:noFill/>
          </a:ln>
        </p:spPr>
      </p:pic>
      <p:sp>
        <p:nvSpPr>
          <p:cNvPr id="304"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Chapter 19</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Section 1</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Title 1" descr=""/>
          <p:cNvPicPr/>
          <p:nvPr/>
        </p:nvPicPr>
        <p:blipFill>
          <a:blip r:embed="rId1"/>
          <a:stretch/>
        </p:blipFill>
        <p:spPr>
          <a:xfrm>
            <a:off x="189000" y="152280"/>
            <a:ext cx="8504280" cy="1262160"/>
          </a:xfrm>
          <a:prstGeom prst="rect">
            <a:avLst/>
          </a:prstGeom>
          <a:ln w="0">
            <a:noFill/>
          </a:ln>
        </p:spPr>
      </p:pic>
      <p:sp>
        <p:nvSpPr>
          <p:cNvPr id="325"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ere do you go often &amp; how far away is it?</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How much does each method cost?</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ere can you get onto mass transit?</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ere can you park?</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afety between driving and bus stop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219240" y="152280"/>
            <a:ext cx="8474040" cy="1262160"/>
          </a:xfrm>
          <a:prstGeom prst="rect">
            <a:avLst/>
          </a:prstGeom>
          <a:ln w="0">
            <a:noFill/>
          </a:ln>
        </p:spPr>
      </p:pic>
      <p:sp>
        <p:nvSpPr>
          <p:cNvPr id="306"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ypes</a:t>
            </a:r>
            <a:endParaRPr b="0" lang="en-US" sz="32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ubway</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Buses</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rolleys</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rains</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Ferries</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Planes</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abs</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pic>
        <p:nvPicPr>
          <p:cNvPr id="307" name="Picture 2" descr="File:NYC Subway R160A 9237 on the E.jpg"/>
          <p:cNvPicPr/>
          <p:nvPr/>
        </p:nvPicPr>
        <p:blipFill>
          <a:blip r:embed="rId2"/>
          <a:stretch/>
        </p:blipFill>
        <p:spPr>
          <a:xfrm>
            <a:off x="3657600" y="2514600"/>
            <a:ext cx="4978440" cy="373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Title 1" descr=""/>
          <p:cNvPicPr/>
          <p:nvPr/>
        </p:nvPicPr>
        <p:blipFill>
          <a:blip r:embed="rId1"/>
          <a:stretch/>
        </p:blipFill>
        <p:spPr>
          <a:xfrm>
            <a:off x="189000" y="152280"/>
            <a:ext cx="8504280" cy="1262160"/>
          </a:xfrm>
          <a:prstGeom prst="rect">
            <a:avLst/>
          </a:prstGeom>
          <a:ln w="0">
            <a:noFill/>
          </a:ln>
        </p:spPr>
      </p:pic>
      <p:sp>
        <p:nvSpPr>
          <p:cNvPr id="309"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at are our choices?  Discuss them with your neighbor and then we’ll share them with the class.</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189000" y="152280"/>
            <a:ext cx="8504280" cy="1262160"/>
          </a:xfrm>
          <a:prstGeom prst="rect">
            <a:avLst/>
          </a:prstGeom>
          <a:ln w="0">
            <a:noFill/>
          </a:ln>
        </p:spPr>
      </p:pic>
      <p:sp>
        <p:nvSpPr>
          <p:cNvPr id="311"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rain: 302 mph - China</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lane: 1354 mph – France/Britain</a:t>
            </a:r>
            <a:endParaRPr b="0" lang="en-US" sz="3200" spc="-1" strike="noStrike">
              <a:solidFill>
                <a:srgbClr val="000000"/>
              </a:solidFill>
              <a:latin typeface="Corbel"/>
            </a:endParaRPr>
          </a:p>
        </p:txBody>
      </p:sp>
      <p:pic>
        <p:nvPicPr>
          <p:cNvPr id="312" name="Picture 2" descr="1. The top dog in the world of fast trains is China, which broke the 300 mph barrier with the CRH380A. The 302 mph top speed makes this the fastest legal way to travel by land."/>
          <p:cNvPicPr/>
          <p:nvPr/>
        </p:nvPicPr>
        <p:blipFill>
          <a:blip r:embed="rId2"/>
          <a:stretch/>
        </p:blipFill>
        <p:spPr>
          <a:xfrm>
            <a:off x="4800600" y="3505320"/>
            <a:ext cx="4191120" cy="3146400"/>
          </a:xfrm>
          <a:prstGeom prst="rect">
            <a:avLst/>
          </a:prstGeom>
          <a:ln w="0">
            <a:noFill/>
          </a:ln>
        </p:spPr>
      </p:pic>
      <p:pic>
        <p:nvPicPr>
          <p:cNvPr id="313" name="Picture 4" descr="File:British Airways Concorde G-BOAC 03.jpg"/>
          <p:cNvPicPr/>
          <p:nvPr/>
        </p:nvPicPr>
        <p:blipFill>
          <a:blip r:embed="rId3"/>
          <a:stretch/>
        </p:blipFill>
        <p:spPr>
          <a:xfrm>
            <a:off x="228600" y="3581280"/>
            <a:ext cx="4562640" cy="3062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189000" y="152280"/>
            <a:ext cx="8534160" cy="1262160"/>
          </a:xfrm>
          <a:prstGeom prst="rect">
            <a:avLst/>
          </a:prstGeom>
          <a:ln w="0">
            <a:noFill/>
          </a:ln>
        </p:spPr>
      </p:pic>
      <p:sp>
        <p:nvSpPr>
          <p:cNvPr id="315"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ares to use don’t cover all of the costs</a:t>
            </a:r>
            <a:endParaRPr b="0" lang="en-US" sz="32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ax money makes up part of the difference</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Most systems receive federal funding as well</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Title 1" descr=""/>
          <p:cNvPicPr/>
          <p:nvPr/>
        </p:nvPicPr>
        <p:blipFill>
          <a:blip r:embed="rId1"/>
          <a:stretch/>
        </p:blipFill>
        <p:spPr>
          <a:xfrm>
            <a:off x="189000" y="152280"/>
            <a:ext cx="8504280" cy="1262160"/>
          </a:xfrm>
          <a:prstGeom prst="rect">
            <a:avLst/>
          </a:prstGeom>
          <a:ln w="0">
            <a:noFill/>
          </a:ln>
        </p:spPr>
      </p:pic>
      <p:sp>
        <p:nvSpPr>
          <p:cNvPr id="317"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conomy – can be less than gas, tolls, &amp; parking</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nvenience – Do other things while traveling</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nergy savings – costs less energy than moving 1 person</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Less pollution – less exhaust emissions from vehicles reduce air pollution</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Less congestion – less traffic</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Title 1" descr=""/>
          <p:cNvPicPr/>
          <p:nvPr/>
        </p:nvPicPr>
        <p:blipFill>
          <a:blip r:embed="rId1"/>
          <a:stretch/>
        </p:blipFill>
        <p:spPr>
          <a:xfrm>
            <a:off x="189000" y="152280"/>
            <a:ext cx="8504280" cy="1262160"/>
          </a:xfrm>
          <a:prstGeom prst="rect">
            <a:avLst/>
          </a:prstGeom>
          <a:ln w="0">
            <a:noFill/>
          </a:ln>
        </p:spPr>
      </p:pic>
      <p:sp>
        <p:nvSpPr>
          <p:cNvPr id="319"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Operate on a schedule</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irty or poor facilitie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rowd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rime</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Title 1" descr=""/>
          <p:cNvPicPr/>
          <p:nvPr/>
        </p:nvPicPr>
        <p:blipFill>
          <a:blip r:embed="rId1"/>
          <a:stretch/>
        </p:blipFill>
        <p:spPr>
          <a:xfrm>
            <a:off x="189000" y="152280"/>
            <a:ext cx="8504280" cy="1262160"/>
          </a:xfrm>
          <a:prstGeom prst="rect">
            <a:avLst/>
          </a:prstGeom>
          <a:ln w="0">
            <a:noFill/>
          </a:ln>
        </p:spPr>
      </p:pic>
      <p:sp>
        <p:nvSpPr>
          <p:cNvPr id="321"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hat are some reasons to use your own car?</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quired for job</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lexibility with schedule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mfort</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321">
                                            <p:txEl>
                                              <p:pRg st="2" end="2"/>
                                            </p:txEl>
                                          </p:spTgt>
                                        </p:tgtEl>
                                        <p:attrNameLst>
                                          <p:attrName>style.visibility</p:attrName>
                                        </p:attrNameLst>
                                      </p:cBhvr>
                                      <p:to>
                                        <p:strVal val="visible"/>
                                      </p:to>
                                    </p:set>
                                    <p:animEffect filter="diamond(in)" transition="in">
                                      <p:cBhvr additive="repl">
                                        <p:cTn id="7" dur="2000"/>
                                        <p:tgtEl>
                                          <p:spTgt spid="321">
                                            <p:txEl>
                                              <p:pRg st="2" end="2"/>
                                            </p:txEl>
                                          </p:spTgt>
                                        </p:tgtEl>
                                      </p:cBhvr>
                                    </p:animEffect>
                                  </p:childTnLst>
                                </p:cTn>
                              </p:par>
                              <p:par>
                                <p:cTn id="8" nodeType="withEffect" fill="hold" presetClass="entr" presetID="8" presetSubtype="16">
                                  <p:stCondLst>
                                    <p:cond delay="0"/>
                                  </p:stCondLst>
                                  <p:childTnLst>
                                    <p:set>
                                      <p:cBhvr>
                                        <p:cTn id="9" dur="1" fill="hold">
                                          <p:stCondLst>
                                            <p:cond delay="0"/>
                                          </p:stCondLst>
                                        </p:cTn>
                                        <p:tgtEl>
                                          <p:spTgt spid="321">
                                            <p:txEl>
                                              <p:pRg st="3" end="3"/>
                                            </p:txEl>
                                          </p:spTgt>
                                        </p:tgtEl>
                                        <p:attrNameLst>
                                          <p:attrName>style.visibility</p:attrName>
                                        </p:attrNameLst>
                                      </p:cBhvr>
                                      <p:to>
                                        <p:strVal val="visible"/>
                                      </p:to>
                                    </p:set>
                                    <p:animEffect filter="diamond(in)" transition="in">
                                      <p:cBhvr additive="repl">
                                        <p:cTn id="10" dur="2000"/>
                                        <p:tgtEl>
                                          <p:spTgt spid="321">
                                            <p:txEl>
                                              <p:pRg st="3" end="3"/>
                                            </p:txEl>
                                          </p:spTgt>
                                        </p:tgtEl>
                                      </p:cBhvr>
                                    </p:animEffect>
                                  </p:childTnLst>
                                </p:cTn>
                              </p:par>
                              <p:par>
                                <p:cTn id="11" nodeType="withEffect" fill="hold" presetClass="entr" presetID="8" presetSubtype="16">
                                  <p:stCondLst>
                                    <p:cond delay="0"/>
                                  </p:stCondLst>
                                  <p:childTnLst>
                                    <p:set>
                                      <p:cBhvr>
                                        <p:cTn id="12" dur="1" fill="hold">
                                          <p:stCondLst>
                                            <p:cond delay="0"/>
                                          </p:stCondLst>
                                        </p:cTn>
                                        <p:tgtEl>
                                          <p:spTgt spid="321">
                                            <p:txEl>
                                              <p:pRg st="4" end="4"/>
                                            </p:txEl>
                                          </p:spTgt>
                                        </p:tgtEl>
                                        <p:attrNameLst>
                                          <p:attrName>style.visibility</p:attrName>
                                        </p:attrNameLst>
                                      </p:cBhvr>
                                      <p:to>
                                        <p:strVal val="visible"/>
                                      </p:to>
                                    </p:set>
                                    <p:animEffect filter="diamond(in)" transition="in">
                                      <p:cBhvr additive="repl">
                                        <p:cTn id="13" dur="2000"/>
                                        <p:tgtEl>
                                          <p:spTgt spid="3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itle 1" descr=""/>
          <p:cNvPicPr/>
          <p:nvPr/>
        </p:nvPicPr>
        <p:blipFill>
          <a:blip r:embed="rId1"/>
          <a:stretch/>
        </p:blipFill>
        <p:spPr>
          <a:xfrm>
            <a:off x="189000" y="152280"/>
            <a:ext cx="8504280" cy="1262160"/>
          </a:xfrm>
          <a:prstGeom prst="rect">
            <a:avLst/>
          </a:prstGeom>
          <a:ln w="0">
            <a:noFill/>
          </a:ln>
        </p:spPr>
      </p:pic>
      <p:sp>
        <p:nvSpPr>
          <p:cNvPr id="323"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urchase price – loan payments, lease payment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uel</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surance</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License, registration</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aintenance, repair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arking</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tress when driving</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ollution</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10T16:38:24Z</dcterms:created>
  <dc:creator>End User</dc:creator>
  <dc:description/>
  <dc:language>en-US</dc:language>
  <cp:lastModifiedBy>End User</cp:lastModifiedBy>
  <dcterms:modified xsi:type="dcterms:W3CDTF">2014-04-10T17:05:16Z</dcterms:modified>
  <cp:revision>3</cp:revision>
  <dc:subject/>
  <dc:title>Transportation Options</dc:title>
</cp:coreProperties>
</file>