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B99-3095-453D-9750-E31BE49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8E3-A79C-43D3-8EA1-425EDA5A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486-A873-42CF-A072-50E05969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37F-E5A9-4AEE-A69F-62B232DE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FEC-5A7F-4B93-818E-B3CA92A2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D3E7-8535-412F-A5C8-32824702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9672-3951-4897-ADBA-DE2C25F5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E02-A29F-4736-B14F-A986C72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CB70-B204-4F6C-869E-9412263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63A-5116-4240-80D4-96C2E50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F9BF-31CC-4D08-8DAF-AD82C558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8CC-C1D2-4B7B-9A98-EAF20F76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9461-20F7-40AC-9606-850EC6B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A98-81E8-45AE-A6B2-CF6B0D19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6DBB-120F-4323-A57C-8D0422D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B650-ECFC-45FF-8243-5AC25304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EADE-A300-4F34-8FA4-00ADA3BE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560-7F06-4611-BF75-70443E5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374-A63B-4831-8C1D-FF01ACB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3E9-AF52-4FFB-B621-122A1E35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06-ED04-4094-A57A-109CB7F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FF0-27AA-4F79-976B-2FC2DF8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19D-1D92-4049-BECD-1104549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A2D-F4A0-4719-957F-6D3593C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88F-EE24-49BD-86FC-84FD446BA5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53F9-FC7D-4088-8FDD-9668EDF3F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Understanding Vehicle Financing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What are My Monthly Payments Paying Fo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hicle’s depreciation – the difference between the original value and the projected value at the end of the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similar to interest for the use of the vehicle from the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 Long… Thanks for the M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Leas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osition cost: charge for them to take back your vehicle and resel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the mileage limit 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s for excessive wear and t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atch &amp; dent repair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termination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tiv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links on the wikispace under Chapter 19 Section 2 for Hyundai, Nissan, and Ford at look at their leas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nd contrast them in a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different and what’s the sa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uld you prefer based on the ter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re terms or anything else you don’t understand in the word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ffordabil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it all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advantages and disadvantag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month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the payment plus insurance and operating exp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your budget with and without a vehicle and see if it will work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loan for the remaining am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 keeps the title until it is pai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– shows ownership of the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wnership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rictions on usage of the veh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return the vehicle or buy it at the end of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imilar to renting a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vailable for new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to Choo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r &amp; Tear – hauling a lot of items or driving off-road can damage the condition of your 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eage – leases limit the number of miles in a year; anywhere from $.10 - $.30 per mile if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of Ownership – leases only last a few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Sounds Bette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to pollev.com/mrfarver and choose which you prefer: buying, a loan, or 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hopping for Vehicle Loa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a bank or car dea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 and interest rate are most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horter the loan, the less interest you’ll 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payments will be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y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Pa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around 10% of the 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down payment means a smaller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a trade-in value or reb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Pay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amount for the life of the lo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 the original title after paid in 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repossessed for non-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eas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ee – a person who leases a veh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cover insurance, taxes, operat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epairs and maintenance are covered under warra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 costs: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th’s payment, taxes, registration fees, capitalized cost reduction payment, acquisition fee, and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01:28:29Z</dcterms:created>
  <dc:creator>Nikitah Farver</dc:creator>
  <dc:description/>
  <dc:language>en-US</dc:language>
  <cp:lastModifiedBy>Nikitah Farver</cp:lastModifiedBy>
  <dcterms:modified xsi:type="dcterms:W3CDTF">2014-04-11T03:47:13Z</dcterms:modified>
  <cp:revision>5</cp:revision>
  <dc:subject/>
  <dc:title>Understanding Vehicle Financing</dc:title>
</cp:coreProperties>
</file>