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7A33-2831-49BB-975D-82E578560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1D9A-22E7-4404-8A40-C519A3A8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E112-0C15-422D-AC53-E1C95DE71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ECD5-0C70-4E97-AC26-A6E2A1ACD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8AAB-E06E-47D9-9082-4363A08D9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C859-8ED9-43E7-89E4-63DFE7EF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14A6-0A30-48D5-9DE6-265E05D1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FDBF-079D-45FA-989B-ADD89E65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BCF9-03EC-4159-A39B-97AB22CA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5750-A289-44F6-B537-A501FD56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BF6E-B6E8-44B8-B91C-BB6CE9FC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7B25-7328-4B69-AF07-74E8AE7B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F210-6470-4DA4-BFDC-FA8DEF97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4B11-4385-4347-AFD9-30C61D11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BBFE-BBF7-473F-9D40-7454A558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3EB4-DF6F-4843-8357-751C89072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3B2D-C8AC-4701-BCF6-24B2F3148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C6D6-D762-49BF-BC60-44EE3F8C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DFB0-2F93-4CF9-AB2F-7A8A03B6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AC18-E0A7-4004-99F9-70F05765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6AE9-4DC1-477C-91C4-25A2E6FF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86B8-CEA9-43B7-BC20-BC97663A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4ED1-6E51-4FB9-BEA7-564395B5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4153-BAD6-4A0B-A4DD-2D2B14D0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3EE9-BFEF-4398-AFE0-6491BCE2831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57D1-0413-4594-B97C-7CF39884099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Shopping for a Car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pter 1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tion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http://static.cargurus.com/images/site/2008/06/09/18/01/2006_dodge_viper_srt-10_2dr_coupe-pic-62755.jpeg"/>
          <p:cNvPicPr/>
          <p:nvPr/>
        </p:nvPicPr>
        <p:blipFill>
          <a:blip r:embed="rId1"/>
          <a:stretch/>
        </p:blipFill>
        <p:spPr>
          <a:xfrm>
            <a:off x="4438800" y="3325680"/>
            <a:ext cx="470520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http://media.ed.edmunds-media.com/non-make/carbuying/carbuying_927125_1600.jpg"/>
          <p:cNvPicPr/>
          <p:nvPr/>
        </p:nvPicPr>
        <p:blipFill>
          <a:blip r:embed="rId1"/>
          <a:stretch/>
        </p:blipFill>
        <p:spPr>
          <a:xfrm>
            <a:off x="0" y="379440"/>
            <a:ext cx="9144000" cy="60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http://www.northlandenterprises.com/store/images/P/30%20Day%20Buyers%20Guide.jpg"/>
          <p:cNvPicPr/>
          <p:nvPr/>
        </p:nvPicPr>
        <p:blipFill>
          <a:blip r:embed="rId1"/>
          <a:stretch/>
        </p:blipFill>
        <p:spPr>
          <a:xfrm>
            <a:off x="1905120" y="228600"/>
            <a:ext cx="51181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rranti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cars have warranties from 3 years and up, with some components being covered long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a neighbor, what’s the longest warranty you’ve heard of in an ad for a ca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d cars may have some or no warran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ake It for a Spin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y to travel in town, up a steep hill, and on the highw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sure everything is within rea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thing should work properly without knocks, noises, or ratt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egotiating Your Pri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rt and the invoice price and negotiate 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de-ins don’t factor into the price of the vehi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bates from the manufacturer come to you, and not from the dealer’s prof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ses can be negotiated to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uy That Car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k about the trade-in val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t a copy of everything in wri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ck their ma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sure everything is as agreed up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there is still a problem, have the dealer sign to agree to fix 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emon Law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248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ce you drive it home, you can’t return 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s with serious defects are called lem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ually a car that has not be repaired after 4 attempts or 30 days out of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ually require a replacement or refu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http://www.lawyersonlineguide.net/wp-content/uploads/2013/02/Lemon-Law.jpg"/>
          <p:cNvPicPr/>
          <p:nvPr/>
        </p:nvPicPr>
        <p:blipFill>
          <a:blip r:embed="rId1"/>
          <a:stretch/>
        </p:blipFill>
        <p:spPr>
          <a:xfrm>
            <a:off x="6324480" y="4441680"/>
            <a:ext cx="281952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etting Prioriti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inly for travel/work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pooling or a large famil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untainous region or flatland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or use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searching Makes &amp; Mode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fety – braking, handling, airba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liability – save on repai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el economy – some require premium or diesel fuel or get lower mp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wer &amp; performance – slow acceleration on hills or onram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to Researc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fort &amp; convenience - more head or legroom, larger cargo ar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surance rates – sporty cars usually cost mo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ad tests &amp; reviews – contain the above inform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factors are most important to you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About the Price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ok value – estimated value of a specific model based on condition, mileage, and re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voice price – price the dealer pays for the c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se price – standard equipment on every c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tions – extras that add to the pr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ill More Pri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SRP – manufacturer’s suggested retail price – includes the base price, options, and a transportation char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icker price – price the dealer wants from you – includes the MSRP, dealer added options, profit, and everything else to get the car ready for y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 Do I Find My Car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vate owners – any private person who sells a car with an 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alers – can sell new &amp; used or just used c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net – can be a mix of dealers and private ow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valuating the Ca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dometer – shows the mileage of the car; higher mileage usually means more mainten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res – check the tread depth and wear patter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ior – water damage and w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erior – rust or paint iss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to Evalua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ting &amp; electrical systems – heat, AC, lights, wipers, radio, MP3 play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chanical systems – fluid leaks, steering, brakes, shifting g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dy &amp; frame – new parts, mismatched paint, other accident dam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it inspected by a mechan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4T15:33:33Z</dcterms:created>
  <dc:creator>Nikitah Farver</dc:creator>
  <dc:description/>
  <dc:language>en-US</dc:language>
  <cp:lastModifiedBy>Nikitah Farver</cp:lastModifiedBy>
  <dcterms:modified xsi:type="dcterms:W3CDTF">2014-04-14T16:33:55Z</dcterms:modified>
  <cp:revision>3</cp:revision>
  <dc:subject/>
  <dc:title>Shopping for a Car</dc:title>
</cp:coreProperties>
</file>