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8B7D-2720-4BB9-91D0-A851C322B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AA10-E880-4FFD-B04E-14F77C7F0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70C-6BE5-4F0C-85DB-68A07A80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A05-D495-481D-9A7D-C5ACD9AD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0749A-C1B3-4E21-A328-7C8B5539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B5E13-EB53-402A-8143-69D809A6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F5D6F-E04D-4476-9B5A-AC91CF7D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9CC8B-3B1F-4C59-946F-94F310E1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48DE2-EEC8-4AFD-A4A0-CB09AFB7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B0B78-C27E-410B-A81D-5C860160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9EAC5-D6C2-4D55-8BF1-EF8E7619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6D745-A26D-4762-82FD-BB807BDE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E6B33-E7D9-4B56-89A4-1B4535A8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7B8-E559-4A69-AEF5-3C59B75C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A12-AC97-42BC-8F33-B8749EFE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3BAD-1962-42A5-A257-7DF80146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9D6A-87AB-4B79-B334-E2950EFE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3C80-E4D3-42E5-A5EC-F6E6F035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4619-7520-4B0C-A25D-A540D20E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0B65-B211-4C4E-B239-2EEBA132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7A4A-C420-4185-90B1-B9A20A8B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C5A8-35FF-4367-8715-6ED0BC68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2B5-EFAF-4F3D-B4D8-26C7D702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F118-5C72-4FCA-A497-665C5BD4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F7EC-9E73-476A-A135-9B9A00DC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E92A-0505-4CFD-8247-B5B5B1E7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3AFC-E405-42F5-A0F0-9236CAFF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1617-80B7-4C67-A011-199099FF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6974-D2E6-4DEC-A04C-F4206E38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A027-A5C0-4BF8-AE0D-7BD07406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86AAD-9170-4A32-A89C-DC9659BB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F5EDC-1D70-4F6C-8134-F3D61839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15C2-4ACE-455A-9950-BB044584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BC3-CC1D-4E8B-BA54-9212A2B0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85B6-C11D-4ECF-85EE-2620C18C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1E384-C9E5-443F-A726-C5CF9BED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4A850-348B-4758-919C-8E6EC367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0E9A-9014-473E-BF04-5BC6CD3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1771-70D4-4EF1-9603-4DA36D33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D2F9-6B2E-4D60-937D-7C8A82C6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1035-998F-4951-8598-83F8D559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69AE-BDEB-4BF2-B880-1D54226B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789E-7916-4E25-8C39-14975C1B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E9FE4-64DB-47A3-8523-2292A056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AC07-80BA-4793-B334-F0992714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B15A5-DD1C-419A-8DC5-9017092F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D27B-EE84-4716-BBB7-57F420F9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6BDA8-679D-4920-87E9-46A2583C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17615-8EE4-4B89-A4F7-DE3168F6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62B8A-74C0-48F7-91E4-F0E5ADC5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6639-0422-496C-94B5-99835F13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A4AB1-2C9B-4298-9A63-271B3386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CB1B-8304-47B9-9643-0C4F362C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0581-9EA5-4E36-91F1-CDDABE6F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3604A-FE7A-43EE-BB5A-CEA3ACA0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C0A-DAB1-4545-8C6B-36DB1A0F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475A4-B67B-495C-B0C0-16E62E53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92B4-5214-48D8-8D95-E4CEBD4B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8376-A5EE-48BA-998F-D1ADFC73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288A8-5E8A-418D-8BD9-EAA90C12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446D6-615A-419F-BF10-27D3F0D8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0EBFB-FA8B-412C-BB3C-50090BB2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F7D2F-1310-4C6A-AB16-91001E85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94E34-C75F-479B-A1F3-F9DC1F99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7A2B2-C567-4D04-8C95-64F3A6F7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D5419-C290-4270-9541-C2E64BEB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345-5360-42E1-AC9D-DFC6B84F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19149-E43B-43B3-A411-A49BBA6B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029C9-F39E-4612-AA05-34E77115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5E0BA-08B5-49BF-A8D5-2981EE95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B46B-BDA6-461D-86E6-A344CDD0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C0090-7F58-41A4-AC5E-3B8ADDD5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25C33-19D5-472B-BA20-370FE641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193BE-2B7D-48D9-A4F2-E9728D5C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2D6D9-B3C7-4BCC-8945-9C88110C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D6625-942D-4B04-AD82-16EFD8F8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8A783-E7D6-4B6F-80E7-5B27266C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52A-AFF4-4990-AA26-46FBEB10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2269F-8CF2-4638-ABED-A61B6832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9D39A-F8B7-4CB1-9905-A5274B08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FD410-D0B5-4721-B351-15F5A865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13D1F-D69A-4A91-8728-3EA1B595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14B44-C4A7-42AE-B0BF-9C3C9CA0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14058-B76A-42F0-BC36-299FA8DE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C35C9-AF45-49C5-801A-A103734A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79732-0465-49B6-A33C-11D61C0E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93F06-B2D1-427D-B1CA-038D120D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3A025-4288-4FCD-99B9-7377F8C4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F15-AF3B-4479-8312-7D887FD0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94AA5-0C54-478E-9BD1-A91C6BFC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A4CB5-C1FC-4C9A-9B63-442FBF64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3E4A8-D6BE-46AD-AAF5-765F41F1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0E75-1A70-4CF6-A799-B35DFAAD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86EF-9822-4FDE-B479-68577A65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73F80-2A24-4C97-B49A-69548F75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E5151-B160-4069-AC29-4B1485B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C7231-6BB2-4654-A20F-702C30A9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5830F-E4C1-402B-8890-35603F72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70A0E-BD09-4139-8BEA-A71D0263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153-380F-480E-A2E2-5DA88562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8F7D4-0B1D-45E3-89D5-3A8BE16F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023EA-CA45-453F-BF31-A3AF9030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A7781-E723-46BA-804E-62743632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02976-9D4B-45CC-B381-9535F8D2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62357-64D6-41E8-8E0B-A116728E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9D4EC-BEB9-4682-90F3-759250BA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0F021-0952-4657-90E5-0F6DFE6B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32F99-1E76-450F-BD77-C015E1C4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B840D-26FB-401A-833E-ABE05285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15253-E50D-4872-AE4A-B28A2624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2DEA-DD91-49FC-A481-D84BD27EBF1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954F-9E59-4FCB-B80D-9A4B1DE3740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5BB0-11C7-4185-8B21-89591064056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1CA7-AF44-4D28-AFD6-B4C09A2E38C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9357-A65A-426C-9FF9-1270C75546B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1389-A6B9-4388-BEBB-E828C077108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F57B-7A0D-4005-973F-E261CA0769C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A458-05A9-4D70-AFC6-6C7977C89B3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60E7-E38A-407E-97AA-2C2B8EF4D73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Chapter 19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Section 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intenance schedule – timetable for routine servicing &amp; checking or replacing par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cated in the owner’s manua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http://cheapoilchange.net/wp-content/uploads/2010/04/oil-change.jpg"/>
          <p:cNvPicPr/>
          <p:nvPr/>
        </p:nvPicPr>
        <p:blipFill>
          <a:blip r:embed="rId2"/>
          <a:stretch/>
        </p:blipFill>
        <p:spPr>
          <a:xfrm>
            <a:off x="2717640" y="3809880"/>
            <a:ext cx="31878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indshield washer fluid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ngine oil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ransmission fluid – usually doesn’t need changed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Brake fluid – usually doesn’t need changed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ire pressur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ntifreeze – every few yea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Battery – every 5 – 7 yea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Ligh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http://blog.allstate.com/wp-content/uploads/2012/06/53114d7424b38c0b7287fd05d3a1f772.jpg"/>
          <p:cNvPicPr/>
          <p:nvPr/>
        </p:nvPicPr>
        <p:blipFill>
          <a:blip r:embed="rId2"/>
          <a:stretch/>
        </p:blipFill>
        <p:spPr>
          <a:xfrm>
            <a:off x="488880" y="1600200"/>
            <a:ext cx="80456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alerships, service stations, garages, retail cent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at are some examples from the area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 they warranty their work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venient hour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aner vehicle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clude labor and parts in i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can’t exceed the cost without your permiss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2" descr="https://lh6.googleusercontent.com/-3utt_Vx_EbM/Ud78tr39m3I/AAAAAAAABwU/u_YQfz7DP7Q/s0/photo.jpg"/>
          <p:cNvPicPr/>
          <p:nvPr/>
        </p:nvPicPr>
        <p:blipFill>
          <a:blip r:embed="rId2"/>
          <a:stretch/>
        </p:blipFill>
        <p:spPr>
          <a:xfrm>
            <a:off x="2971800" y="2746440"/>
            <a:ext cx="61722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w – from the manufacturer or their suppli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built or reconditioned – used part that has been repair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Your warranty may not cover using new parts for repair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2" descr="http://www.wegotused.com/wp-content/themes/mymag/images/logoHarrys.jpg"/>
          <p:cNvPicPr/>
          <p:nvPr/>
        </p:nvPicPr>
        <p:blipFill>
          <a:blip r:embed="rId2"/>
          <a:stretch/>
        </p:blipFill>
        <p:spPr>
          <a:xfrm>
            <a:off x="2819520" y="4648320"/>
            <a:ext cx="3276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rs are often recall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nufacturer’s request for owners to bring their car to a dealer for free repai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ually mailed to you, but also broadcast on the new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mpany’s website will let you check to see if you are effect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2" descr="http://localtvwhotv.files.wordpress.com/2013/01/gm-car-recall.jpg?w=402"/>
          <p:cNvPicPr/>
          <p:nvPr/>
        </p:nvPicPr>
        <p:blipFill>
          <a:blip r:embed="rId2"/>
          <a:stretch/>
        </p:blipFill>
        <p:spPr>
          <a:xfrm>
            <a:off x="4952880" y="4834080"/>
            <a:ext cx="3600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member, you’re driving more than 2,000 pounds of ca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now the traffic laws in the are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at laws might be different?  Talk with your neighb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ocus on driving and be aler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uckle up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rive smoothly for better mileage and less wear and tea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4T16:35:39Z</dcterms:created>
  <dc:creator>End User</dc:creator>
  <dc:description/>
  <dc:language>en-US</dc:language>
  <cp:lastModifiedBy>End User</cp:lastModifiedBy>
  <dcterms:modified xsi:type="dcterms:W3CDTF">2014-04-28T16:16:53Z</dcterms:modified>
  <cp:revision>6</cp:revision>
  <dc:subject/>
  <dc:title>Vehicle Ownership</dc:title>
</cp:coreProperties>
</file>