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5BFC7-DB56-45A1-B739-BB233409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172DF-1D60-446E-B75E-2D6305FEE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FE2A4-311E-4B75-9603-C43581E6C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EC8E4-CA42-4916-8128-AC063394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45CA1-18E4-4587-B49C-5E0EF8811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416D4-3381-4030-B8F4-41626C4E8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649E-E93F-490E-A715-C6B56061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1CC14-5895-453B-9EC4-5B9C2DE2E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0257A-3171-43E1-9752-FA1DD4192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411E2-F602-4CAF-9045-41CCD5AC1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9342F-671A-46CE-8642-A80757657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8DED-E354-46FE-A142-349D4CB22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B265E-E14C-4D08-832D-2375EFF8D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5571F-9677-4975-BE3A-BC2B2461D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01D19-0108-47EE-8819-6AFBD06DD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F300E-DACD-4D8E-B8C5-C6F7B4670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6F0D8-BD3D-4C6A-A313-E917D121D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9FDAF9-B115-473A-9C1C-34784C241D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94790-FB94-4765-9D3A-EAFD0EBB5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E09B4-918F-490F-AFC3-5CC807136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9DC42-E1E4-42EC-B3FD-9D0B839A2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272D5-32D5-4C20-8072-438EB5EA2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76B01-A772-401D-B0E4-F8FD0D7F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01BB7-6A1F-4BF4-8B14-639ADD2C3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5A10C-07B2-48EA-86CC-A17E9B935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F56FD-B1CD-430D-AF66-C9F55D39C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33D8D-24C9-43DE-853B-2D8772C76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BA2B9-3592-4A4B-91C4-D184D88D7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294BA0-A076-47E9-9F78-3972E16E5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AAA0C-0963-456C-B04F-DD259A03E4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0FFA20-7FD6-43E1-AA78-855705184F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7C550-1486-4516-B88A-795016D77E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7C904D-864A-4F4B-95F9-E88C443DF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193F-F161-4E08-8EA8-55041B2C7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BE7A3C-B326-4175-A7DD-B2940DEF7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75FEEA-EE78-491D-A097-E7028E6F5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59E21-622A-4593-9C49-CB595F1C07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41306-2DF1-4F08-B2E2-B818ECF06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4C1A9-65B1-4DA1-B50E-730F6837AE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6D1C8-9FBC-487E-B5DF-223224475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4590B-413D-4931-8FF1-0EAD5B1BD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2C01FA-6302-490D-96D5-DB2AFD43BE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3755A-23D6-4467-A665-B52CB8D4C9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EF2A32-975F-4C0A-89ED-AF269A02C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E48A6-4FDD-40D9-B9B7-C60A6B7A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2302E-170F-4DAC-8C23-32DD85CBDE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CF400-1D83-415F-8973-A2EC77BD5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7BE6F-3967-4362-B881-12FD2B800D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04F5A-6F65-41C4-939F-CC48DC8B3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59D10-6BBC-483E-A807-EF4EE7848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3C3D7-DBD8-48CE-9B8A-CB614FC26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4724B-ECA7-4A8C-B03D-75FAA48FC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D8ACD-B7FF-4E97-BCA8-D6F98CF65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A688F4-1B5C-411D-B557-3510C9B18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FFC08B-36AC-473C-BDE8-EFF11696F7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34327-AAD0-4B06-96CD-5FB2C248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27B488-6955-4A68-AAE0-746A6E9D9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0EA83D-95AF-43E4-8BCE-725DA51AAD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D3545-0257-4806-8D6C-B7CF2A7ED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7D70E-515B-44F3-88AB-732B28ECD6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CC577-8F74-4B41-B9ED-89F81A3E7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E1648-C236-4408-BD60-CC6DE4AF8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14D5D-4BAC-4ABA-93B3-63964A06A7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849A5-7A02-4A66-BE41-8B271BAE1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441AA-E451-44EC-8AD4-76522D1B53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DFE85-855C-425F-97C7-9AE133A1D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3CB5B-1000-455C-B091-D13FAA2D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CFCDCF-DE8E-4048-A693-BB581A819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D5CC43-9B20-4176-A553-0453AFA9A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68D583-A707-4944-BCA1-9ACAAEA0F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D6029A-2097-4C3E-8CEF-4071704B7A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B89A9A-76EB-4AE1-8241-C5A527D56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AE6A11-14D1-498E-9841-84F01F90D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405FA0-EE1D-43E0-8F1D-BEFDF528AD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E3338-E7FA-44D1-8EC8-47EAC74D3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E1CA0F-B3BD-4315-BB52-4CAB620025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EF7995-7F3B-454A-9FD7-7349C3D8F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7576-5041-4B9F-BC95-E2A31B1EA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ADEEE-6258-4C04-AE64-5A5FF3D57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404AF-C160-4E72-B0B1-12F452780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3B1274-0B26-4879-B704-A46C503DB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8BDD99-DCFE-489C-8490-9C4D932689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9384EE-E569-441A-8DD5-E91AC410CD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CB8A-2C40-4CCE-BC22-BBB04D2C9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046D-A0CA-4CC5-B942-0AD4102382D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DA51-FD92-4667-9050-288D551FF1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934B-FBB2-4835-84AA-9B24F00A5F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0868-6BB0-4914-B8AB-1A2A42496A9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D8D0-78D0-4D49-B0D1-EF98FA2AE33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7AE8-E2F2-49EB-85E4-7A0412965F2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38A1-F44B-4FA5-81F4-4664252E6FF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hapter 19</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ction 1</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do you go often &amp; how far away is 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much does each method co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get onto mass trans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park?</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ty between driving and bus stop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19240" y="152280"/>
            <a:ext cx="847404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ype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ubwa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s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olley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ai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erri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lan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ab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07" name="Picture 2" descr="File:NYC Subway R160A 9237 on the E.jpg"/>
          <p:cNvPicPr/>
          <p:nvPr/>
        </p:nvPicPr>
        <p:blipFill>
          <a:blip r:embed="rId2"/>
          <a:stretch/>
        </p:blipFill>
        <p:spPr>
          <a:xfrm>
            <a:off x="3657600" y="2514600"/>
            <a:ext cx="497844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our choices?  Discuss them with your neighbor and then we’ll share them with the clas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52280"/>
            <a:ext cx="850428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in: 302 mph - Chin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lane: 1354 mph – France/Britain</a:t>
            </a:r>
            <a:endParaRPr b="0" lang="en-US" sz="3200" spc="-1" strike="noStrike">
              <a:solidFill>
                <a:srgbClr val="000000"/>
              </a:solidFill>
              <a:latin typeface="Corbel"/>
            </a:endParaRPr>
          </a:p>
        </p:txBody>
      </p:sp>
      <p:pic>
        <p:nvPicPr>
          <p:cNvPr id="312" name="Picture 2" descr="1. The top dog in the world of fast trains is China, which broke the 300 mph barrier with the CRH380A. The 302 mph top speed makes this the fastest legal way to travel by land."/>
          <p:cNvPicPr/>
          <p:nvPr/>
        </p:nvPicPr>
        <p:blipFill>
          <a:blip r:embed="rId2"/>
          <a:stretch/>
        </p:blipFill>
        <p:spPr>
          <a:xfrm>
            <a:off x="4800600" y="3505320"/>
            <a:ext cx="4191120" cy="3146400"/>
          </a:xfrm>
          <a:prstGeom prst="rect">
            <a:avLst/>
          </a:prstGeom>
          <a:ln w="0">
            <a:noFill/>
          </a:ln>
        </p:spPr>
      </p:pic>
      <p:pic>
        <p:nvPicPr>
          <p:cNvPr id="313" name="Picture 4" descr="File:British Airways Concorde G-BOAC 03.jpg"/>
          <p:cNvPicPr/>
          <p:nvPr/>
        </p:nvPicPr>
        <p:blipFill>
          <a:blip r:embed="rId3"/>
          <a:stretch/>
        </p:blipFill>
        <p:spPr>
          <a:xfrm>
            <a:off x="228600" y="3581280"/>
            <a:ext cx="4562640" cy="30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341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es to use don’t cover all of the cost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x money makes up part of the differenc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ost systems receive federal funding as well</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conomy – can be less than gas, tolls, &amp; 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venience – Do other things while travel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ergy savings – costs less energy than moving 1 pers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pollution – less exhaust emissions from vehicles reduce air pollu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congestion – less traffic</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rate on a schedu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rty or poor facilit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owd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some reasons to use your own ca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quired for jo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lexibility with schedu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for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21">
                                            <p:txEl>
                                              <p:pRg st="2" end="2"/>
                                            </p:txEl>
                                          </p:spTgt>
                                        </p:tgtEl>
                                        <p:attrNameLst>
                                          <p:attrName>style.visibility</p:attrName>
                                        </p:attrNameLst>
                                      </p:cBhvr>
                                      <p:to>
                                        <p:strVal val="visible"/>
                                      </p:to>
                                    </p:set>
                                    <p:animEffect filter="diamond(in)" transition="in">
                                      <p:cBhvr additive="repl">
                                        <p:cTn id="7" dur="2000"/>
                                        <p:tgtEl>
                                          <p:spTgt spid="321">
                                            <p:txEl>
                                              <p:pRg st="2" end="2"/>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321">
                                            <p:txEl>
                                              <p:pRg st="3" end="3"/>
                                            </p:txEl>
                                          </p:spTgt>
                                        </p:tgtEl>
                                        <p:attrNameLst>
                                          <p:attrName>style.visibility</p:attrName>
                                        </p:attrNameLst>
                                      </p:cBhvr>
                                      <p:to>
                                        <p:strVal val="visible"/>
                                      </p:to>
                                    </p:set>
                                    <p:animEffect filter="diamond(in)" transition="in">
                                      <p:cBhvr additive="repl">
                                        <p:cTn id="10" dur="2000"/>
                                        <p:tgtEl>
                                          <p:spTgt spid="321">
                                            <p:txEl>
                                              <p:pRg st="3" end="3"/>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321">
                                            <p:txEl>
                                              <p:pRg st="4" end="4"/>
                                            </p:txEl>
                                          </p:spTgt>
                                        </p:tgtEl>
                                        <p:attrNameLst>
                                          <p:attrName>style.visibility</p:attrName>
                                        </p:attrNameLst>
                                      </p:cBhvr>
                                      <p:to>
                                        <p:strVal val="visible"/>
                                      </p:to>
                                    </p:set>
                                    <p:animEffect filter="diamond(in)" transition="in">
                                      <p:cBhvr additive="repl">
                                        <p:cTn id="13" dur="20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urchase price – loan payments, lease paymen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ue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suran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icense, registr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intenance, repai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ress when driv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llu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38:24Z</dcterms:created>
  <dc:creator>End User</dc:creator>
  <dc:description/>
  <dc:language>en-US</dc:language>
  <cp:lastModifiedBy>End User</cp:lastModifiedBy>
  <dcterms:modified xsi:type="dcterms:W3CDTF">2014-04-10T17:05:16Z</dcterms:modified>
  <cp:revision>3</cp:revision>
  <dc:subject/>
  <dc:title>Transportation Options</dc:title>
</cp:coreProperties>
</file>