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659E-C45D-4AC3-BBA0-C38CE7B8A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6A82-385A-401B-9DA7-D8ED347E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D414-7802-4524-98F8-D5BED2734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FFA2-0EEF-4C96-84D3-D9DE8D47E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64B0-571E-4543-A63A-CFFC3D5A0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F003-334A-4E18-8D38-3AB334CF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55A0-9D9E-4B09-9180-C7B5860C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D87B-DAA1-4305-BB16-3A63EC94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9EB1C-4F24-445B-8596-CE97E84E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0C4EC-E9D4-428E-9C5F-3A46608D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F698-2CA1-4DCA-A901-E7DAE52A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A04C-0CC7-4E2C-ACBA-42CAD50C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8038-302C-459A-B62F-2CB8DCCB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D6219-645E-4AAF-B5AE-534DE7BB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C301-ED05-4833-B0E5-A7EC3B7E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DD0B-5869-41CF-B4F1-ABF2EE0C2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4E8A-7005-4B56-890D-608C62991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803A-F41C-411B-822C-6962453B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7C61-6AA6-4B82-8A46-7AB5644B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5BDD-B5AF-4BF7-873C-493DCE87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C90A-602A-4871-9046-D862EC2C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2DA6-7B5D-457A-B75C-EAB0EA9E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DA5A-4811-4674-AEF6-5A105457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A8DD-D9BA-42F9-9062-B78D98E4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33C3-77E5-4126-9977-DB4C386772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DCE7-E960-417A-8FC3-9A42540FD1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Understanding Vehicle Financing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1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tion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o What are My Monthly Payments Paying For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hicle’s depreciation – the difference between the original value and the projected value at the end of the 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ount similar to interest for the use of the vehicle from the compa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o Long… Thanks for the Mi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of Lease c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osition cost: charge for them to take back your vehicle and resell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 the mileage limit f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airs for excessive wear and t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atch &amp; dent repair f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ly termination f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ctiv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links on the wikispace under Chapter 19 Section 2 for Hyundai, Nissan, and Ford at look at their lease o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e and contrast them in a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’s different and what’s the sa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would you prefer based on the term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there terms or anything else you don’t understand in the word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ffordabil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y it all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the advantages and disadvantag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y month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s the payment plus insurance and operating expe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 your budget with and without a vehicle and see if it will work for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ehicle Loa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a down pay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 loan for the remaining amou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thly pay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nk keeps the title until it is paid o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tle – shows ownership of the vehi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eas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thly pay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ownership of the vehi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trictions on usage of the vehi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ither return the vehicle or buy it at the end of the 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y similar to renting a c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available for new c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ow to Choo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r &amp; Tear – hauling a lot of items or driving off-road can damage the condition of your c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leage – leases limit the number of miles in a year; anywhere from $.10 - $.30 per mile if o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ngth of Ownership – leases only last a few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Sounds Better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 to pollev.com/mrfarver and choose which you prefer: buying, a loan, or lea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hopping for Vehicle Loa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ither a bank or car dea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ngth and interest rate are most impor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horter the loan, the less interest you’ll p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payments will be hig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ayme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wn Pay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around 10% of the pr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r down payment means a smaller lo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ld be a trade-in value or reb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thly Pay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amount for the life of the lo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eive the original title after paid in fu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ld be repossessed for non-pay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eas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ee – a person who leases a vehi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not cover insurance, taxes, operating expen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repairs and maintenance are covered under warran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front costs: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nth’s payment, taxes, registration fees, capitalized cost reduction payment, acquisition fee, and m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1T01:28:29Z</dcterms:created>
  <dc:creator>Nikitah Farver</dc:creator>
  <dc:description/>
  <dc:language>en-US</dc:language>
  <cp:lastModifiedBy>Nikitah Farver</cp:lastModifiedBy>
  <dcterms:modified xsi:type="dcterms:W3CDTF">2014-04-11T03:47:13Z</dcterms:modified>
  <cp:revision>5</cp:revision>
  <dc:subject/>
  <dc:title>Understanding Vehicle Financing</dc:title>
</cp:coreProperties>
</file>