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29D-3B4B-4EEF-ADEA-B898AA5A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1A4-15E8-4BBD-ABCB-08D8AF55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6E9-AC21-466A-8796-C52CC60B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7BB-18EB-44FD-8AE4-441244CA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A94-04FA-4A4F-932E-2F7A375E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ABA4-511B-445A-B052-E976389A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846B-685B-4892-AFBF-71C17BED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BDBB-6F56-4E6D-ABBC-8A7AFA99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7C3-038C-4A8A-8FA6-6CC2D64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7F7-195D-4CC6-A94F-68F7F555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C37F-7407-45FE-884C-DD57314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0D5-52CE-451A-98FC-4C4260F3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BFC-0E93-4A06-ADB1-10473F0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3ED5-604C-4173-A2BD-4E72D1BE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1812-11BE-42FD-BC23-860BEEB5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4FED-43A4-4CC5-9022-4E5D95F7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450-773C-42A8-B7AD-3FC378AB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740-D46B-499C-A130-4DF60E30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2D0-9F1C-4311-9515-39092C71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669-4044-428A-B620-D7A45EA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590-4C90-4C67-ADC4-01F4A38C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C17-4272-46E5-8724-ED0C4B8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D84-83B0-4514-B06A-69752F3B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9E25-82F9-4246-8954-7FB047C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B4A8-0B56-4E33-91A6-C4AE09C6F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524B-0E7C-44B0-9C40-606F9F5D5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Understanding Vehicle Financ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What are My Monthly Payments Paying Fo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’s depreciation – the difference between the original value and the projected value at the end of the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similar to interest for the use of the vehicle from the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Long… Thanks for the M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Leas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osition cost: charge for them to take back your vehicle and resel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mileage limit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s for excessive wear and t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tch &amp; dent repair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termination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links on the wikispace under Chapter 19 Section 2 for Hyundai, Nissan, and Ford at look at their leas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 them in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different and what’s the s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you prefer based on the ter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terms or anything else you don’t understand in the word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forda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it all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advantages and disadvantag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the payment plus insurance and operating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your budget with and without a vehicle and see if it will work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loan for the remaining 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 keeps the title until it is pai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– shows ownership of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wnership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n usage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return the vehicle or buy it at the end of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imilar to renting a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vailable for new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Choo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&amp; Tear – hauling a lot of items or driving off-road can damage the condition of your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eage – leases limit the number of miles in a year; anywhere from $.10 - $.30 per mile if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Ownership – leases only last a few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Sounds Bette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pollev.com/mrfarver and choose which you prefer: buying, a loan, or 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hopping for 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a bank or car dea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and interest rate are most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r the loan, the less interest you’ll 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payments will be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y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round 10% of the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own payment means a smaller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a trade-in value or r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mount for the life of the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the original title after paid in 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repossessed for non-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e – a person who leases a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cover insurance, taxes, operat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epairs and maintenance are covered under warra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 costs: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th’s payment, taxes, registration fees, capitalized cost reduction payment, acquisition fee, and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1:28:29Z</dcterms:created>
  <dc:creator>Nikitah Farver</dc:creator>
  <dc:description/>
  <dc:language>en-US</dc:language>
  <cp:lastModifiedBy>Nikitah Farver</cp:lastModifiedBy>
  <dcterms:modified xsi:type="dcterms:W3CDTF">2014-04-11T03:47:13Z</dcterms:modified>
  <cp:revision>5</cp:revision>
  <dc:subject/>
  <dc:title>Understanding Vehicle Financing</dc:title>
</cp:coreProperties>
</file>