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35D-936D-4715-9D5F-BB2A9D0C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F95A-1CFD-4CC7-BAC4-E6C86B58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6635-F8D4-43DC-B614-F2E081F3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53AB-16BA-410E-A1CF-B2F27750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A809-0C45-46FD-B0C6-ED67D861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859E-8DB2-402D-AEC2-FDF557B5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3F5A-7BA6-4470-A0F5-233DD263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50D1-163C-4926-A157-00AADE50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7094-CECD-4C06-B30A-06AC1ABF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C032-8836-40C7-8D51-DA7DB688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7AE2-3220-4773-A260-618876A5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DD7-CDA0-4A67-A9C9-9214D40E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ED19-E4C8-4779-9AD3-48F5382D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7BB4-A33D-4AF2-9114-5E0FDA59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26CE-E9AF-4935-96B4-A5265393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AFFD-5A88-40F8-B5EB-E719D1ED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3373-D260-41A3-921E-6B034DF2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0F9-CAAA-4569-8486-A092063D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DF1-FC21-40B9-999C-02A0AEE8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A0BE-DB37-4F96-BB2C-2BDB6CC0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43C4-372D-4759-BEDC-EA11CDAA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99EE-E5E4-4670-99BE-A24ACA6D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EFE9-88D4-4984-BFF0-F0D682BA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9C7-D738-4652-93B7-72BA6E3C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D847-6734-4AD3-9B26-D93677E92E1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A6A3-0904-4861-B592-04A07EE04F8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hopping for a Ca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tion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http://static.cargurus.com/images/site/2008/06/09/18/01/2006_dodge_viper_srt-10_2dr_coupe-pic-62755.jpeg"/>
          <p:cNvPicPr/>
          <p:nvPr/>
        </p:nvPicPr>
        <p:blipFill>
          <a:blip r:embed="rId1"/>
          <a:stretch/>
        </p:blipFill>
        <p:spPr>
          <a:xfrm>
            <a:off x="4438800" y="3325680"/>
            <a:ext cx="470520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http://media.ed.edmunds-media.com/non-make/carbuying/carbuying_927125_1600.jpg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http://www.northlandenterprises.com/store/images/P/30%20Day%20Buyers%20Guide.jpg"/>
          <p:cNvPicPr/>
          <p:nvPr/>
        </p:nvPicPr>
        <p:blipFill>
          <a:blip r:embed="rId1"/>
          <a:stretch/>
        </p:blipFill>
        <p:spPr>
          <a:xfrm>
            <a:off x="1905120" y="228600"/>
            <a:ext cx="51181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ran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cars have warranties from 3 years and up, with some components being covered lo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a neighbor, what’s the longest warranty you’ve heard of in an ad for a ca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cars may have some or no warra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ake It for a Spin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y to travel in town, up a steep hill, and on the high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everything is within re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thing should work properly without knocks, noises, or ratt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gotiating Your Pri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rt and the invoice price and negotiate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de-ins don’t factor into the price of the vehi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bates from the manufacturer come to you, and not from the dealer’s prof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ses can be negotiated to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uy That Car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k about the trade-in va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 a copy of everything in wr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 their ma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everything is as agreed up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re is still a problem, have the dealer sign to agree to fix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mon Law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ce you drive it home, you can’t return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s with serious defects are called lem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a car that has not be repaired after 4 attempts or 30 days out of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require a replacement or ref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http://www.lawyersonlineguide.net/wp-content/uploads/2013/02/Lemon-Law.jpg"/>
          <p:cNvPicPr/>
          <p:nvPr/>
        </p:nvPicPr>
        <p:blipFill>
          <a:blip r:embed="rId1"/>
          <a:stretch/>
        </p:blipFill>
        <p:spPr>
          <a:xfrm>
            <a:off x="6324480" y="4441680"/>
            <a:ext cx="281952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tting Priori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ly for travel/wor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pooling or a large fami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untainous region or flatland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or us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earching Makes &amp; Mod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fety – braking, handling, airba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iability – save on rep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el economy – some require premium or diesel fuel or get lower mp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 &amp; performance – slow acceleration on hills or onram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to Resear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fort &amp; convenience - more head or legroom, larger cargo a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urance rates – sporty cars usually cost m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ad tests &amp; reviews – contain the above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factors are most important to you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About the Pric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ok value – estimated value of a specific model based on condition, mileage, and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oice price – price the dealer pays for the c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 price – standard equipment on every c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tions – extras that add to the p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ill More Pri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SRP – manufacturer’s suggested retail price – includes the base price, options, and a transportation char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cker price – price the dealer wants from you – includes the MSRP, dealer added options, profit, and everything else to get the car ready for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Do I Find My Car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ate owners – any private person who sells a car with an 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ers – can sell new &amp; used or just used c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et – can be a mix of dealers and private ow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valuating the C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ometer – shows the mileage of the car; higher mileage usually means more mainte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res – check the tread depth and wear patter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ior – water damage and w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rior – rust or paint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to Evalu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ting &amp; electrical systems – heat, AC, lights, wipers, radio, MP3 pl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cal systems – fluid leaks, steering, brakes, shifting g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dy &amp; frame – new parts, mismatched paint, other accident dam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it inspected by a mecha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5:33:33Z</dcterms:created>
  <dc:creator>Nikitah Farver</dc:creator>
  <dc:description/>
  <dc:language>en-US</dc:language>
  <cp:lastModifiedBy>Nikitah Farver</cp:lastModifiedBy>
  <dcterms:modified xsi:type="dcterms:W3CDTF">2014-04-14T16:33:55Z</dcterms:modified>
  <cp:revision>3</cp:revision>
  <dc:subject/>
  <dc:title>Shopping for a Car</dc:title>
</cp:coreProperties>
</file>