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BC8-A965-4B23-8E99-948F517F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DE0-5CDC-408A-B292-2A03F5AC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B45D-CB75-48FA-A003-896FBD5B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079-845D-4936-BE83-F6892F2D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195-C200-4173-9871-EC1100AA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32C1-DF4C-4F4F-A41F-9C04DF4C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B2D0-9185-498C-B8CF-4704D6C7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0B7E-198E-49C3-A43D-C1B85414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7FFF-1069-4ED2-9B5F-C93B02D9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D619-3A41-43B0-A529-C908CD2A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9974-99AB-41C1-8899-D9987C17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85F-03A0-45BC-ACDF-D59747A0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C9BB-8BE1-4804-82EF-B2C511C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88B-FDF7-4F69-A3FD-195FDF7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C9E6-D953-4A29-AF97-D4FCFCF8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90FF-5313-4A80-8D22-1CE27333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6DC-C4A1-4260-9624-199CF27E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539-7856-4BAC-A10B-31E4C72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B23-FD2F-4F97-AA8C-0270D377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976-293F-4D57-A4DE-18E6D028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7B9-8C40-4E04-8E20-57FF4116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BE1-83FF-4B77-B004-2151BB6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6FE-5DE4-453D-9A0C-8519F113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407-0467-400E-BE91-E7AB360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F9CC-6CF0-4C58-8044-A978997FC1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5A66-1198-4A10-B9BB-82CBE2CEBA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opping for a C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http://static.cargurus.com/images/site/2008/06/09/18/01/2006_dodge_viper_srt-10_2dr_coupe-pic-62755.jpeg"/>
          <p:cNvPicPr/>
          <p:nvPr/>
        </p:nvPicPr>
        <p:blipFill>
          <a:blip r:embed="rId1"/>
          <a:stretch/>
        </p:blipFill>
        <p:spPr>
          <a:xfrm>
            <a:off x="4438800" y="3325680"/>
            <a:ext cx="470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media.ed.edmunds-media.com/non-make/carbuying/carbuying_927125_1600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http://www.northlandenterprises.com/store/images/P/30%20Day%20Buyers%20Guide.jpg"/>
          <p:cNvPicPr/>
          <p:nvPr/>
        </p:nvPicPr>
        <p:blipFill>
          <a:blip r:embed="rId1"/>
          <a:stretch/>
        </p:blipFill>
        <p:spPr>
          <a:xfrm>
            <a:off x="1905120" y="228600"/>
            <a:ext cx="5118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cars have warranties from 3 years and up, with some components being covered l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 neighbor, what’s the longest warranty you’ve heard of in an ad for a c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ars may have some or no warra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e It for a Spi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travel in town, up a steep hill, and on the high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within r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should work properly without knocks, noises, or rat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gotiating Your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and the invoice price and negotiate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e-ins don’t factor into the price of the veh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ates from the manufacturer come to you, and not from the dealer’s pro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ses can be negotiated 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 That Car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about the trade-in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a copy of everything in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ir m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as agreed up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re is still a problem, have the dealer sign to agree to fix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mon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you drive it home, you can’t retur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s with serious defects are called lem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 car that has not be repaired after 4 attempts or 30 days out o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require a replacement or ref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http://www.lawyersonlineguide.net/wp-content/uploads/2013/02/Lemon-Law.jpg"/>
          <p:cNvPicPr/>
          <p:nvPr/>
        </p:nvPicPr>
        <p:blipFill>
          <a:blip r:embed="rId1"/>
          <a:stretch/>
        </p:blipFill>
        <p:spPr>
          <a:xfrm>
            <a:off x="6324480" y="4441680"/>
            <a:ext cx="2819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tting Prior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for travel/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pooling or a large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untainous region or flatla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or us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earching Makes &amp;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– braking, handling, airba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ability – save on re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el economy – some require premium or diesel fuel or get lower m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&amp; performance – slow acceleration on hills or onr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Resear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 &amp; convenience - more head or legroom, larger cargo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rance rates – sporty cars usually cost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 tests &amp; reviews – contain the abov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are most important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bout the Pric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k value – estimated value of a specific model based on condition, mileage, and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ice price – price the dealer pays for the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price – standard equipment on every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s – extras that add to th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RP – manufacturer’s suggested retail price – includes the base price, options, and a transportation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cker price – price the dealer wants from you – includes the MSRP, dealer added options, profit, and everything else to get the car ready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 I Find My Ca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owners – any private person who sells a car with an 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ers – can sell new &amp; used or just used c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– can be a mix of dealers and private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aluating the C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ometer – shows the mileage of the car; higher mileage usually means more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res – check the tread depth and wear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ior – water damage and w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ior – rust or paint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Evalu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ting &amp; electrical systems – heat, AC, lights, wipers, radio, MP3 p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systems – fluid leaks, steering, brakes, shifting g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&amp; frame – new parts, mismatched paint, other accident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t inspected by a mech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5:33:33Z</dcterms:created>
  <dc:creator>Nikitah Farver</dc:creator>
  <dc:description/>
  <dc:language>en-US</dc:language>
  <cp:lastModifiedBy>Nikitah Farver</cp:lastModifiedBy>
  <dcterms:modified xsi:type="dcterms:W3CDTF">2014-04-14T16:33:55Z</dcterms:modified>
  <cp:revision>3</cp:revision>
  <dc:subject/>
  <dc:title>Shopping for a Car</dc:title>
</cp:coreProperties>
</file>