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4E3-8A19-4F02-BBBB-AD5FE905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C10-3C77-4735-9070-8E610D91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1A1-DE2A-43FF-9BE4-D4645E60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7884-26E3-496B-9EE1-13722752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5FA-822D-45B8-A6A0-C496F713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38E-931C-43B2-A432-4F1E25C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9D3-DEC1-406A-92C4-E3667440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CCF-2252-4FA5-A3BD-2FC42143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9E2-E196-4AD3-B633-340554F1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86D-3780-4072-BE96-068C9D0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D3D-85C6-452B-9AAE-1E310ECB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6AC-2120-48D2-858A-D99DE20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DDF5F-9756-4B68-87EC-C68889F7B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39640"/>
            <a:ext cx="864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st of Ownership Activ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omplete the worksheet on finding the cost of ownership for the new car you created in a previous clas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20:41:00Z</dcterms:created>
  <dc:creator>Mike Farver</dc:creator>
  <dc:description>Presentation Layout Template</dc:description>
  <dc:language>en-US</dc:language>
  <cp:lastModifiedBy/>
  <cp:revision>1</cp:revision>
  <dc:subject/>
  <dc:title>Tunnel</dc:title>
</cp:coreProperties>
</file>