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A8D-C60A-4303-863E-3D18AD58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0C6-8360-450D-94A5-748996AC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81D-35F4-4ED4-9F8D-351BBC12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F2A-73DF-4A77-A47F-AD15DB7A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51F-C2A8-40C0-AF1B-D9CB812F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FD0-5FFC-414A-B962-8D9FD5FE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43B-FA47-415B-ABA7-AE4591EC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11B-AAF7-4E4F-93F7-86A06CA0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57B-11C9-4767-A99C-A07F0F8A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FC5-7883-4C3A-96D3-160B1FA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74A-AAB2-45E5-A456-0E48C64F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53E-01CF-482C-AACB-000CCF46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6080" y="630072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9280" y="6318360"/>
            <a:ext cx="3220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1720" y="63183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FCC8A-6A4C-4748-AAAB-D595BB333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39640"/>
            <a:ext cx="8640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0788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st of Ownership Activ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omplete the worksheet on finding the cost of ownership for the new car you created in a previous clas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20:41:00Z</dcterms:created>
  <dc:creator>Mike Farver</dc:creator>
  <dc:description>Presentation Layout Template</dc:description>
  <dc:language>en-US</dc:language>
  <cp:lastModifiedBy/>
  <cp:revision>1</cp:revision>
  <dc:subject/>
  <dc:title>Tunnel</dc:title>
</cp:coreProperties>
</file>