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0AEE-684C-4F77-8A3B-83D1ABFDA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7F7E-F218-4059-AA3C-6CB8D084A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8B31-4F45-4DF0-977C-81DE6FDA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257-27F5-447B-A48C-3670C977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44631-17D3-4D3A-8B20-5616573F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66DE5-5225-4E6E-8A7B-C3851F11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30BF9-3D91-4ADC-A89B-630E675D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F4A0D-682C-4A7F-A078-E3CCC4BF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1C9F3-2F74-4C51-9DAA-3BC8304B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07000-F412-4632-ACAE-B857300A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BDE75-703F-41E0-A7CC-9C6D4B5A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E5D4C-70D4-458E-BF27-081A5825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2C80D-931D-4C8E-9F71-41149270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AB6-9742-43A8-8759-83B96D80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074-A67C-46F1-A89A-199FAFB3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E1F4-CADF-49C6-9F3F-25C9A64E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E8B4-1AF7-43EC-AB2C-DA7FC244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D3DA-0067-455C-A081-366375F6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B023-0A38-4962-9AB2-B6FA171E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20D3-A7EE-4088-AF87-05940BA6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3477-FAD1-48D9-BD4D-70EF5609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6DF2-12F1-48FC-813A-DD38A796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973-3FB4-47D8-909E-802D4076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A92F-3BB2-4D8A-96A2-3ED9012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E632-2E62-43AB-A2E1-3F1734BD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303B-2940-4C94-8D8B-9D64661D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C63A-317E-4047-AE15-29C5588D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618C-1BE8-4225-9ABE-47CCBDF1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A72C5-D6DC-41EC-9904-F2A941AD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B939C-79C9-4B21-A545-5B2ED18F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2275-7609-4F08-A30D-95AB2BC3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0327-B40B-4A5D-9C03-D29E2913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6044-96D0-4A7F-A7E7-D21AC8C7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7EB-ADA5-44CE-80B5-D2850DBE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2A94-49BF-4C71-A0FB-E1819B97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0100-DCB8-439D-8011-15C71F49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BB74-C6F8-4C14-BCBB-453CF192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57DA-EEFC-44FC-8480-8DD5330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7B71-4101-451C-8FA9-A88C2C4C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F1C4A-7F42-4BF0-A114-788819E2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80AA-5936-4933-9A25-F24548CF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1685E-D070-4C94-8529-0A0D1927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53062-126B-44D6-BD6C-BC046075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7F1A9-44A2-48EF-B03A-C05700B5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FAE-7741-4EBA-A407-AE54226F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B315-8789-4D19-90AB-14477D72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E207-F210-44ED-BFAB-B91F4AA2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96985-2EDC-465B-A814-8CF450AA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6305E-B256-4916-A397-18982E0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AE91-649D-42F9-BE4B-A1127BD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2F2A-79FB-43F4-8003-16F1C598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9A16C-2510-42B7-BD26-6733DA3B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97CB7-3562-48F1-B078-8E18AF90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32C3-EEA4-46D6-B2AD-998F2F39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71E19-9195-4713-AAA1-0B278E5A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E84-FB3A-481A-98CF-CE4B9E33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78301-356E-480E-932F-4F2CE155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84066-E211-45C7-9DB1-B6A80F85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7138-0DD7-4579-B003-FBA1712C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49072-E1E4-474D-8A5F-DA1D5B33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28E13-5BF9-40EA-AA0E-2941C873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DE5F7-F9A7-4F03-A87B-5062323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E3A53-E471-4080-87D3-5ADAD97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59ED8-A76C-4845-BE4D-699F344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8248C-F88D-4578-B230-1B8BA0F6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ACCF2-7A74-4660-B4A6-27392990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216-7287-4AF3-A6E7-A0DDEDAE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4D823-988E-4603-8732-91BF9954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0C6BE-8017-4FE2-98BF-322787B4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80A2B-34E6-4E7B-AFBB-9E879EFF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34644-2E13-4217-9DED-A5CE3B8D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01357-DF30-4DF4-BCC6-1AE818EA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27E53-E0BC-4B60-BD1A-6C5D0141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3E554-88D4-4A76-9695-2743EC31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B7218-96F5-4223-B283-9ED85431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A1C0B-FAD4-4779-9E04-C5C40F7B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107CF-1563-4628-90E5-2513DDE4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71D-F5B3-4C6A-8DE8-BA9E495F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5491D-14D1-480C-A428-28E18989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F4DA4-571D-4459-A36F-0D501830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3B8D9-EABB-4C92-8FE8-617DDE6B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DF42D-CD96-46CA-B28F-9644AE50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89AA3-94D3-4C73-9DFB-9D073858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26E66-F999-49F3-A70A-B2EF35AA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EA2F4-8756-4E0A-88B8-2B0065A6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1293F-0306-4AAB-B253-D1805768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2541-33C6-4EF4-889E-566112BC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0687A-056D-41B3-B0D1-B7AEAF53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38B-D0D8-4286-B8D5-3172C9D5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F173-5F69-4780-A555-DF1E0DF6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CF91C-4916-4579-94D2-E726A18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CDCF4-15DC-45B7-8A02-800155F7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5AB35-748B-46BB-ACFE-D9548680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6240F-1707-43AC-90A6-74F3D462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E5F9B-E2D6-4E83-AFEC-94386AEA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77528-E08F-4203-8A7E-52FFEED2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6885B-3869-4950-B48E-C8D25991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560B3-B0ED-4822-BDE9-1A4E8587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E29AD-7C99-488C-92C7-670E5450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0C3-6377-4877-BC2A-9DF38925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A5AB2-D0A5-45D2-BD45-4B8EE6B2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A0BFC-EB0A-4CD2-AD84-09BB663B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1D94A-A6D7-4EBD-81B8-1224338E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22854-4420-469C-8788-167F36BA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C0CF4-E859-4375-881C-E5A53E67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E0A70-8854-459C-A729-AB1A9DF4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2821B-3963-447E-B58D-5897948C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75594-C424-4AE1-8EC1-98BF9FD1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798CD-4F1D-4CA0-8A7D-F0C6300B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7F50B-6A89-469C-9F20-B5B66B97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086C-89E6-4432-A7A8-4156B00B060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C945-0DEF-4FB5-B22E-506F987EE03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2BB4-7FEF-46B3-9CF0-BD6AD6FE3B0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540F-F0B7-479D-BEF1-DDF79147EE7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CE20-F93F-4B5B-9806-F2A15587319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B1F0-EC2E-4962-A61A-2C2290CE65B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1E86-4DBE-4D62-8ED9-05F90E408E0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5E5C-2C6C-4AD3-9D59-3D071ED1D08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5C94-C218-46E2-837A-CA8D14AFB6A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Chapter 19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Section 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intenance schedule – timetable for routine servicing &amp; checking or replacing par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cated in the owner’s manua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http://cheapoilchange.net/wp-content/uploads/2010/04/oil-change.jpg"/>
          <p:cNvPicPr/>
          <p:nvPr/>
        </p:nvPicPr>
        <p:blipFill>
          <a:blip r:embed="rId2"/>
          <a:stretch/>
        </p:blipFill>
        <p:spPr>
          <a:xfrm>
            <a:off x="2717640" y="3809880"/>
            <a:ext cx="31878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indshield washer fluid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ngine oil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ransmission fluid – usually doesn’t need changed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Brake fluid – usually doesn’t need changed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ire pressur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ntifreeze – every few yea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Battery – every 5 – 7 yea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Ligh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http://blog.allstate.com/wp-content/uploads/2012/06/53114d7424b38c0b7287fd05d3a1f772.jpg"/>
          <p:cNvPicPr/>
          <p:nvPr/>
        </p:nvPicPr>
        <p:blipFill>
          <a:blip r:embed="rId2"/>
          <a:stretch/>
        </p:blipFill>
        <p:spPr>
          <a:xfrm>
            <a:off x="488880" y="1600200"/>
            <a:ext cx="8045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alerships, service stations, garages, retail cent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at are some examples from the area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 they warranty their work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venient hour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aner vehicle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clude labor and parts in i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can’t exceed the cost without your permiss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2" descr="https://lh6.googleusercontent.com/-3utt_Vx_EbM/Ud78tr39m3I/AAAAAAAABwU/u_YQfz7DP7Q/s0/photo.jpg"/>
          <p:cNvPicPr/>
          <p:nvPr/>
        </p:nvPicPr>
        <p:blipFill>
          <a:blip r:embed="rId2"/>
          <a:stretch/>
        </p:blipFill>
        <p:spPr>
          <a:xfrm>
            <a:off x="2971800" y="2746440"/>
            <a:ext cx="61722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w – from the manufacturer or their suppli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built or reconditioned – used part that has been repair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Your warranty may not cover using new parts for repair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2" descr="http://www.wegotused.com/wp-content/themes/mymag/images/logoHarrys.jpg"/>
          <p:cNvPicPr/>
          <p:nvPr/>
        </p:nvPicPr>
        <p:blipFill>
          <a:blip r:embed="rId2"/>
          <a:stretch/>
        </p:blipFill>
        <p:spPr>
          <a:xfrm>
            <a:off x="2819520" y="4648320"/>
            <a:ext cx="3276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rs are often recall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nufacturer’s request for owners to bring their car to a dealer for free repai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ually mailed to you, but also broadcast on the new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mpany’s website will let you check to see if you are effect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2" descr="http://localtvwhotv.files.wordpress.com/2013/01/gm-car-recall.jpg?w=402"/>
          <p:cNvPicPr/>
          <p:nvPr/>
        </p:nvPicPr>
        <p:blipFill>
          <a:blip r:embed="rId2"/>
          <a:stretch/>
        </p:blipFill>
        <p:spPr>
          <a:xfrm>
            <a:off x="4952880" y="4834080"/>
            <a:ext cx="3600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member, you’re driving more than 2,000 pounds of ca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now the traffic laws in the are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at laws might be different?  Talk with your neighb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ocus on driving and be aler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uckle up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rive smoothly for better mileage and less wear and tea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6:35:39Z</dcterms:created>
  <dc:creator>End User</dc:creator>
  <dc:description/>
  <dc:language>en-US</dc:language>
  <cp:lastModifiedBy>End User</cp:lastModifiedBy>
  <dcterms:modified xsi:type="dcterms:W3CDTF">2014-04-28T16:16:53Z</dcterms:modified>
  <cp:revision>6</cp:revision>
  <dc:subject/>
  <dc:title>Vehicle Ownership</dc:title>
</cp:coreProperties>
</file>