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F4C1-1E63-44F1-871C-AAD02E045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9E23-2E86-4CFB-9E99-212DB28F5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3BFA-CA2D-4267-9CAC-374BD396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3E0-CCE1-4FAA-BCC2-83C0C377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E50A8-28EA-44F5-8DA4-F86E64FE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7D1FE-555C-41BA-BDAF-C52F9809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21A3F-EEF3-4DF8-8393-607A635E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5CFC9-05CD-4026-8A67-4F2BA87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CD173-7605-4528-B117-87ADF08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7BAC9-628A-4D1D-AC87-40B8839C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B48DD-5F94-420F-B8DD-E72E93DE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C0246-52B7-4C1F-BA08-E6AC7449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142E3-205A-4881-83AF-0761F996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274-DE55-40F5-A29B-1B516D6F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3CB-4B45-40CA-B28C-F1F97DB1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72D7-6A3D-42F2-8390-CCDAF7EF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BB39-B0A5-4A9A-843C-5DA986AC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25BA-8A8F-498F-87D7-BEAFDFF3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843A-0FDD-4584-8D55-DCB8845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A754-A54E-4282-B031-F05133FB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F7F1-F92D-4954-917C-6C559A38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AF6B-CEC4-4E9C-9660-84B42EDA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FF7-D18B-4A24-B943-9A55C59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9505-FB31-4BC6-973D-7689777F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6A71-B2B7-4958-80B0-040374E2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750E-85E2-46BC-B96D-62935626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8353-B714-4A89-8A55-25683A9D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A7FF-C188-4CF7-8D9A-AC070DC7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8FAF-DC17-4214-918B-409E90B3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9E717-D23E-4D84-9875-0C297D7D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8E6D-47C5-4D9E-A402-1512C6BE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B87F-31BF-4A32-A995-FFEC693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62006-5FFE-4252-A03B-78DA1CC8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B7F-525F-44CE-84AA-633B811B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EBED-3CC6-45CF-9066-1F2F1863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26BD-5FDB-423C-8B5E-6F1AC56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8F33-D9AA-4001-9B94-8051AD85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8A36-4F0B-497A-B1E3-E42F1E19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740E4-17EF-40A0-9FBC-7CEDD2DD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DDFBB-C287-475E-B48E-32598D5B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0FE2-14F0-487C-9C24-E0430532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62DE5-4021-4301-ADB1-FC3428A1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4AB0-CFD5-4614-BB63-86FE69BC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3A48-7CFA-4814-8BFD-CAFB359D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B90-3514-4B85-AE99-3F348568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48FD-A415-4B45-B03E-40E23291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317D-D437-4619-8192-6C2677C3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1ECB-A051-4772-8555-586C45B1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424B0-12DA-4D72-B264-3584D77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A6A08-3037-49E5-BE0A-30CD512B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4FAED-9174-487F-9BF4-53481389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DF91-AC37-4D0F-A7D8-209D1D31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5B99-E6F6-4261-9502-18B9F2E1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FD8A4-25F7-41B2-BC5A-4144B250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EA12-CF79-4ADD-ABAA-46AD5971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468-93C1-4675-AA70-553CC800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0F58E-529C-484D-A1F5-49E99119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B3042-B093-4593-AAC8-ADFAE10B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5209-1B7E-4AAA-B6A1-8A08EF31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C4D3-B540-48D8-B0D9-79F30A76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57AA-86D1-46D6-85C5-9514B26F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B16C-E652-407A-8CF5-93621F59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34879-0BFC-4A35-9BC5-000B77A1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FFBAA-ECF7-46B6-B946-D4F5E30A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CFCC3-8C32-4DF7-AFFE-0F70661F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BFAF5-E7AA-47DB-8678-4FDB5303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96C-0567-4C25-B8D3-862233BC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11EB3-5617-4B73-9D54-10B54211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42FB7-AAD4-4A18-9F2F-8F3F24F1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F1D80-817A-4DC4-A75A-16BE0F32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9C0C-765F-4DB3-BBEE-DD348136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8D8E6-7B86-4886-8E2F-72787B32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B374C-CAC6-42D2-9158-3F6CE64C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A1FCF-D392-4C1D-882B-FBDB2361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11F1-3B6A-4A83-BEAE-36C8F12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BCA6B-D316-4156-A6D5-F295171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B75C9-9C7A-4C09-B8C0-211DFBE0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FDC-7FD2-4A20-BADE-6298A97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620F9-100B-4C53-88BD-7A693E7E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F628-56B4-46F1-AE5A-CAE470A1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2DE40-6AFB-41FD-9974-0FBBB2E2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22621-7728-4747-8E86-6D491BD5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97ECF-A13D-40E4-B6C3-F776A394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586AC-D0A4-4C7F-9979-30E1E10B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783F2-C27C-4CCF-B8CF-3632BD90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ADE0E-6377-45A6-B872-C0C7E8D4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4F747-A1F6-40FE-A068-26C196A6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04E89-E99B-4D92-A287-A2462BD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3D2A-D2F1-4EDB-993C-84FB501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B336A-3944-48A0-8B96-1881FEA6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71223-2A98-4E8E-8CE6-91ED1AA2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09769-7E46-4D06-AB92-2C1D7F88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8FF9C-4491-4FC9-9CBD-6AF94602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F372A-AA42-4681-B0FD-15D3D9BF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E8240-D6F6-4230-981D-DC910990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071C7-93ED-4D83-A4F8-37FEC2FA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ED81C-52B2-4352-A839-86DD86E7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CDEEE-F285-4848-8E91-C50D7F84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25B00-D5D2-4FDF-A175-5E1405EE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0CE-3A8B-4928-891D-0B3D9575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1DA4C-6346-4665-BA7C-267107C7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B01A0-C05F-4C08-88B6-BB77C1C1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A50CF-53D6-4802-8106-237DE6B4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506B4-C4E9-41E0-B7C4-F9D345CC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C7575-698C-49FF-A831-F9E268CA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A4B85-97C8-4041-99DE-01BADACA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4E633-7834-40AA-98A2-A3D0A5CA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FEDC1-1A95-4D0E-B220-6B712F31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79D86-0B36-47EB-BC6E-820658C7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A21A3-F3E6-4462-80D6-A102041C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2A71-D35E-4C72-9CFC-E4D380916FB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0A88-0A2D-41D8-A5F5-1A6EF8AF490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9561-3D70-4083-8F4B-940FC4DB475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5CD5-B3FB-4217-BC58-60EA816E7BF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5C3C-F8A5-4012-B2A8-43ECF86D6D5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5A6A-5D47-4566-A781-E5D64F7AC55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DB50-D078-466A-B661-E6C5956AC88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9A85-E191-4F38-87FF-9B71279036D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ECDF-1623-479D-A89D-CA02CE15EEA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Chapter 19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Section 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intenance schedule – timetable for routine servicing &amp; checking or replacing par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cated in the owner’s manua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http://cheapoilchange.net/wp-content/uploads/2010/04/oil-change.jpg"/>
          <p:cNvPicPr/>
          <p:nvPr/>
        </p:nvPicPr>
        <p:blipFill>
          <a:blip r:embed="rId2"/>
          <a:stretch/>
        </p:blipFill>
        <p:spPr>
          <a:xfrm>
            <a:off x="2717640" y="3809880"/>
            <a:ext cx="318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indshield washer fluid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ngine oil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ransmission fluid – usually doesn’t need changed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Brake fluid – usually doesn’t need changed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ire pressur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ntifreeze – every few yea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Battery – every 5 – 7 yea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Ligh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blog.allstate.com/wp-content/uploads/2012/06/53114d7424b38c0b7287fd05d3a1f772.jpg"/>
          <p:cNvPicPr/>
          <p:nvPr/>
        </p:nvPicPr>
        <p:blipFill>
          <a:blip r:embed="rId2"/>
          <a:stretch/>
        </p:blipFill>
        <p:spPr>
          <a:xfrm>
            <a:off x="488880" y="1600200"/>
            <a:ext cx="804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lerships, service stations, garages, retail cen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 are some examples from the area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 they warranty their work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venient hour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aner vehicle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lude labor and parts in i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can’t exceed the cost without your permiss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2" descr="https://lh6.googleusercontent.com/-3utt_Vx_EbM/Ud78tr39m3I/AAAAAAAABwU/u_YQfz7DP7Q/s0/photo.jpg"/>
          <p:cNvPicPr/>
          <p:nvPr/>
        </p:nvPicPr>
        <p:blipFill>
          <a:blip r:embed="rId2"/>
          <a:stretch/>
        </p:blipFill>
        <p:spPr>
          <a:xfrm>
            <a:off x="2971800" y="2746440"/>
            <a:ext cx="61722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w – from the manufacturer or their suppli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built or reconditioned – used part that has been repair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Your warranty may not cover using new parts for repair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2" descr="http://www.wegotused.com/wp-content/themes/mymag/images/logoHarrys.jpg"/>
          <p:cNvPicPr/>
          <p:nvPr/>
        </p:nvPicPr>
        <p:blipFill>
          <a:blip r:embed="rId2"/>
          <a:stretch/>
        </p:blipFill>
        <p:spPr>
          <a:xfrm>
            <a:off x="2819520" y="4648320"/>
            <a:ext cx="3276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rs are often recall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nufacturer’s request for owners to bring their car to a dealer for free repai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ually mailed to you, but also broadcast on the new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pany’s website will let you check to see if you are effect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2" descr="http://localtvwhotv.files.wordpress.com/2013/01/gm-car-recall.jpg?w=402"/>
          <p:cNvPicPr/>
          <p:nvPr/>
        </p:nvPicPr>
        <p:blipFill>
          <a:blip r:embed="rId2"/>
          <a:stretch/>
        </p:blipFill>
        <p:spPr>
          <a:xfrm>
            <a:off x="4952880" y="4834080"/>
            <a:ext cx="3600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member, you’re driving more than 2,000 pounds of ca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now the traffic laws in the are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 laws might be different?  Talk with your neighb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ocus on driving and be aler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uckle up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rive smoothly for better mileage and less wear and tea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6:35:39Z</dcterms:created>
  <dc:creator>End User</dc:creator>
  <dc:description/>
  <dc:language>en-US</dc:language>
  <cp:lastModifiedBy>End User</cp:lastModifiedBy>
  <dcterms:modified xsi:type="dcterms:W3CDTF">2014-04-28T16:16:53Z</dcterms:modified>
  <cp:revision>6</cp:revision>
  <dc:subject/>
  <dc:title>Vehicle Ownership</dc:title>
</cp:coreProperties>
</file>