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027-EDF7-4094-93DA-2233A50E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0A3-D560-474B-886F-F684946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7B3-E468-4182-A57B-38CCA1F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9E7-693A-419C-A708-F8D7E6F9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5AA-02A4-4415-8EAA-C0FACB67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1827-9782-4F47-9EE2-A7E99D9D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920F-BEE1-4877-998D-D63FF71B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5927-EE02-47DD-B94A-B2FB5D46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B919-DF1B-4A9E-80E6-8E0FE08F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52FA-B41A-4B1B-B86F-52ED04C8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4C58-C89A-4502-A9D4-1AD374BA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DA6-F5CC-4FEF-9DC8-25B44C55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F24-06E0-4BF0-BB50-204825E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9A18-A559-453C-9485-62C881E0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5DDE-7880-4FE2-A38E-E394A857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E929-8B1F-4F43-A197-A554F561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F67C-7E4C-4BEC-AEF7-41D02A20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1A5-4004-40DE-8103-4C3576D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A8A-0595-4560-9BC7-2975C64A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FFB-4765-4446-95AC-D7250DAB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05A-1FAE-490B-9401-3EF85CA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BB2-CD8E-4690-9FEB-69C43013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9A1-E06C-43BB-861D-8169BE77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C4F-F889-40CF-B559-FF82E55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B125-349C-4AA5-96AF-398F8AC3D5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650D-ABF2-45E2-9BDE-0FB9FAD7F3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mon Java Erro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istyping a Method Nam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riding a meth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efault method would be called inst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code is never used, but no errors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lling a method that does not exist will generate an err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son vs. Assign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 in place of ==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ent data types will generate an err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e data type will overwrite the valu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gic error in progra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mparing Objec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ing == instead of .equals for an Obje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never equal – 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error gene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assing by Value or Referen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Valu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pies the value into another memory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itive data types by defau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Refer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s the pointer to the object; no copy ma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are using original data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Java is 0 indexe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ings and arrays start counting at 0, not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other values are 1 less than exp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xOutOfBoundsException will be generated if you go ov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apitalization Rul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methods and variables start with lowercase let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new word means a ca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el cas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mport Statement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ort statements let you use other classes than the defau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rror generated when compil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5T02:27:02Z</dcterms:created>
  <dc:creator>Nikitah Farver</dc:creator>
  <dc:description/>
  <dc:language>en-US</dc:language>
  <cp:lastModifiedBy>Nikitah Farver</cp:lastModifiedBy>
  <dcterms:modified xsi:type="dcterms:W3CDTF">2014-04-15T02:32:18Z</dcterms:modified>
  <cp:revision>2</cp:revision>
  <dc:subject/>
  <dc:title>Common Java Errors</dc:title>
</cp:coreProperties>
</file>