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8BF405-5B07-4525-A329-526109C989B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4986360"/>
            <a:ext cx="818028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818028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2920" y="2716200"/>
            <a:ext cx="818028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D530E6-1910-4F51-A8D8-0CDADCEC3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2920" y="4986360"/>
            <a:ext cx="818028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399168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4400" y="530280"/>
            <a:ext cx="399168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2920" y="2716200"/>
            <a:ext cx="399168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4400" y="2716200"/>
            <a:ext cx="399168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B11503-BD1A-4121-BED4-843B6359E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2920" y="4986360"/>
            <a:ext cx="818028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263376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68800" y="530280"/>
            <a:ext cx="263376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4680" y="530280"/>
            <a:ext cx="263376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2920" y="2716200"/>
            <a:ext cx="263376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68800" y="2716200"/>
            <a:ext cx="263376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4680" y="2716200"/>
            <a:ext cx="263376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A2733A-258B-4378-A77A-8AFB940A46C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259698-DC84-432B-85E1-A470F6C7628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2920" y="4986360"/>
            <a:ext cx="818028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2920" y="530280"/>
            <a:ext cx="818028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7B9727-5742-490B-ABB6-EB3EFC89D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2920" y="4986360"/>
            <a:ext cx="818028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8180280" cy="41846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F967BE-F5FD-4756-B576-423FE81A5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2920" y="4986360"/>
            <a:ext cx="818028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3991680" cy="41846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4400" y="530280"/>
            <a:ext cx="3991680" cy="41846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FB3B84-A5FA-41DB-8310-704D77F19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2920" y="4986360"/>
            <a:ext cx="818028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C03B1E-EF98-471A-9853-9429DF464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2920" y="4986360"/>
            <a:ext cx="8180280" cy="48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6A5081-D9FE-4786-A560-FD0639271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2920" y="4986360"/>
            <a:ext cx="818028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399168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4400" y="530280"/>
            <a:ext cx="3991680" cy="41846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2920" y="2716200"/>
            <a:ext cx="399168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4A3754-5D8F-439A-8B75-B8E10C58E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4986360"/>
            <a:ext cx="818028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2920" y="530280"/>
            <a:ext cx="818028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09F89E-BD21-4E30-B359-77F045D2A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2920" y="4986360"/>
            <a:ext cx="818028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3991680" cy="41846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4400" y="530280"/>
            <a:ext cx="399168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4400" y="2716200"/>
            <a:ext cx="399168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8F7B87-3069-449E-AA7A-2FD95F4CA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2920" y="4986360"/>
            <a:ext cx="818028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399168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4400" y="530280"/>
            <a:ext cx="399168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2920" y="2716200"/>
            <a:ext cx="818028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FCC77C-7E31-4E65-8DAF-C9A5A8208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2920" y="4986360"/>
            <a:ext cx="818028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818028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2920" y="2716200"/>
            <a:ext cx="818028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53CB33-7604-4E43-8421-9A9C7D998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2920" y="4986360"/>
            <a:ext cx="818028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399168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4400" y="530280"/>
            <a:ext cx="399168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2920" y="2716200"/>
            <a:ext cx="399168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4400" y="2716200"/>
            <a:ext cx="399168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0965A1-0C8E-4B37-B34B-187AA9083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2920" y="4986360"/>
            <a:ext cx="818028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263376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68800" y="530280"/>
            <a:ext cx="263376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4680" y="530280"/>
            <a:ext cx="263376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2920" y="2716200"/>
            <a:ext cx="263376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68800" y="2716200"/>
            <a:ext cx="263376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4680" y="2716200"/>
            <a:ext cx="263376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7D26B1-EE85-403C-9C6D-B5F96CFDBF9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8F940-3EDB-461A-9E0F-009826C16AC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2920" y="4986360"/>
            <a:ext cx="818028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2920" y="530280"/>
            <a:ext cx="818028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8736E-0789-4FAB-8E19-39E338A55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2920" y="4986360"/>
            <a:ext cx="818028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8180280" cy="41846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4AC2E-8B4E-4F26-AEB9-765DE5B27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2920" y="4986360"/>
            <a:ext cx="818028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3991680" cy="41846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4400" y="530280"/>
            <a:ext cx="3991680" cy="41846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CD8E5-2969-46DA-A958-6013F06AE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2920" y="4986360"/>
            <a:ext cx="818028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B5F2B-250C-4281-8894-324CA0537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2920" y="4986360"/>
            <a:ext cx="818028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8180280" cy="41846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8CA576-45FE-4A95-9A06-17065FB62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2920" y="4986360"/>
            <a:ext cx="8180280" cy="48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764C3-BE8B-4716-9B8E-61B7A56B4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2920" y="4986360"/>
            <a:ext cx="818028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399168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4400" y="530280"/>
            <a:ext cx="3991680" cy="41846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2920" y="2716200"/>
            <a:ext cx="399168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5ADB5-3956-49A8-A8B2-29F2EB454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2920" y="4986360"/>
            <a:ext cx="818028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3991680" cy="41846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4400" y="530280"/>
            <a:ext cx="399168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4400" y="2716200"/>
            <a:ext cx="399168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6E232-B747-4129-9599-DEF2B1278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2920" y="4986360"/>
            <a:ext cx="818028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399168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4400" y="530280"/>
            <a:ext cx="399168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2920" y="2716200"/>
            <a:ext cx="818028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8A04E-A575-47CD-B387-0275B8D5C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2920" y="4986360"/>
            <a:ext cx="818028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818028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2920" y="2716200"/>
            <a:ext cx="818028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6A1A9-9278-4AA0-9323-7266999E7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2920" y="4986360"/>
            <a:ext cx="818028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399168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4400" y="530280"/>
            <a:ext cx="399168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2920" y="2716200"/>
            <a:ext cx="399168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4400" y="2716200"/>
            <a:ext cx="399168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4A564-F11B-40C0-BEAB-9A8E2B284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2920" y="4986360"/>
            <a:ext cx="818028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263376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68800" y="530280"/>
            <a:ext cx="263376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4680" y="530280"/>
            <a:ext cx="263376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2920" y="2716200"/>
            <a:ext cx="263376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68800" y="2716200"/>
            <a:ext cx="263376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4680" y="2716200"/>
            <a:ext cx="263376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33026-6D9F-4C66-983D-8F5AF95EE55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07CEC4B-D138-4D47-9520-083B7D8AB92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2920" y="4986360"/>
            <a:ext cx="818028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2920" y="530280"/>
            <a:ext cx="818028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1F9A1CC-2720-4608-9D94-C210EB263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2920" y="4986360"/>
            <a:ext cx="818028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8180280" cy="41846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FEBE11-537B-4BEE-A1DC-C1BB5DE62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2920" y="4986360"/>
            <a:ext cx="818028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3991680" cy="41846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4400" y="530280"/>
            <a:ext cx="3991680" cy="41846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845B7A-D5BB-48AA-95AC-1D119CE3C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2920" y="4986360"/>
            <a:ext cx="818028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3991680" cy="41846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4400" y="530280"/>
            <a:ext cx="3991680" cy="41846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4508F6C-2C27-4048-A319-86C95CEDF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2920" y="4986360"/>
            <a:ext cx="818028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12A2F9E-720D-4756-A857-E99A9A6E8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2920" y="4986360"/>
            <a:ext cx="8180280" cy="48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BB61EEC-573B-495C-8E94-57F8157F2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2920" y="4986360"/>
            <a:ext cx="818028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399168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4400" y="530280"/>
            <a:ext cx="3991680" cy="41846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2920" y="2716200"/>
            <a:ext cx="399168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9871A6E-A07B-4AE8-8946-37DBBDF0D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2920" y="4986360"/>
            <a:ext cx="818028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3991680" cy="41846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4400" y="530280"/>
            <a:ext cx="399168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4400" y="2716200"/>
            <a:ext cx="399168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21FDAD0-876E-4C63-97B7-241978C15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2920" y="4986360"/>
            <a:ext cx="818028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399168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4400" y="530280"/>
            <a:ext cx="399168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2920" y="2716200"/>
            <a:ext cx="818028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7863154-D225-4D6D-9B24-0045B5A01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2920" y="4986360"/>
            <a:ext cx="818028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818028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2920" y="2716200"/>
            <a:ext cx="818028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63780F6-3404-4E01-BE05-CB0B7D378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2920" y="4986360"/>
            <a:ext cx="818028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399168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4400" y="530280"/>
            <a:ext cx="399168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2920" y="2716200"/>
            <a:ext cx="399168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4400" y="2716200"/>
            <a:ext cx="399168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4D3FF7F-2596-4477-8CF7-D196FA3DC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2920" y="4986360"/>
            <a:ext cx="818028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263376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68800" y="530280"/>
            <a:ext cx="263376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4680" y="530280"/>
            <a:ext cx="263376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2920" y="2716200"/>
            <a:ext cx="263376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68800" y="2716200"/>
            <a:ext cx="263376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4680" y="2716200"/>
            <a:ext cx="263376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BC843A2-FB99-40BF-AB7E-5EC60065AD8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1886539-586B-4005-B005-CD7493A88F9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2920" y="4986360"/>
            <a:ext cx="818028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3E2EA4-3ADF-46BB-9392-D18D82566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2920" y="4986360"/>
            <a:ext cx="818028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2920" y="530280"/>
            <a:ext cx="818028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C0F80C3-FE98-4D46-A038-C37ABCD1A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2920" y="4986360"/>
            <a:ext cx="818028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8180280" cy="41846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6DEBC25-0587-4D75-A9D5-E474D8E98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2920" y="4986360"/>
            <a:ext cx="818028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3991680" cy="41846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4400" y="530280"/>
            <a:ext cx="3991680" cy="41846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857C5FB-6EC1-4279-AEBC-0512B9767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2920" y="4986360"/>
            <a:ext cx="818028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7CFBC48-4264-4026-B150-75308B6F7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2920" y="4986360"/>
            <a:ext cx="8180280" cy="48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3278258-012A-4EFA-ACDC-7AD38DE4A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2920" y="4986360"/>
            <a:ext cx="818028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399168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4400" y="530280"/>
            <a:ext cx="3991680" cy="41846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2920" y="2716200"/>
            <a:ext cx="399168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6FF6E26-4511-42F6-8846-480C0B7CD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2920" y="4986360"/>
            <a:ext cx="818028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3991680" cy="41846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4400" y="530280"/>
            <a:ext cx="399168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4400" y="2716200"/>
            <a:ext cx="399168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6F466DE-8CF2-447E-9CC2-905B1A363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2920" y="4986360"/>
            <a:ext cx="818028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399168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4400" y="530280"/>
            <a:ext cx="399168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2920" y="2716200"/>
            <a:ext cx="818028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E5C48B9-7D31-4B1F-B688-8FBEFFC47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2920" y="4986360"/>
            <a:ext cx="818028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818028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2920" y="2716200"/>
            <a:ext cx="818028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5E92283-53BC-40A6-9720-B42652F01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2920" y="4986360"/>
            <a:ext cx="818028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399168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4400" y="530280"/>
            <a:ext cx="399168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2920" y="2716200"/>
            <a:ext cx="399168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4400" y="2716200"/>
            <a:ext cx="399168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2BFDEB1-1C3F-41F7-9AFE-3FADCD811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2920" y="4986360"/>
            <a:ext cx="8180280" cy="48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115E86-6EAC-459A-BDE3-DEBB0C628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2920" y="4986360"/>
            <a:ext cx="818028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263376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68800" y="530280"/>
            <a:ext cx="263376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4680" y="530280"/>
            <a:ext cx="263376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2920" y="2716200"/>
            <a:ext cx="263376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68800" y="2716200"/>
            <a:ext cx="263376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4680" y="2716200"/>
            <a:ext cx="263376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8D6D907-DBB4-4575-BAA9-544A7C77BE7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4986360"/>
            <a:ext cx="818028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399168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4400" y="530280"/>
            <a:ext cx="3991680" cy="41846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2716200"/>
            <a:ext cx="399168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C25E82-7F88-420E-9BA3-68CEFDBCD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4986360"/>
            <a:ext cx="818028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3991680" cy="41846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4400" y="530280"/>
            <a:ext cx="399168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4400" y="2716200"/>
            <a:ext cx="399168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CACD09-4A29-4238-9266-1EC088E88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4986360"/>
            <a:ext cx="818028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399168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4400" y="530280"/>
            <a:ext cx="399168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2920" y="2716200"/>
            <a:ext cx="8180280" cy="1995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AAF2F2-862E-4BB8-96D0-42ADB6B1C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414360" y="426960"/>
            <a:ext cx="8312040" cy="5494320"/>
            <a:chOff x="414360" y="426960"/>
            <a:chExt cx="8312040" cy="5494320"/>
          </a:xfrm>
        </p:grpSpPr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2040" cy="549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5720" cy="541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2920" y="4986360"/>
            <a:ext cx="818028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2920" y="530280"/>
            <a:ext cx="8180280" cy="41846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spcBef>
                <a:spcPts val="2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343080" indent="-343080">
              <a:spcBef>
                <a:spcPts val="2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343080" indent="-343080">
              <a:spcBef>
                <a:spcPts val="2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343080" indent="-343080">
              <a:spcBef>
                <a:spcPts val="2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343080" indent="-343080">
              <a:spcBef>
                <a:spcPts val="2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343080" indent="-343080">
              <a:spcBef>
                <a:spcPts val="2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400" y="6111720"/>
            <a:ext cx="2282760" cy="3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2"/>
          </p:nvPr>
        </p:nvSpPr>
        <p:spPr>
          <a:xfrm>
            <a:off x="8348400" y="6111720"/>
            <a:ext cx="453960" cy="3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64C5E1-245B-4773-AB1E-CFC21DEDA13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414360" y="426960"/>
            <a:ext cx="8312040" cy="3117960"/>
            <a:chOff x="414360" y="426960"/>
            <a:chExt cx="8312040" cy="3117960"/>
          </a:xfrm>
        </p:grpSpPr>
        <p:pic>
          <p:nvPicPr>
            <p:cNvPr id="47" name="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2040" cy="311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19880" cy="30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4986360"/>
            <a:ext cx="818028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2920" y="530280"/>
            <a:ext cx="8180280" cy="41846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spcBef>
                <a:spcPts val="2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343080" indent="-343080">
              <a:spcBef>
                <a:spcPts val="2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343080" indent="-343080">
              <a:spcBef>
                <a:spcPts val="2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343080" indent="-343080">
              <a:spcBef>
                <a:spcPts val="2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343080" indent="-343080">
              <a:spcBef>
                <a:spcPts val="2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343080" indent="-343080">
              <a:spcBef>
                <a:spcPts val="2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3776400" y="6111720"/>
            <a:ext cx="2282760" cy="3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000" spc="-1" strike="noStrike">
                <a:solidFill>
                  <a:srgbClr val="a7a399"/>
                </a:solidFill>
                <a:latin typeface="Verdana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Verdana"/>
                <a:ea typeface="Arial Unicode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4"/>
          </p:nvPr>
        </p:nvSpPr>
        <p:spPr>
          <a:xfrm>
            <a:off x="8348400" y="6111720"/>
            <a:ext cx="453960" cy="3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a7a399"/>
                </a:solidFill>
                <a:latin typeface="Verdana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FC31C4-3A66-4691-9C20-A450BF17D228}" type="slidenum">
              <a:rPr b="0" lang="en-US" sz="1000" spc="-1" strike="noStrike">
                <a:solidFill>
                  <a:srgbClr val="a7a399"/>
                </a:solidFill>
                <a:latin typeface="Verdana"/>
                <a:ea typeface="Arial Unicode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414360" y="426960"/>
            <a:ext cx="8312040" cy="4349880"/>
            <a:chOff x="414360" y="426960"/>
            <a:chExt cx="8312040" cy="4349880"/>
          </a:xfrm>
        </p:grpSpPr>
        <p:pic>
          <p:nvPicPr>
            <p:cNvPr id="92" name="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2040" cy="434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48680" cy="428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2920" y="4986360"/>
            <a:ext cx="818028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2920" y="530280"/>
            <a:ext cx="8180280" cy="41846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spcBef>
                <a:spcPts val="2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343080" indent="-343080">
              <a:spcBef>
                <a:spcPts val="2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343080" indent="-343080">
              <a:spcBef>
                <a:spcPts val="2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343080" indent="-343080">
              <a:spcBef>
                <a:spcPts val="2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343080" indent="-343080">
              <a:spcBef>
                <a:spcPts val="2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343080" indent="-343080">
              <a:spcBef>
                <a:spcPts val="2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5"/>
          </p:nvPr>
        </p:nvSpPr>
        <p:spPr>
          <a:xfrm>
            <a:off x="3776400" y="6111720"/>
            <a:ext cx="2282760" cy="3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000" spc="-1" strike="noStrike">
                <a:solidFill>
                  <a:srgbClr val="a7a399"/>
                </a:solidFill>
                <a:latin typeface="Verdana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Verdana"/>
                <a:ea typeface="Arial Unicode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8348400" y="6111720"/>
            <a:ext cx="453960" cy="3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a7a399"/>
                </a:solidFill>
                <a:latin typeface="Verdana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4C36C48-B8D4-497B-A2A7-882F75C722A1}" type="slidenum">
              <a:rPr b="0" lang="en-US" sz="1000" spc="-1" strike="noStrike">
                <a:solidFill>
                  <a:srgbClr val="a7a399"/>
                </a:solidFill>
                <a:latin typeface="Verdana"/>
                <a:ea typeface="Arial Unicode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2920" y="4986360"/>
            <a:ext cx="818028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2920" y="530280"/>
            <a:ext cx="8180280" cy="41846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spcBef>
                <a:spcPts val="2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343080" indent="-343080">
              <a:spcBef>
                <a:spcPts val="2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343080" indent="-343080">
              <a:spcBef>
                <a:spcPts val="2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343080" indent="-343080">
              <a:spcBef>
                <a:spcPts val="2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343080" indent="-343080">
              <a:spcBef>
                <a:spcPts val="2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343080" indent="-343080">
              <a:spcBef>
                <a:spcPts val="2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7"/>
          </p:nvPr>
        </p:nvSpPr>
        <p:spPr>
          <a:xfrm>
            <a:off x="3776400" y="6111720"/>
            <a:ext cx="2282760" cy="3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000" spc="-1" strike="noStrike">
                <a:solidFill>
                  <a:srgbClr val="a7a399"/>
                </a:solidFill>
                <a:latin typeface="Verdana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Verdana"/>
                <a:ea typeface="Arial Unicode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sldNum" idx="8"/>
          </p:nvPr>
        </p:nvSpPr>
        <p:spPr>
          <a:xfrm>
            <a:off x="8348400" y="6111720"/>
            <a:ext cx="453960" cy="3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a7a399"/>
                </a:solidFill>
                <a:latin typeface="Verdana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EA30FB-E769-4A92-840A-D321CB8300A2}" type="slidenum">
              <a:rPr b="0" lang="en-US" sz="1000" spc="-1" strike="noStrike">
                <a:solidFill>
                  <a:srgbClr val="a7a399"/>
                </a:solidFill>
                <a:latin typeface="Verdana"/>
                <a:ea typeface="Arial Unicode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>
              <a:gd name="textAreaLeft" fmla="*/ 0 w 2324160"/>
              <a:gd name="textAreaRight" fmla="*/ 2305800 w 2324160"/>
              <a:gd name="textAreaTop" fmla="*/ 0 h 4343400"/>
              <a:gd name="textAreaBottom" fmla="*/ 4343760 h 4343400"/>
            </a:gdLst>
            <a:ahLst/>
            <a:rect l="textAreaLeft" t="textAreaTop" r="textAreaRight" b="textAreaBottom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lnTo>
                  <a:pt x="2260234" y="0"/>
                </a:lnTo>
                <a:arcTo wR="63866" hR="63866" stAng="-5400000" swAng="5400000"/>
                <a:lnTo>
                  <a:pt x="2324100" y="4343400"/>
                </a:lnTo>
                <a:lnTo>
                  <a:pt x="0" y="434340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2920" y="4986360"/>
            <a:ext cx="818028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2920" y="530280"/>
            <a:ext cx="8180280" cy="41846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spcBef>
                <a:spcPts val="2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343080" indent="-343080">
              <a:spcBef>
                <a:spcPts val="2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343080" indent="-343080">
              <a:spcBef>
                <a:spcPts val="2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343080" indent="-343080">
              <a:spcBef>
                <a:spcPts val="2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343080" indent="-343080">
              <a:spcBef>
                <a:spcPts val="2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343080" indent="-343080">
              <a:spcBef>
                <a:spcPts val="2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9"/>
          </p:nvPr>
        </p:nvSpPr>
        <p:spPr>
          <a:xfrm>
            <a:off x="3776400" y="6111720"/>
            <a:ext cx="2282760" cy="3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000" spc="-1" strike="noStrike">
                <a:solidFill>
                  <a:srgbClr val="a7a399"/>
                </a:solidFill>
                <a:latin typeface="Verdana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Verdana"/>
                <a:ea typeface="Arial Unicode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sldNum" idx="10"/>
          </p:nvPr>
        </p:nvSpPr>
        <p:spPr>
          <a:xfrm>
            <a:off x="8348400" y="6111720"/>
            <a:ext cx="453960" cy="3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a7a399"/>
                </a:solidFill>
                <a:latin typeface="Verdana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EFDB832-DCC0-4CDB-8760-7D332735D726}" type="slidenum">
              <a:rPr b="0" lang="en-US" sz="1000" spc="-1" strike="noStrike">
                <a:solidFill>
                  <a:srgbClr val="a7a399"/>
                </a:solidFill>
                <a:latin typeface="Verdana"/>
                <a:ea typeface="Arial Unicode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s://www.youtube.com/watch?v=WjeptaI2T8E" TargetMode="Externa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722160" y="1820880"/>
            <a:ext cx="77724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500" spc="-1" strike="noStrike">
                <a:solidFill>
                  <a:srgbClr val="ff8d3e"/>
                </a:solidFill>
                <a:latin typeface="Verdana"/>
              </a:rPr>
              <a:t>Logical Operators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22160" y="368460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tIns="0" anchor="t">
            <a:noAutofit/>
          </a:bodyPr>
          <a:p>
            <a:pPr marL="36360" algn="r">
              <a:lnSpc>
                <a:spcPct val="100000"/>
              </a:lnSpc>
              <a:tabLst>
                <a:tab algn="l" pos="0"/>
                <a:tab algn="l" pos="36360"/>
                <a:tab algn="l" pos="493560"/>
                <a:tab algn="l" pos="950760"/>
                <a:tab algn="l" pos="1407960"/>
                <a:tab algn="l" pos="1865160"/>
                <a:tab algn="l" pos="2322360"/>
                <a:tab algn="l" pos="2779560"/>
                <a:tab algn="l" pos="3236760"/>
                <a:tab algn="l" pos="3693960"/>
                <a:tab algn="l" pos="4151160"/>
                <a:tab algn="l" pos="4608360"/>
                <a:tab algn="l" pos="5065560"/>
                <a:tab algn="l" pos="5522760"/>
                <a:tab algn="l" pos="5979960"/>
                <a:tab algn="l" pos="6437160"/>
                <a:tab algn="l" pos="6894360"/>
                <a:tab algn="l" pos="7351560"/>
                <a:tab algn="l" pos="7808760"/>
                <a:tab algn="l" pos="8265960"/>
                <a:tab algn="l" pos="8723160"/>
                <a:tab algn="l" pos="918036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79766f"/>
                </a:solidFill>
                <a:latin typeface="Verdana"/>
              </a:rPr>
              <a:t>Chapter 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" algn="r">
              <a:lnSpc>
                <a:spcPct val="100000"/>
              </a:lnSpc>
              <a:tabLst>
                <a:tab algn="l" pos="0"/>
                <a:tab algn="l" pos="36360"/>
                <a:tab algn="l" pos="493560"/>
                <a:tab algn="l" pos="950760"/>
                <a:tab algn="l" pos="1407960"/>
                <a:tab algn="l" pos="1865160"/>
                <a:tab algn="l" pos="2322360"/>
                <a:tab algn="l" pos="2779560"/>
                <a:tab algn="l" pos="3236760"/>
                <a:tab algn="l" pos="3693960"/>
                <a:tab algn="l" pos="4151160"/>
                <a:tab algn="l" pos="4608360"/>
                <a:tab algn="l" pos="5065560"/>
                <a:tab algn="l" pos="5522760"/>
                <a:tab algn="l" pos="5979960"/>
                <a:tab algn="l" pos="6437160"/>
                <a:tab algn="l" pos="6894360"/>
                <a:tab algn="l" pos="7351560"/>
                <a:tab algn="l" pos="7808760"/>
                <a:tab algn="l" pos="8265960"/>
                <a:tab algn="l" pos="8723160"/>
                <a:tab algn="l" pos="918036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79766f"/>
                </a:solidFill>
                <a:latin typeface="Verdana"/>
              </a:rPr>
              <a:t>Section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Short Circuit Evalu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03280" y="530280"/>
            <a:ext cx="8183520" cy="418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tIns="91440" anchor="t">
            <a:noAutofit/>
          </a:bodyPr>
          <a:p>
            <a:pPr marL="262080" indent="-2620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262080"/>
                <a:tab algn="l" pos="719280"/>
                <a:tab algn="l" pos="1176480"/>
                <a:tab algn="l" pos="1633680"/>
                <a:tab algn="l" pos="2090880"/>
                <a:tab algn="l" pos="2548080"/>
                <a:tab algn="l" pos="3005280"/>
                <a:tab algn="l" pos="3462480"/>
                <a:tab algn="l" pos="3919680"/>
                <a:tab algn="l" pos="4376880"/>
                <a:tab algn="l" pos="4834080"/>
                <a:tab algn="l" pos="5291280"/>
                <a:tab algn="l" pos="5748480"/>
                <a:tab algn="l" pos="6205680"/>
                <a:tab algn="l" pos="6662880"/>
                <a:tab algn="l" pos="7120080"/>
                <a:tab algn="l" pos="7577280"/>
                <a:tab algn="l" pos="8034480"/>
                <a:tab algn="l" pos="8491680"/>
                <a:tab algn="l" pos="8948880"/>
                <a:tab algn="l" pos="940608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ot this: 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Verdana"/>
                <a:hlinkClick r:id="rId1"/>
              </a:rPr>
              <a:t>https://www.youtube.com/watch?v=WjeptaI2T8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262080"/>
                <a:tab algn="l" pos="719280"/>
                <a:tab algn="l" pos="1176480"/>
                <a:tab algn="l" pos="1633680"/>
                <a:tab algn="l" pos="2090880"/>
                <a:tab algn="l" pos="2548080"/>
                <a:tab algn="l" pos="3005280"/>
                <a:tab algn="l" pos="3462480"/>
                <a:tab algn="l" pos="3919680"/>
                <a:tab algn="l" pos="4376880"/>
                <a:tab algn="l" pos="4834080"/>
                <a:tab algn="l" pos="5291280"/>
                <a:tab algn="l" pos="5748480"/>
                <a:tab algn="l" pos="6205680"/>
                <a:tab algn="l" pos="6662880"/>
                <a:tab algn="l" pos="7120080"/>
                <a:tab algn="l" pos="7577280"/>
                <a:tab algn="l" pos="8034480"/>
                <a:tab algn="l" pos="8491680"/>
                <a:tab algn="l" pos="8948880"/>
                <a:tab algn="l" pos="940608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f part of the condition is false in an &amp;&amp; statement, the whole condition is fal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262080"/>
                <a:tab algn="l" pos="719280"/>
                <a:tab algn="l" pos="1176480"/>
                <a:tab algn="l" pos="1633680"/>
                <a:tab algn="l" pos="2090880"/>
                <a:tab algn="l" pos="2548080"/>
                <a:tab algn="l" pos="3005280"/>
                <a:tab algn="l" pos="3462480"/>
                <a:tab algn="l" pos="3919680"/>
                <a:tab algn="l" pos="4376880"/>
                <a:tab algn="l" pos="4834080"/>
                <a:tab algn="l" pos="5291280"/>
                <a:tab algn="l" pos="5748480"/>
                <a:tab algn="l" pos="6205680"/>
                <a:tab algn="l" pos="6662880"/>
                <a:tab algn="l" pos="7120080"/>
                <a:tab algn="l" pos="7577280"/>
                <a:tab algn="l" pos="8034480"/>
                <a:tab algn="l" pos="8491680"/>
                <a:tab algn="l" pos="8948880"/>
                <a:tab algn="l" pos="940608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f part of the condition is true in an || statement, the whole condition is tr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262080"/>
                <a:tab algn="l" pos="719280"/>
                <a:tab algn="l" pos="1176480"/>
                <a:tab algn="l" pos="1633680"/>
                <a:tab algn="l" pos="2090880"/>
                <a:tab algn="l" pos="2548080"/>
                <a:tab algn="l" pos="3005280"/>
                <a:tab algn="l" pos="3462480"/>
                <a:tab algn="l" pos="3919680"/>
                <a:tab algn="l" pos="4376880"/>
                <a:tab algn="l" pos="4834080"/>
                <a:tab algn="l" pos="5291280"/>
                <a:tab algn="l" pos="5748480"/>
                <a:tab algn="l" pos="6205680"/>
                <a:tab algn="l" pos="6662880"/>
                <a:tab algn="l" pos="7120080"/>
                <a:tab algn="l" pos="7577280"/>
                <a:tab algn="l" pos="8034480"/>
                <a:tab algn="l" pos="8491680"/>
                <a:tab algn="l" pos="8948880"/>
                <a:tab algn="l" pos="940608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Java stops evaluating as soon as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503280" y="4889520"/>
            <a:ext cx="8183520" cy="11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3280" y="530280"/>
            <a:ext cx="8183520" cy="418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208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Exercises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3280" y="530280"/>
            <a:ext cx="8182080" cy="4186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558720" indent="-557280">
              <a:spcBef>
                <a:spcPts val="24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58720"/>
                <a:tab algn="l" pos="671400"/>
                <a:tab algn="l" pos="1128600"/>
                <a:tab algn="l" pos="1585800"/>
                <a:tab algn="l" pos="2043000"/>
                <a:tab algn="l" pos="2500200"/>
                <a:tab algn="l" pos="2957400"/>
                <a:tab algn="l" pos="3414600"/>
                <a:tab algn="l" pos="3871800"/>
                <a:tab algn="l" pos="4329000"/>
                <a:tab algn="l" pos="4786200"/>
                <a:tab algn="l" pos="5243400"/>
                <a:tab algn="l" pos="5700600"/>
                <a:tab algn="l" pos="6157800"/>
                <a:tab algn="l" pos="6615000"/>
                <a:tab algn="l" pos="7072200"/>
                <a:tab algn="l" pos="7529400"/>
                <a:tab algn="l" pos="7986600"/>
                <a:tab algn="l" pos="8443800"/>
                <a:tab algn="l" pos="8901000"/>
                <a:tab algn="l" pos="93582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reate a program that evaluates and displays true and false boolean variables using the !, &amp;&amp;, and || operato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1174680" indent="-500040">
              <a:spcBef>
                <a:spcPts val="24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58720"/>
                <a:tab algn="l" pos="671400"/>
                <a:tab algn="l" pos="1128600"/>
                <a:tab algn="l" pos="1585800"/>
                <a:tab algn="l" pos="2043000"/>
                <a:tab algn="l" pos="2500200"/>
                <a:tab algn="l" pos="2957400"/>
                <a:tab algn="l" pos="3414600"/>
                <a:tab algn="l" pos="3871800"/>
                <a:tab algn="l" pos="4329000"/>
                <a:tab algn="l" pos="4786200"/>
                <a:tab algn="l" pos="5243400"/>
                <a:tab algn="l" pos="5700600"/>
                <a:tab algn="l" pos="6157800"/>
                <a:tab algn="l" pos="6615000"/>
                <a:tab algn="l" pos="7072200"/>
                <a:tab algn="l" pos="7529400"/>
                <a:tab algn="l" pos="7986600"/>
                <a:tab algn="l" pos="8443800"/>
                <a:tab algn="l" pos="8901000"/>
                <a:tab algn="l" pos="93582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r !, use !(variable 1 &amp;&amp; variable2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58720" indent="-557280">
              <a:spcBef>
                <a:spcPts val="24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58720"/>
                <a:tab algn="l" pos="671400"/>
                <a:tab algn="l" pos="1128600"/>
                <a:tab algn="l" pos="1585800"/>
                <a:tab algn="l" pos="2043000"/>
                <a:tab algn="l" pos="2500200"/>
                <a:tab algn="l" pos="2957400"/>
                <a:tab algn="l" pos="3414600"/>
                <a:tab algn="l" pos="3871800"/>
                <a:tab algn="l" pos="4329000"/>
                <a:tab algn="l" pos="4786200"/>
                <a:tab algn="l" pos="5243400"/>
                <a:tab algn="l" pos="5700600"/>
                <a:tab algn="l" pos="6157800"/>
                <a:tab algn="l" pos="6615000"/>
                <a:tab algn="l" pos="7072200"/>
                <a:tab algn="l" pos="7529400"/>
                <a:tab algn="l" pos="7986600"/>
                <a:tab algn="l" pos="8443800"/>
                <a:tab algn="l" pos="8901000"/>
                <a:tab algn="l" pos="93582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member the grades program?  Let's change it to use boolean variables in the if statements and make our conditions short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NOT, AND, 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03280" y="530280"/>
            <a:ext cx="8183520" cy="418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tIns="91440" anchor="t">
            <a:noAutofit/>
          </a:bodyPr>
          <a:p>
            <a:pPr marL="262080" indent="-2620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262080"/>
                <a:tab algn="l" pos="719280"/>
                <a:tab algn="l" pos="1176480"/>
                <a:tab algn="l" pos="1633680"/>
                <a:tab algn="l" pos="2090880"/>
                <a:tab algn="l" pos="2548080"/>
                <a:tab algn="l" pos="3005280"/>
                <a:tab algn="l" pos="3462480"/>
                <a:tab algn="l" pos="3919680"/>
                <a:tab algn="l" pos="4376880"/>
                <a:tab algn="l" pos="4834080"/>
                <a:tab algn="l" pos="5291280"/>
                <a:tab algn="l" pos="5748480"/>
                <a:tab algn="l" pos="6205680"/>
                <a:tab algn="l" pos="6662880"/>
                <a:tab algn="l" pos="7120080"/>
                <a:tab algn="l" pos="7577280"/>
                <a:tab algn="l" pos="8034480"/>
                <a:tab algn="l" pos="8491680"/>
                <a:tab algn="l" pos="8948880"/>
                <a:tab algn="l" pos="940608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e use these terms every 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262080"/>
                <a:tab algn="l" pos="719280"/>
                <a:tab algn="l" pos="1176480"/>
                <a:tab algn="l" pos="1633680"/>
                <a:tab algn="l" pos="2090880"/>
                <a:tab algn="l" pos="2548080"/>
                <a:tab algn="l" pos="3005280"/>
                <a:tab algn="l" pos="3462480"/>
                <a:tab algn="l" pos="3919680"/>
                <a:tab algn="l" pos="4376880"/>
                <a:tab algn="l" pos="4834080"/>
                <a:tab algn="l" pos="5291280"/>
                <a:tab algn="l" pos="5748480"/>
                <a:tab algn="l" pos="6205680"/>
                <a:tab algn="l" pos="6662880"/>
                <a:tab algn="l" pos="7120080"/>
                <a:tab algn="l" pos="7577280"/>
                <a:tab algn="l" pos="8034480"/>
                <a:tab algn="l" pos="8491680"/>
                <a:tab algn="l" pos="8948880"/>
                <a:tab algn="l" pos="940608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4680" indent="-1987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262080"/>
                <a:tab algn="l" pos="719280"/>
                <a:tab algn="l" pos="1176480"/>
                <a:tab algn="l" pos="1633680"/>
                <a:tab algn="l" pos="2090880"/>
                <a:tab algn="l" pos="2548080"/>
                <a:tab algn="l" pos="3005280"/>
                <a:tab algn="l" pos="3462480"/>
                <a:tab algn="l" pos="3919680"/>
                <a:tab algn="l" pos="4376880"/>
                <a:tab algn="l" pos="4834080"/>
                <a:tab algn="l" pos="5291280"/>
                <a:tab algn="l" pos="5748480"/>
                <a:tab algn="l" pos="6205680"/>
                <a:tab algn="l" pos="6662880"/>
                <a:tab algn="l" pos="7120080"/>
                <a:tab algn="l" pos="7577280"/>
                <a:tab algn="l" pos="8034480"/>
                <a:tab algn="l" pos="8491680"/>
                <a:tab algn="l" pos="8948880"/>
                <a:tab algn="l" pos="94060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SimSun"/>
              </a:rPr>
              <a:t>If sun is shining AND is 8 AM, let’s go for a walk, else we stay h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4680" indent="-1987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262080"/>
                <a:tab algn="l" pos="719280"/>
                <a:tab algn="l" pos="1176480"/>
                <a:tab algn="l" pos="1633680"/>
                <a:tab algn="l" pos="2090880"/>
                <a:tab algn="l" pos="2548080"/>
                <a:tab algn="l" pos="3005280"/>
                <a:tab algn="l" pos="3462480"/>
                <a:tab algn="l" pos="3919680"/>
                <a:tab algn="l" pos="4376880"/>
                <a:tab algn="l" pos="4834080"/>
                <a:tab algn="l" pos="5291280"/>
                <a:tab algn="l" pos="5748480"/>
                <a:tab algn="l" pos="6205680"/>
                <a:tab algn="l" pos="6662880"/>
                <a:tab algn="l" pos="7120080"/>
                <a:tab algn="l" pos="7577280"/>
                <a:tab algn="l" pos="8034480"/>
                <a:tab algn="l" pos="8491680"/>
                <a:tab algn="l" pos="8948880"/>
                <a:tab algn="l" pos="94060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SimSun"/>
              </a:rPr>
              <a:t>If sun is shining OR is 8 AM, let’s go for a walk, else we stay h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4680" indent="-1987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262080"/>
                <a:tab algn="l" pos="719280"/>
                <a:tab algn="l" pos="1176480"/>
                <a:tab algn="l" pos="1633680"/>
                <a:tab algn="l" pos="2090880"/>
                <a:tab algn="l" pos="2548080"/>
                <a:tab algn="l" pos="3005280"/>
                <a:tab algn="l" pos="3462480"/>
                <a:tab algn="l" pos="3919680"/>
                <a:tab algn="l" pos="4376880"/>
                <a:tab algn="l" pos="4834080"/>
                <a:tab algn="l" pos="5291280"/>
                <a:tab algn="l" pos="5748480"/>
                <a:tab algn="l" pos="6205680"/>
                <a:tab algn="l" pos="6662880"/>
                <a:tab algn="l" pos="7120080"/>
                <a:tab algn="l" pos="7577280"/>
                <a:tab algn="l" pos="8034480"/>
                <a:tab algn="l" pos="8491680"/>
                <a:tab algn="l" pos="8948880"/>
                <a:tab algn="l" pos="94060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SimSun"/>
              </a:rPr>
              <a:t>If NOT sun is shining, then let’s go for a walk, else we stay h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Truth Tab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3280" y="530280"/>
            <a:ext cx="8183520" cy="418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89040" y="593640"/>
            <a:ext cx="7905600" cy="452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Java’s Logical Operat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03280" y="530280"/>
            <a:ext cx="8183520" cy="418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tIns="91440" anchor="t">
            <a:noAutofit/>
          </a:bodyPr>
          <a:p>
            <a:pPr marL="262080" indent="-2620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262080"/>
                <a:tab algn="l" pos="719280"/>
                <a:tab algn="l" pos="1176480"/>
                <a:tab algn="l" pos="1633680"/>
                <a:tab algn="l" pos="2090880"/>
                <a:tab algn="l" pos="2548080"/>
                <a:tab algn="l" pos="3005280"/>
                <a:tab algn="l" pos="3462480"/>
                <a:tab algn="l" pos="3919680"/>
                <a:tab algn="l" pos="4376880"/>
                <a:tab algn="l" pos="4834080"/>
                <a:tab algn="l" pos="5291280"/>
                <a:tab algn="l" pos="5748480"/>
                <a:tab algn="l" pos="6205680"/>
                <a:tab algn="l" pos="6662880"/>
                <a:tab algn="l" pos="7120080"/>
                <a:tab algn="l" pos="7577280"/>
                <a:tab algn="l" pos="8034480"/>
                <a:tab algn="l" pos="8491680"/>
                <a:tab algn="l" pos="8948880"/>
                <a:tab algn="l" pos="940608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D - &amp;&amp; - higher than only assignment and ||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262080"/>
                <a:tab algn="l" pos="719280"/>
                <a:tab algn="l" pos="1176480"/>
                <a:tab algn="l" pos="1633680"/>
                <a:tab algn="l" pos="2090880"/>
                <a:tab algn="l" pos="2548080"/>
                <a:tab algn="l" pos="3005280"/>
                <a:tab algn="l" pos="3462480"/>
                <a:tab algn="l" pos="3919680"/>
                <a:tab algn="l" pos="4376880"/>
                <a:tab algn="l" pos="4834080"/>
                <a:tab algn="l" pos="5291280"/>
                <a:tab algn="l" pos="5748480"/>
                <a:tab algn="l" pos="6205680"/>
                <a:tab algn="l" pos="6662880"/>
                <a:tab algn="l" pos="7120080"/>
                <a:tab algn="l" pos="7577280"/>
                <a:tab algn="l" pos="8034480"/>
                <a:tab algn="l" pos="8491680"/>
                <a:tab algn="l" pos="8948880"/>
                <a:tab algn="l" pos="940608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R - || - higher than only assig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262080"/>
                <a:tab algn="l" pos="719280"/>
                <a:tab algn="l" pos="1176480"/>
                <a:tab algn="l" pos="1633680"/>
                <a:tab algn="l" pos="2090880"/>
                <a:tab algn="l" pos="2548080"/>
                <a:tab algn="l" pos="3005280"/>
                <a:tab algn="l" pos="3462480"/>
                <a:tab algn="l" pos="3919680"/>
                <a:tab algn="l" pos="4376880"/>
                <a:tab algn="l" pos="4834080"/>
                <a:tab algn="l" pos="5291280"/>
                <a:tab algn="l" pos="5748480"/>
                <a:tab algn="l" pos="6205680"/>
                <a:tab algn="l" pos="6662880"/>
                <a:tab algn="l" pos="7120080"/>
                <a:tab algn="l" pos="7577280"/>
                <a:tab algn="l" pos="8034480"/>
                <a:tab algn="l" pos="8491680"/>
                <a:tab algn="l" pos="8948880"/>
                <a:tab algn="l" pos="940608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OT - ! – higher precedence than math oper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520" indent="-262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262080"/>
                <a:tab algn="l" pos="719280"/>
                <a:tab algn="l" pos="1176480"/>
                <a:tab algn="l" pos="1633680"/>
                <a:tab algn="l" pos="2090880"/>
                <a:tab algn="l" pos="2548080"/>
                <a:tab algn="l" pos="3005280"/>
                <a:tab algn="l" pos="3462480"/>
                <a:tab algn="l" pos="3919680"/>
                <a:tab algn="l" pos="4376880"/>
                <a:tab algn="l" pos="4834080"/>
                <a:tab algn="l" pos="5291280"/>
                <a:tab algn="l" pos="5748480"/>
                <a:tab algn="l" pos="6205680"/>
                <a:tab algn="l" pos="6662880"/>
                <a:tab algn="l" pos="7120080"/>
                <a:tab algn="l" pos="7577280"/>
                <a:tab algn="l" pos="8034480"/>
                <a:tab algn="l" pos="8491680"/>
                <a:tab algn="l" pos="8948880"/>
                <a:tab algn="l" pos="940608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Examp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03280" y="530280"/>
            <a:ext cx="8183520" cy="49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tIns="91440" anchor="t">
            <a:noAutofit/>
          </a:bodyPr>
          <a:p>
            <a:pPr marL="262080" indent="-2620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262080"/>
                <a:tab algn="l" pos="719280"/>
                <a:tab algn="l" pos="1176480"/>
                <a:tab algn="l" pos="1633680"/>
                <a:tab algn="l" pos="2090880"/>
                <a:tab algn="l" pos="2548080"/>
                <a:tab algn="l" pos="3005280"/>
                <a:tab algn="l" pos="3462480"/>
                <a:tab algn="l" pos="3919680"/>
                <a:tab algn="l" pos="4376880"/>
                <a:tab algn="l" pos="4834080"/>
                <a:tab algn="l" pos="5291280"/>
                <a:tab algn="l" pos="5748480"/>
                <a:tab algn="l" pos="6205680"/>
                <a:tab algn="l" pos="6662880"/>
                <a:tab algn="l" pos="7120080"/>
                <a:tab algn="l" pos="7577280"/>
                <a:tab algn="l" pos="8034480"/>
                <a:tab algn="l" pos="8491680"/>
                <a:tab algn="l" pos="8948880"/>
                <a:tab algn="l" pos="940608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rson must pass 2 tests with a 9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1965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262080"/>
                <a:tab algn="l" pos="719280"/>
                <a:tab algn="l" pos="1176480"/>
                <a:tab algn="l" pos="1633680"/>
                <a:tab algn="l" pos="2090880"/>
                <a:tab algn="l" pos="2548080"/>
                <a:tab algn="l" pos="3005280"/>
                <a:tab algn="l" pos="3462480"/>
                <a:tab algn="l" pos="3919680"/>
                <a:tab algn="l" pos="4376880"/>
                <a:tab algn="l" pos="4834080"/>
                <a:tab algn="l" pos="5291280"/>
                <a:tab algn="l" pos="5748480"/>
                <a:tab algn="l" pos="6205680"/>
                <a:tab algn="l" pos="6662880"/>
                <a:tab algn="l" pos="7120080"/>
                <a:tab algn="l" pos="7577280"/>
                <a:tab algn="l" pos="8034480"/>
                <a:tab algn="l" pos="8491680"/>
                <a:tab algn="l" pos="8948880"/>
                <a:tab algn="l" pos="94060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SimSun"/>
              </a:rPr>
              <a:t>if (score1 &gt;= 90 &amp;&amp; score2 &gt;= 9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1965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262080"/>
                <a:tab algn="l" pos="719280"/>
                <a:tab algn="l" pos="1176480"/>
                <a:tab algn="l" pos="1633680"/>
                <a:tab algn="l" pos="2090880"/>
                <a:tab algn="l" pos="2548080"/>
                <a:tab algn="l" pos="3005280"/>
                <a:tab algn="l" pos="3462480"/>
                <a:tab algn="l" pos="3919680"/>
                <a:tab algn="l" pos="4376880"/>
                <a:tab algn="l" pos="4834080"/>
                <a:tab algn="l" pos="5291280"/>
                <a:tab algn="l" pos="5748480"/>
                <a:tab algn="l" pos="6205680"/>
                <a:tab algn="l" pos="6662880"/>
                <a:tab algn="l" pos="7120080"/>
                <a:tab algn="l" pos="7577280"/>
                <a:tab algn="l" pos="8034480"/>
                <a:tab algn="l" pos="8491680"/>
                <a:tab algn="l" pos="8948880"/>
                <a:tab algn="l" pos="94060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SimSu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SimSun"/>
              </a:rPr>
              <a:t>System.out.println (“Qualified!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1965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262080"/>
                <a:tab algn="l" pos="719280"/>
                <a:tab algn="l" pos="1176480"/>
                <a:tab algn="l" pos="1633680"/>
                <a:tab algn="l" pos="2090880"/>
                <a:tab algn="l" pos="2548080"/>
                <a:tab algn="l" pos="3005280"/>
                <a:tab algn="l" pos="3462480"/>
                <a:tab algn="l" pos="3919680"/>
                <a:tab algn="l" pos="4376880"/>
                <a:tab algn="l" pos="4834080"/>
                <a:tab algn="l" pos="5291280"/>
                <a:tab algn="l" pos="5748480"/>
                <a:tab algn="l" pos="6205680"/>
                <a:tab algn="l" pos="6662880"/>
                <a:tab algn="l" pos="7120080"/>
                <a:tab algn="l" pos="7577280"/>
                <a:tab algn="l" pos="8034480"/>
                <a:tab algn="l" pos="8491680"/>
                <a:tab algn="l" pos="8948880"/>
                <a:tab algn="l" pos="94060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262080"/>
                <a:tab algn="l" pos="719280"/>
                <a:tab algn="l" pos="1176480"/>
                <a:tab algn="l" pos="1633680"/>
                <a:tab algn="l" pos="2090880"/>
                <a:tab algn="l" pos="2548080"/>
                <a:tab algn="l" pos="3005280"/>
                <a:tab algn="l" pos="3462480"/>
                <a:tab algn="l" pos="3919680"/>
                <a:tab algn="l" pos="4376880"/>
                <a:tab algn="l" pos="4834080"/>
                <a:tab algn="l" pos="5291280"/>
                <a:tab algn="l" pos="5748480"/>
                <a:tab algn="l" pos="6205680"/>
                <a:tab algn="l" pos="6662880"/>
                <a:tab algn="l" pos="7120080"/>
                <a:tab algn="l" pos="7577280"/>
                <a:tab algn="l" pos="8034480"/>
                <a:tab algn="l" pos="8491680"/>
                <a:tab algn="l" pos="8948880"/>
                <a:tab algn="l" pos="940608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rson must pass 1 test with a 9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1965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262080"/>
                <a:tab algn="l" pos="719280"/>
                <a:tab algn="l" pos="1176480"/>
                <a:tab algn="l" pos="1633680"/>
                <a:tab algn="l" pos="2090880"/>
                <a:tab algn="l" pos="2548080"/>
                <a:tab algn="l" pos="3005280"/>
                <a:tab algn="l" pos="3462480"/>
                <a:tab algn="l" pos="3919680"/>
                <a:tab algn="l" pos="4376880"/>
                <a:tab algn="l" pos="4834080"/>
                <a:tab algn="l" pos="5291280"/>
                <a:tab algn="l" pos="5748480"/>
                <a:tab algn="l" pos="6205680"/>
                <a:tab algn="l" pos="6662880"/>
                <a:tab algn="l" pos="7120080"/>
                <a:tab algn="l" pos="7577280"/>
                <a:tab algn="l" pos="8034480"/>
                <a:tab algn="l" pos="8491680"/>
                <a:tab algn="l" pos="8948880"/>
                <a:tab algn="l" pos="94060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SimSun"/>
              </a:rPr>
              <a:t>if (score1 &gt;= 90 || score2 &gt;= 9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1965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262080"/>
                <a:tab algn="l" pos="719280"/>
                <a:tab algn="l" pos="1176480"/>
                <a:tab algn="l" pos="1633680"/>
                <a:tab algn="l" pos="2090880"/>
                <a:tab algn="l" pos="2548080"/>
                <a:tab algn="l" pos="3005280"/>
                <a:tab algn="l" pos="3462480"/>
                <a:tab algn="l" pos="3919680"/>
                <a:tab algn="l" pos="4376880"/>
                <a:tab algn="l" pos="4834080"/>
                <a:tab algn="l" pos="5291280"/>
                <a:tab algn="l" pos="5748480"/>
                <a:tab algn="l" pos="6205680"/>
                <a:tab algn="l" pos="6662880"/>
                <a:tab algn="l" pos="7120080"/>
                <a:tab algn="l" pos="7577280"/>
                <a:tab algn="l" pos="8034480"/>
                <a:tab algn="l" pos="8491680"/>
                <a:tab algn="l" pos="8948880"/>
                <a:tab algn="l" pos="94060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SimSu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SimSun"/>
              </a:rPr>
              <a:t>System.out.println (“Qualified!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1965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262080"/>
                <a:tab algn="l" pos="719280"/>
                <a:tab algn="l" pos="1176480"/>
                <a:tab algn="l" pos="1633680"/>
                <a:tab algn="l" pos="2090880"/>
                <a:tab algn="l" pos="2548080"/>
                <a:tab algn="l" pos="3005280"/>
                <a:tab algn="l" pos="3462480"/>
                <a:tab algn="l" pos="3919680"/>
                <a:tab algn="l" pos="4376880"/>
                <a:tab algn="l" pos="4834080"/>
                <a:tab algn="l" pos="5291280"/>
                <a:tab algn="l" pos="5748480"/>
                <a:tab algn="l" pos="6205680"/>
                <a:tab algn="l" pos="6662880"/>
                <a:tab algn="l" pos="7120080"/>
                <a:tab algn="l" pos="7577280"/>
                <a:tab algn="l" pos="8034480"/>
                <a:tab algn="l" pos="8491680"/>
                <a:tab algn="l" pos="8948880"/>
                <a:tab algn="l" pos="94060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262080"/>
                <a:tab algn="l" pos="719280"/>
                <a:tab algn="l" pos="1176480"/>
                <a:tab algn="l" pos="1633680"/>
                <a:tab algn="l" pos="2090880"/>
                <a:tab algn="l" pos="2548080"/>
                <a:tab algn="l" pos="3005280"/>
                <a:tab algn="l" pos="3462480"/>
                <a:tab algn="l" pos="3919680"/>
                <a:tab algn="l" pos="4376880"/>
                <a:tab algn="l" pos="4834080"/>
                <a:tab algn="l" pos="5291280"/>
                <a:tab algn="l" pos="5748480"/>
                <a:tab algn="l" pos="6205680"/>
                <a:tab algn="l" pos="6662880"/>
                <a:tab algn="l" pos="7120080"/>
                <a:tab algn="l" pos="7577280"/>
                <a:tab algn="l" pos="8034480"/>
                <a:tab algn="l" pos="8491680"/>
                <a:tab algn="l" pos="8948880"/>
                <a:tab algn="l" pos="940608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rson must at least p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1965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262080"/>
                <a:tab algn="l" pos="719280"/>
                <a:tab algn="l" pos="1176480"/>
                <a:tab algn="l" pos="1633680"/>
                <a:tab algn="l" pos="2090880"/>
                <a:tab algn="l" pos="2548080"/>
                <a:tab algn="l" pos="3005280"/>
                <a:tab algn="l" pos="3462480"/>
                <a:tab algn="l" pos="3919680"/>
                <a:tab algn="l" pos="4376880"/>
                <a:tab algn="l" pos="4834080"/>
                <a:tab algn="l" pos="5291280"/>
                <a:tab algn="l" pos="5748480"/>
                <a:tab algn="l" pos="6205680"/>
                <a:tab algn="l" pos="6662880"/>
                <a:tab algn="l" pos="7120080"/>
                <a:tab algn="l" pos="7577280"/>
                <a:tab algn="l" pos="8034480"/>
                <a:tab algn="l" pos="8491680"/>
                <a:tab algn="l" pos="8948880"/>
                <a:tab algn="l" pos="94060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SimSun"/>
              </a:rPr>
              <a:t>if !(score1 &lt; 70 || score2 &lt; 7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Boolean Vari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3280" y="530280"/>
            <a:ext cx="8183520" cy="48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tIns="91440" anchor="t">
            <a:noAutofit/>
          </a:bodyPr>
          <a:p>
            <a:pPr marL="262080" indent="-2620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262080"/>
                <a:tab algn="l" pos="719280"/>
                <a:tab algn="l" pos="1176480"/>
                <a:tab algn="l" pos="1633680"/>
                <a:tab algn="l" pos="2090880"/>
                <a:tab algn="l" pos="2548080"/>
                <a:tab algn="l" pos="3005280"/>
                <a:tab algn="l" pos="3462480"/>
                <a:tab algn="l" pos="3919680"/>
                <a:tab algn="l" pos="4376880"/>
                <a:tab algn="l" pos="4834080"/>
                <a:tab algn="l" pos="5291280"/>
                <a:tab algn="l" pos="5748480"/>
                <a:tab algn="l" pos="6205680"/>
                <a:tab algn="l" pos="6662880"/>
                <a:tab algn="l" pos="7120080"/>
                <a:tab algn="l" pos="7577280"/>
                <a:tab algn="l" pos="8034480"/>
                <a:tab algn="l" pos="8491680"/>
                <a:tab algn="l" pos="8948880"/>
                <a:tab algn="l" pos="940608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ave a value of only true or fal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262080"/>
                <a:tab algn="l" pos="719280"/>
                <a:tab algn="l" pos="1176480"/>
                <a:tab algn="l" pos="1633680"/>
                <a:tab algn="l" pos="2090880"/>
                <a:tab algn="l" pos="2548080"/>
                <a:tab algn="l" pos="3005280"/>
                <a:tab algn="l" pos="3462480"/>
                <a:tab algn="l" pos="3919680"/>
                <a:tab algn="l" pos="4376880"/>
                <a:tab algn="l" pos="4834080"/>
                <a:tab algn="l" pos="5291280"/>
                <a:tab algn="l" pos="5748480"/>
                <a:tab algn="l" pos="6205680"/>
                <a:tab algn="l" pos="6662880"/>
                <a:tab algn="l" pos="7120080"/>
                <a:tab algn="l" pos="7577280"/>
                <a:tab algn="l" pos="8034480"/>
                <a:tab algn="l" pos="8491680"/>
                <a:tab algn="l" pos="8948880"/>
                <a:tab algn="l" pos="940608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ke it easier to have multiple comparis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262080"/>
                <a:tab algn="l" pos="719280"/>
                <a:tab algn="l" pos="1176480"/>
                <a:tab algn="l" pos="1633680"/>
                <a:tab algn="l" pos="2090880"/>
                <a:tab algn="l" pos="2548080"/>
                <a:tab algn="l" pos="3005280"/>
                <a:tab algn="l" pos="3462480"/>
                <a:tab algn="l" pos="3919680"/>
                <a:tab algn="l" pos="4376880"/>
                <a:tab algn="l" pos="4834080"/>
                <a:tab algn="l" pos="5291280"/>
                <a:tab algn="l" pos="5748480"/>
                <a:tab algn="l" pos="6205680"/>
                <a:tab algn="l" pos="6662880"/>
                <a:tab algn="l" pos="7120080"/>
                <a:tab algn="l" pos="7577280"/>
                <a:tab algn="l" pos="8034480"/>
                <a:tab algn="l" pos="8491680"/>
                <a:tab algn="l" pos="8948880"/>
                <a:tab algn="l" pos="940608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hortens conditions for evaluation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4680" indent="-1987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262080"/>
                <a:tab algn="l" pos="719280"/>
                <a:tab algn="l" pos="1176480"/>
                <a:tab algn="l" pos="1633680"/>
                <a:tab algn="l" pos="2090880"/>
                <a:tab algn="l" pos="2548080"/>
                <a:tab algn="l" pos="3005280"/>
                <a:tab algn="l" pos="3462480"/>
                <a:tab algn="l" pos="3919680"/>
                <a:tab algn="l" pos="4376880"/>
                <a:tab algn="l" pos="4834080"/>
                <a:tab algn="l" pos="5291280"/>
                <a:tab algn="l" pos="5748480"/>
                <a:tab algn="l" pos="6205680"/>
                <a:tab algn="l" pos="6662880"/>
                <a:tab algn="l" pos="7120080"/>
                <a:tab algn="l" pos="7577280"/>
                <a:tab algn="l" pos="8034480"/>
                <a:tab algn="l" pos="8491680"/>
                <a:tab algn="l" pos="8948880"/>
                <a:tab algn="l" pos="94060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SimSun"/>
              </a:rPr>
              <a:t>bothHigh = score1 &gt;= 90 &amp;&amp; score2 &gt;= 9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4680" indent="-1987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262080"/>
                <a:tab algn="l" pos="719280"/>
                <a:tab algn="l" pos="1176480"/>
                <a:tab algn="l" pos="1633680"/>
                <a:tab algn="l" pos="2090880"/>
                <a:tab algn="l" pos="2548080"/>
                <a:tab algn="l" pos="3005280"/>
                <a:tab algn="l" pos="3462480"/>
                <a:tab algn="l" pos="3919680"/>
                <a:tab algn="l" pos="4376880"/>
                <a:tab algn="l" pos="4834080"/>
                <a:tab algn="l" pos="5291280"/>
                <a:tab algn="l" pos="5748480"/>
                <a:tab algn="l" pos="6205680"/>
                <a:tab algn="l" pos="6662880"/>
                <a:tab algn="l" pos="7120080"/>
                <a:tab algn="l" pos="7577280"/>
                <a:tab algn="l" pos="8034480"/>
                <a:tab algn="l" pos="8491680"/>
                <a:tab algn="l" pos="8948880"/>
                <a:tab algn="l" pos="94060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SimSun"/>
              </a:rPr>
              <a:t>oneHigh = score1 &gt;= 90 || score2 &gt;= 9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4680" indent="-1987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262080"/>
                <a:tab algn="l" pos="719280"/>
                <a:tab algn="l" pos="1176480"/>
                <a:tab algn="l" pos="1633680"/>
                <a:tab algn="l" pos="2090880"/>
                <a:tab algn="l" pos="2548080"/>
                <a:tab algn="l" pos="3005280"/>
                <a:tab algn="l" pos="3462480"/>
                <a:tab algn="l" pos="3919680"/>
                <a:tab algn="l" pos="4376880"/>
                <a:tab algn="l" pos="4834080"/>
                <a:tab algn="l" pos="5291280"/>
                <a:tab algn="l" pos="5748480"/>
                <a:tab algn="l" pos="6205680"/>
                <a:tab algn="l" pos="6662880"/>
                <a:tab algn="l" pos="7120080"/>
                <a:tab algn="l" pos="7577280"/>
                <a:tab algn="l" pos="8034480"/>
                <a:tab algn="l" pos="8491680"/>
                <a:tab algn="l" pos="8948880"/>
                <a:tab algn="l" pos="94060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SimSun"/>
              </a:rPr>
              <a:t>noLow = !(score1 &lt; 70 || score2 &lt; 7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262080"/>
                <a:tab algn="l" pos="719280"/>
                <a:tab algn="l" pos="1176480"/>
                <a:tab algn="l" pos="1633680"/>
                <a:tab algn="l" pos="2090880"/>
                <a:tab algn="l" pos="2548080"/>
                <a:tab algn="l" pos="3005280"/>
                <a:tab algn="l" pos="3462480"/>
                <a:tab algn="l" pos="3919680"/>
                <a:tab algn="l" pos="4376880"/>
                <a:tab algn="l" pos="4834080"/>
                <a:tab algn="l" pos="5291280"/>
                <a:tab algn="l" pos="5748480"/>
                <a:tab algn="l" pos="6205680"/>
                <a:tab algn="l" pos="6662880"/>
                <a:tab algn="l" pos="7120080"/>
                <a:tab algn="l" pos="7577280"/>
                <a:tab algn="l" pos="8034480"/>
                <a:tab algn="l" pos="8491680"/>
                <a:tab algn="l" pos="8948880"/>
                <a:tab algn="l" pos="940608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f (bothHigh)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262080"/>
                <a:tab algn="l" pos="719280"/>
                <a:tab algn="l" pos="1176480"/>
                <a:tab algn="l" pos="1633680"/>
                <a:tab algn="l" pos="2090880"/>
                <a:tab algn="l" pos="2548080"/>
                <a:tab algn="l" pos="3005280"/>
                <a:tab algn="l" pos="3462480"/>
                <a:tab algn="l" pos="3919680"/>
                <a:tab algn="l" pos="4376880"/>
                <a:tab algn="l" pos="4834080"/>
                <a:tab algn="l" pos="5291280"/>
                <a:tab algn="l" pos="5748480"/>
                <a:tab algn="l" pos="6205680"/>
                <a:tab algn="l" pos="6662880"/>
                <a:tab algn="l" pos="7120080"/>
                <a:tab algn="l" pos="7577280"/>
                <a:tab algn="l" pos="8034480"/>
                <a:tab algn="l" pos="8491680"/>
                <a:tab algn="l" pos="8948880"/>
                <a:tab algn="l" pos="940608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f (oneHigh)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262080"/>
                <a:tab algn="l" pos="719280"/>
                <a:tab algn="l" pos="1176480"/>
                <a:tab algn="l" pos="1633680"/>
                <a:tab algn="l" pos="2090880"/>
                <a:tab algn="l" pos="2548080"/>
                <a:tab algn="l" pos="3005280"/>
                <a:tab algn="l" pos="3462480"/>
                <a:tab algn="l" pos="3919680"/>
                <a:tab algn="l" pos="4376880"/>
                <a:tab algn="l" pos="4834080"/>
                <a:tab algn="l" pos="5291280"/>
                <a:tab algn="l" pos="5748480"/>
                <a:tab algn="l" pos="6205680"/>
                <a:tab algn="l" pos="6662880"/>
                <a:tab algn="l" pos="7120080"/>
                <a:tab algn="l" pos="7577280"/>
                <a:tab algn="l" pos="8034480"/>
                <a:tab algn="l" pos="8491680"/>
                <a:tab algn="l" pos="8948880"/>
                <a:tab algn="l" pos="940608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f (noLow)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6120" indent="-1983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262080"/>
                <a:tab algn="l" pos="719280"/>
                <a:tab algn="l" pos="1176480"/>
                <a:tab algn="l" pos="1633680"/>
                <a:tab algn="l" pos="2090880"/>
                <a:tab algn="l" pos="2548080"/>
                <a:tab algn="l" pos="3005280"/>
                <a:tab algn="l" pos="3462480"/>
                <a:tab algn="l" pos="3919680"/>
                <a:tab algn="l" pos="4376880"/>
                <a:tab algn="l" pos="4834080"/>
                <a:tab algn="l" pos="5291280"/>
                <a:tab algn="l" pos="5748480"/>
                <a:tab algn="l" pos="6205680"/>
                <a:tab algn="l" pos="6662880"/>
                <a:tab algn="l" pos="7120080"/>
                <a:tab algn="l" pos="7577280"/>
                <a:tab algn="l" pos="8034480"/>
                <a:tab algn="l" pos="8491680"/>
                <a:tab algn="l" pos="8948880"/>
                <a:tab algn="l" pos="94060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6120" indent="-1983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262080"/>
                <a:tab algn="l" pos="719280"/>
                <a:tab algn="l" pos="1176480"/>
                <a:tab algn="l" pos="1633680"/>
                <a:tab algn="l" pos="2090880"/>
                <a:tab algn="l" pos="2548080"/>
                <a:tab algn="l" pos="3005280"/>
                <a:tab algn="l" pos="3462480"/>
                <a:tab algn="l" pos="3919680"/>
                <a:tab algn="l" pos="4376880"/>
                <a:tab algn="l" pos="4834080"/>
                <a:tab algn="l" pos="5291280"/>
                <a:tab algn="l" pos="5748480"/>
                <a:tab algn="l" pos="6205680"/>
                <a:tab algn="l" pos="6662880"/>
                <a:tab algn="l" pos="7120080"/>
                <a:tab algn="l" pos="7577280"/>
                <a:tab algn="l" pos="8034480"/>
                <a:tab algn="l" pos="8491680"/>
                <a:tab algn="l" pos="8948880"/>
                <a:tab algn="l" pos="94060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520" indent="-262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262080"/>
                <a:tab algn="l" pos="719280"/>
                <a:tab algn="l" pos="1176480"/>
                <a:tab algn="l" pos="1633680"/>
                <a:tab algn="l" pos="2090880"/>
                <a:tab algn="l" pos="2548080"/>
                <a:tab algn="l" pos="3005280"/>
                <a:tab algn="l" pos="3462480"/>
                <a:tab algn="l" pos="3919680"/>
                <a:tab algn="l" pos="4376880"/>
                <a:tab algn="l" pos="4834080"/>
                <a:tab algn="l" pos="5291280"/>
                <a:tab algn="l" pos="5748480"/>
                <a:tab algn="l" pos="6205680"/>
                <a:tab algn="l" pos="6662880"/>
                <a:tab algn="l" pos="7120080"/>
                <a:tab algn="l" pos="7577280"/>
                <a:tab algn="l" pos="8034480"/>
                <a:tab algn="l" pos="8491680"/>
                <a:tab algn="l" pos="8948880"/>
                <a:tab algn="l" pos="940608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520" indent="-262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262080"/>
                <a:tab algn="l" pos="719280"/>
                <a:tab algn="l" pos="1176480"/>
                <a:tab algn="l" pos="1633680"/>
                <a:tab algn="l" pos="2090880"/>
                <a:tab algn="l" pos="2548080"/>
                <a:tab algn="l" pos="3005280"/>
                <a:tab algn="l" pos="3462480"/>
                <a:tab algn="l" pos="3919680"/>
                <a:tab algn="l" pos="4376880"/>
                <a:tab algn="l" pos="4834080"/>
                <a:tab algn="l" pos="5291280"/>
                <a:tab algn="l" pos="5748480"/>
                <a:tab algn="l" pos="6205680"/>
                <a:tab algn="l" pos="6662880"/>
                <a:tab algn="l" pos="7120080"/>
                <a:tab algn="l" pos="7577280"/>
                <a:tab algn="l" pos="8034480"/>
                <a:tab algn="l" pos="8491680"/>
                <a:tab algn="l" pos="8948880"/>
                <a:tab algn="l" pos="940608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Shortening if State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3280" y="530280"/>
            <a:ext cx="8183520" cy="418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tIns="91440" anchor="t">
            <a:noAutofit/>
          </a:bodyPr>
          <a:p>
            <a:pPr marL="262080" indent="-2620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262080"/>
                <a:tab algn="l" pos="719280"/>
                <a:tab algn="l" pos="1176480"/>
                <a:tab algn="l" pos="1633680"/>
                <a:tab algn="l" pos="2090880"/>
                <a:tab algn="l" pos="2548080"/>
                <a:tab algn="l" pos="3005280"/>
                <a:tab algn="l" pos="3462480"/>
                <a:tab algn="l" pos="3919680"/>
                <a:tab algn="l" pos="4376880"/>
                <a:tab algn="l" pos="4834080"/>
                <a:tab algn="l" pos="5291280"/>
                <a:tab algn="l" pos="5748480"/>
                <a:tab algn="l" pos="6205680"/>
                <a:tab algn="l" pos="6662880"/>
                <a:tab algn="l" pos="7120080"/>
                <a:tab algn="l" pos="7577280"/>
                <a:tab algn="l" pos="8034480"/>
                <a:tab algn="l" pos="8491680"/>
                <a:tab algn="l" pos="8948880"/>
                <a:tab algn="l" pos="940608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view the conditions and see what is contained in th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262080"/>
                <a:tab algn="l" pos="719280"/>
                <a:tab algn="l" pos="1176480"/>
                <a:tab algn="l" pos="1633680"/>
                <a:tab algn="l" pos="2090880"/>
                <a:tab algn="l" pos="2548080"/>
                <a:tab algn="l" pos="3005280"/>
                <a:tab algn="l" pos="3462480"/>
                <a:tab algn="l" pos="3919680"/>
                <a:tab algn="l" pos="4376880"/>
                <a:tab algn="l" pos="4834080"/>
                <a:tab algn="l" pos="5291280"/>
                <a:tab algn="l" pos="5748480"/>
                <a:tab algn="l" pos="6205680"/>
                <a:tab algn="l" pos="6662880"/>
                <a:tab algn="l" pos="7120080"/>
                <a:tab algn="l" pos="7577280"/>
                <a:tab algn="l" pos="8034480"/>
                <a:tab algn="l" pos="8491680"/>
                <a:tab algn="l" pos="8948880"/>
                <a:tab algn="l" pos="940608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f part is similar, it could probably be combin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Shortening if State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03280" y="530280"/>
            <a:ext cx="8183520" cy="43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tIns="91440" anchor="t">
            <a:noAutofit/>
          </a:bodyPr>
          <a:p>
            <a:pPr marL="262080" indent="-2620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262080"/>
                <a:tab algn="l" pos="719280"/>
                <a:tab algn="l" pos="1176480"/>
                <a:tab algn="l" pos="1633680"/>
                <a:tab algn="l" pos="2090880"/>
                <a:tab algn="l" pos="2548080"/>
                <a:tab algn="l" pos="3005280"/>
                <a:tab algn="l" pos="3462480"/>
                <a:tab algn="l" pos="3919680"/>
                <a:tab algn="l" pos="4376880"/>
                <a:tab algn="l" pos="4834080"/>
                <a:tab algn="l" pos="5291280"/>
                <a:tab algn="l" pos="5748480"/>
                <a:tab algn="l" pos="6205680"/>
                <a:tab algn="l" pos="6662880"/>
                <a:tab algn="l" pos="7120080"/>
                <a:tab algn="l" pos="7577280"/>
                <a:tab algn="l" pos="8034480"/>
                <a:tab algn="l" pos="8491680"/>
                <a:tab algn="l" pos="8948880"/>
                <a:tab algn="l" pos="940608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uld use nested if stat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1965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262080"/>
                <a:tab algn="l" pos="719280"/>
                <a:tab algn="l" pos="1176480"/>
                <a:tab algn="l" pos="1633680"/>
                <a:tab algn="l" pos="2090880"/>
                <a:tab algn="l" pos="2548080"/>
                <a:tab algn="l" pos="3005280"/>
                <a:tab algn="l" pos="3462480"/>
                <a:tab algn="l" pos="3919680"/>
                <a:tab algn="l" pos="4376880"/>
                <a:tab algn="l" pos="4834080"/>
                <a:tab algn="l" pos="5291280"/>
                <a:tab algn="l" pos="5748480"/>
                <a:tab algn="l" pos="6205680"/>
                <a:tab algn="l" pos="6662880"/>
                <a:tab algn="l" pos="7120080"/>
                <a:tab algn="l" pos="7577280"/>
                <a:tab algn="l" pos="8034480"/>
                <a:tab algn="l" pos="8491680"/>
                <a:tab algn="l" pos="8948880"/>
                <a:tab algn="l" pos="94060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SimSun"/>
              </a:rPr>
              <a:t>if (sun shines)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1965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262080"/>
                <a:tab algn="l" pos="719280"/>
                <a:tab algn="l" pos="1176480"/>
                <a:tab algn="l" pos="1633680"/>
                <a:tab algn="l" pos="2090880"/>
                <a:tab algn="l" pos="2548080"/>
                <a:tab algn="l" pos="3005280"/>
                <a:tab algn="l" pos="3462480"/>
                <a:tab algn="l" pos="3919680"/>
                <a:tab algn="l" pos="4376880"/>
                <a:tab algn="l" pos="4834080"/>
                <a:tab algn="l" pos="5291280"/>
                <a:tab algn="l" pos="5748480"/>
                <a:tab algn="l" pos="6205680"/>
                <a:tab algn="l" pos="6662880"/>
                <a:tab algn="l" pos="7120080"/>
                <a:tab algn="l" pos="7577280"/>
                <a:tab algn="l" pos="8034480"/>
                <a:tab algn="l" pos="8491680"/>
                <a:tab algn="l" pos="8948880"/>
                <a:tab algn="l" pos="94060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SimSu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SimSun"/>
              </a:rPr>
              <a:t>if (eightA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1965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262080"/>
                <a:tab algn="l" pos="719280"/>
                <a:tab algn="l" pos="1176480"/>
                <a:tab algn="l" pos="1633680"/>
                <a:tab algn="l" pos="2090880"/>
                <a:tab algn="l" pos="2548080"/>
                <a:tab algn="l" pos="3005280"/>
                <a:tab algn="l" pos="3462480"/>
                <a:tab algn="l" pos="3919680"/>
                <a:tab algn="l" pos="4376880"/>
                <a:tab algn="l" pos="4834080"/>
                <a:tab algn="l" pos="5291280"/>
                <a:tab algn="l" pos="5748480"/>
                <a:tab algn="l" pos="6205680"/>
                <a:tab algn="l" pos="6662880"/>
                <a:tab algn="l" pos="7120080"/>
                <a:tab algn="l" pos="7577280"/>
                <a:tab algn="l" pos="8034480"/>
                <a:tab algn="l" pos="8491680"/>
                <a:tab algn="l" pos="8948880"/>
                <a:tab algn="l" pos="94060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SimSu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SimSu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SimSun"/>
              </a:rPr>
              <a:t>walk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1965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262080"/>
                <a:tab algn="l" pos="719280"/>
                <a:tab algn="l" pos="1176480"/>
                <a:tab algn="l" pos="1633680"/>
                <a:tab algn="l" pos="2090880"/>
                <a:tab algn="l" pos="2548080"/>
                <a:tab algn="l" pos="3005280"/>
                <a:tab algn="l" pos="3462480"/>
                <a:tab algn="l" pos="3919680"/>
                <a:tab algn="l" pos="4376880"/>
                <a:tab algn="l" pos="4834080"/>
                <a:tab algn="l" pos="5291280"/>
                <a:tab algn="l" pos="5748480"/>
                <a:tab algn="l" pos="6205680"/>
                <a:tab algn="l" pos="6662880"/>
                <a:tab algn="l" pos="7120080"/>
                <a:tab algn="l" pos="7577280"/>
                <a:tab algn="l" pos="8034480"/>
                <a:tab algn="l" pos="8491680"/>
                <a:tab algn="l" pos="8948880"/>
                <a:tab algn="l" pos="94060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SimSu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SimSun"/>
              </a:rPr>
              <a:t>if !(eightA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1965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262080"/>
                <a:tab algn="l" pos="719280"/>
                <a:tab algn="l" pos="1176480"/>
                <a:tab algn="l" pos="1633680"/>
                <a:tab algn="l" pos="2090880"/>
                <a:tab algn="l" pos="2548080"/>
                <a:tab algn="l" pos="3005280"/>
                <a:tab algn="l" pos="3462480"/>
                <a:tab algn="l" pos="3919680"/>
                <a:tab algn="l" pos="4376880"/>
                <a:tab algn="l" pos="4834080"/>
                <a:tab algn="l" pos="5291280"/>
                <a:tab algn="l" pos="5748480"/>
                <a:tab algn="l" pos="6205680"/>
                <a:tab algn="l" pos="6662880"/>
                <a:tab algn="l" pos="7120080"/>
                <a:tab algn="l" pos="7577280"/>
                <a:tab algn="l" pos="8034480"/>
                <a:tab algn="l" pos="8491680"/>
                <a:tab algn="l" pos="8948880"/>
                <a:tab algn="l" pos="94060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SimSu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SimSu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SimSun"/>
              </a:rPr>
              <a:t>!walk;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1965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262080"/>
                <a:tab algn="l" pos="719280"/>
                <a:tab algn="l" pos="1176480"/>
                <a:tab algn="l" pos="1633680"/>
                <a:tab algn="l" pos="2090880"/>
                <a:tab algn="l" pos="2548080"/>
                <a:tab algn="l" pos="3005280"/>
                <a:tab algn="l" pos="3462480"/>
                <a:tab algn="l" pos="3919680"/>
                <a:tab algn="l" pos="4376880"/>
                <a:tab algn="l" pos="4834080"/>
                <a:tab algn="l" pos="5291280"/>
                <a:tab algn="l" pos="5748480"/>
                <a:tab algn="l" pos="6205680"/>
                <a:tab algn="l" pos="6662880"/>
                <a:tab algn="l" pos="7120080"/>
                <a:tab algn="l" pos="7577280"/>
                <a:tab algn="l" pos="8034480"/>
                <a:tab algn="l" pos="8491680"/>
                <a:tab algn="l" pos="8948880"/>
                <a:tab algn="l" pos="94060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SimSun"/>
              </a:rPr>
              <a:t>if !(sun shin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1965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262080"/>
                <a:tab algn="l" pos="719280"/>
                <a:tab algn="l" pos="1176480"/>
                <a:tab algn="l" pos="1633680"/>
                <a:tab algn="l" pos="2090880"/>
                <a:tab algn="l" pos="2548080"/>
                <a:tab algn="l" pos="3005280"/>
                <a:tab algn="l" pos="3462480"/>
                <a:tab algn="l" pos="3919680"/>
                <a:tab algn="l" pos="4376880"/>
                <a:tab algn="l" pos="4834080"/>
                <a:tab algn="l" pos="5291280"/>
                <a:tab algn="l" pos="5748480"/>
                <a:tab algn="l" pos="6205680"/>
                <a:tab algn="l" pos="6662880"/>
                <a:tab algn="l" pos="7120080"/>
                <a:tab algn="l" pos="7577280"/>
                <a:tab algn="l" pos="8034480"/>
                <a:tab algn="l" pos="8491680"/>
                <a:tab algn="l" pos="8948880"/>
                <a:tab algn="l" pos="94060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SimSu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SimSu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SimSun"/>
              </a:rPr>
              <a:t>walk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1965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262080"/>
                <a:tab algn="l" pos="719280"/>
                <a:tab algn="l" pos="1176480"/>
                <a:tab algn="l" pos="1633680"/>
                <a:tab algn="l" pos="2090880"/>
                <a:tab algn="l" pos="2548080"/>
                <a:tab algn="l" pos="3005280"/>
                <a:tab algn="l" pos="3462480"/>
                <a:tab algn="l" pos="3919680"/>
                <a:tab algn="l" pos="4376880"/>
                <a:tab algn="l" pos="4834080"/>
                <a:tab algn="l" pos="5291280"/>
                <a:tab algn="l" pos="5748480"/>
                <a:tab algn="l" pos="6205680"/>
                <a:tab algn="l" pos="6662880"/>
                <a:tab algn="l" pos="7120080"/>
                <a:tab algn="l" pos="7577280"/>
                <a:tab algn="l" pos="8034480"/>
                <a:tab algn="l" pos="8491680"/>
                <a:tab algn="l" pos="8948880"/>
                <a:tab algn="l" pos="94060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SimSun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1965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262080"/>
                <a:tab algn="l" pos="719280"/>
                <a:tab algn="l" pos="1176480"/>
                <a:tab algn="l" pos="1633680"/>
                <a:tab algn="l" pos="2090880"/>
                <a:tab algn="l" pos="2548080"/>
                <a:tab algn="l" pos="3005280"/>
                <a:tab algn="l" pos="3462480"/>
                <a:tab algn="l" pos="3919680"/>
                <a:tab algn="l" pos="4376880"/>
                <a:tab algn="l" pos="4834080"/>
                <a:tab algn="l" pos="5291280"/>
                <a:tab algn="l" pos="5748480"/>
                <a:tab algn="l" pos="6205680"/>
                <a:tab algn="l" pos="6662880"/>
                <a:tab algn="l" pos="7120080"/>
                <a:tab algn="l" pos="7577280"/>
                <a:tab algn="l" pos="8034480"/>
                <a:tab algn="l" pos="8491680"/>
                <a:tab algn="l" pos="8948880"/>
                <a:tab algn="l" pos="94060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SimSu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SimSu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SimSun"/>
              </a:rPr>
              <a:t>!walk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1965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262080"/>
                <a:tab algn="l" pos="719280"/>
                <a:tab algn="l" pos="1176480"/>
                <a:tab algn="l" pos="1633680"/>
                <a:tab algn="l" pos="2090880"/>
                <a:tab algn="l" pos="2548080"/>
                <a:tab algn="l" pos="3005280"/>
                <a:tab algn="l" pos="3462480"/>
                <a:tab algn="l" pos="3919680"/>
                <a:tab algn="l" pos="4376880"/>
                <a:tab algn="l" pos="4834080"/>
                <a:tab algn="l" pos="5291280"/>
                <a:tab algn="l" pos="5748480"/>
                <a:tab algn="l" pos="6205680"/>
                <a:tab algn="l" pos="6662880"/>
                <a:tab algn="l" pos="7120080"/>
                <a:tab algn="l" pos="7577280"/>
                <a:tab algn="l" pos="8034480"/>
                <a:tab algn="l" pos="8491680"/>
                <a:tab algn="l" pos="8948880"/>
                <a:tab algn="l" pos="94060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1965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262080"/>
                <a:tab algn="l" pos="719280"/>
                <a:tab algn="l" pos="1176480"/>
                <a:tab algn="l" pos="1633680"/>
                <a:tab algn="l" pos="2090880"/>
                <a:tab algn="l" pos="2548080"/>
                <a:tab algn="l" pos="3005280"/>
                <a:tab algn="l" pos="3462480"/>
                <a:tab algn="l" pos="3919680"/>
                <a:tab algn="l" pos="4376880"/>
                <a:tab algn="l" pos="4834080"/>
                <a:tab algn="l" pos="5291280"/>
                <a:tab algn="l" pos="5748480"/>
                <a:tab algn="l" pos="6205680"/>
                <a:tab algn="l" pos="6662880"/>
                <a:tab algn="l" pos="7120080"/>
                <a:tab algn="l" pos="7577280"/>
                <a:tab algn="l" pos="8034480"/>
                <a:tab algn="l" pos="8491680"/>
                <a:tab algn="l" pos="8948880"/>
                <a:tab algn="l" pos="94060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Boolean Equivalen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03280" y="530280"/>
            <a:ext cx="8183520" cy="418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tIns="91440" anchor="t">
            <a:noAutofit/>
          </a:bodyPr>
          <a:p>
            <a:pPr marL="262080" indent="-2620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262080"/>
                <a:tab algn="l" pos="719280"/>
                <a:tab algn="l" pos="1176480"/>
                <a:tab algn="l" pos="1633680"/>
                <a:tab algn="l" pos="2090880"/>
                <a:tab algn="l" pos="2548080"/>
                <a:tab algn="l" pos="3005280"/>
                <a:tab algn="l" pos="3462480"/>
                <a:tab algn="l" pos="3919680"/>
                <a:tab algn="l" pos="4376880"/>
                <a:tab algn="l" pos="4834080"/>
                <a:tab algn="l" pos="5291280"/>
                <a:tab algn="l" pos="5748480"/>
                <a:tab algn="l" pos="6205680"/>
                <a:tab algn="l" pos="6662880"/>
                <a:tab algn="l" pos="7120080"/>
                <a:tab algn="l" pos="7577280"/>
                <a:tab algn="l" pos="8034480"/>
                <a:tab algn="l" pos="8491680"/>
                <a:tab algn="l" pos="8948880"/>
                <a:tab algn="l" pos="940608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!(p||q) = !p &amp;&amp; !q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262080"/>
                <a:tab algn="l" pos="719280"/>
                <a:tab algn="l" pos="1176480"/>
                <a:tab algn="l" pos="1633680"/>
                <a:tab algn="l" pos="2090880"/>
                <a:tab algn="l" pos="2548080"/>
                <a:tab algn="l" pos="3005280"/>
                <a:tab algn="l" pos="3462480"/>
                <a:tab algn="l" pos="3919680"/>
                <a:tab algn="l" pos="4376880"/>
                <a:tab algn="l" pos="4834080"/>
                <a:tab algn="l" pos="5291280"/>
                <a:tab algn="l" pos="5748480"/>
                <a:tab algn="l" pos="6205680"/>
                <a:tab algn="l" pos="6662880"/>
                <a:tab algn="l" pos="7120080"/>
                <a:tab algn="l" pos="7577280"/>
                <a:tab algn="l" pos="8034480"/>
                <a:tab algn="l" pos="8491680"/>
                <a:tab algn="l" pos="8948880"/>
                <a:tab algn="l" pos="940608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!(p &amp;&amp; q) = !p || !q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262080"/>
                <a:tab algn="l" pos="719280"/>
                <a:tab algn="l" pos="1176480"/>
                <a:tab algn="l" pos="1633680"/>
                <a:tab algn="l" pos="2090880"/>
                <a:tab algn="l" pos="2548080"/>
                <a:tab algn="l" pos="3005280"/>
                <a:tab algn="l" pos="3462480"/>
                <a:tab algn="l" pos="3919680"/>
                <a:tab algn="l" pos="4376880"/>
                <a:tab algn="l" pos="4834080"/>
                <a:tab algn="l" pos="5291280"/>
                <a:tab algn="l" pos="5748480"/>
                <a:tab algn="l" pos="6205680"/>
                <a:tab algn="l" pos="6662880"/>
                <a:tab algn="l" pos="7120080"/>
                <a:tab algn="l" pos="7577280"/>
                <a:tab algn="l" pos="8034480"/>
                <a:tab algn="l" pos="8491680"/>
                <a:tab algn="l" pos="8948880"/>
                <a:tab algn="l" pos="940608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 || (q &amp;&amp; r) = (p||q) &amp;&amp; (p||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262080"/>
                <a:tab algn="l" pos="719280"/>
                <a:tab algn="l" pos="1176480"/>
                <a:tab algn="l" pos="1633680"/>
                <a:tab algn="l" pos="2090880"/>
                <a:tab algn="l" pos="2548080"/>
                <a:tab algn="l" pos="3005280"/>
                <a:tab algn="l" pos="3462480"/>
                <a:tab algn="l" pos="3919680"/>
                <a:tab algn="l" pos="4376880"/>
                <a:tab algn="l" pos="4834080"/>
                <a:tab algn="l" pos="5291280"/>
                <a:tab algn="l" pos="5748480"/>
                <a:tab algn="l" pos="6205680"/>
                <a:tab algn="l" pos="6662880"/>
                <a:tab algn="l" pos="7120080"/>
                <a:tab algn="l" pos="7577280"/>
                <a:tab algn="l" pos="8034480"/>
                <a:tab algn="l" pos="8491680"/>
                <a:tab algn="l" pos="8948880"/>
                <a:tab algn="l" pos="940608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 &amp;&amp; (q||r) = (p &amp;&amp; q) || (p &amp;&amp; 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31T13:20:11Z</dcterms:created>
  <dc:creator>End User</dc:creator>
  <dc:description/>
  <dc:language>en-US</dc:language>
  <cp:lastModifiedBy>End User</cp:lastModifiedBy>
  <dcterms:modified xsi:type="dcterms:W3CDTF">2014-03-31T14:21:09Z</dcterms:modified>
  <cp:revision>6</cp:revision>
  <dc:subject/>
  <dc:title>Logical Operators</dc:title>
</cp:coreProperties>
</file>