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BA1-C366-4185-9A9D-4A41D432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15C-F088-426A-BB50-567F81DB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F78-1DA6-460C-BB16-9E311236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AE0-EB46-44DA-9408-034CE527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FC5-DCB6-485C-9E7E-DC827084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5572-F958-4F8F-AC24-3B8BB0F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E647-4EE8-4934-BB33-4F5840E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135E-4860-4951-8B49-5C8FCED6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74C2-7B13-463B-86EB-DEC7D7C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870D-6202-4C14-B477-CA2071A7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EC1-59FE-4802-86C1-F4856B1B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F5C-80D5-4CAE-BFED-16BF520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F0EF-CB06-4E13-A9C2-7593ACD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5182-9F24-44B8-9E00-384BF57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C2B3-DDF9-48A1-AC32-F1958BC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DEDA-7A99-4B98-9A7B-D70677B6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13B4-8785-46F4-A54B-A33516C0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E64F-6A9F-4679-892B-93E640F2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F5387-90B0-494E-B5C5-B379F06B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3935-A65E-497D-89AB-CA44505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F49F-D8C3-42C2-877D-47BCF9F7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FCA5-C7F8-45C3-ABCA-D84A08A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92E-0F14-45E5-9E6E-198DF32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D8EA8-EB87-4489-840C-BF0B1968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CF17-742D-4C73-9093-47F365DC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92EA0-920F-4B1F-89CF-13F9C97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89D81-D4F5-49A1-8C8A-06883F78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131E-2E7C-4D08-A59E-453B4E31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43A7-2792-4E17-8A26-529A6276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DA7D-DF99-4217-994E-981D1E50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6630B-C4D3-4F64-9564-25594FB4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9487-453E-41C8-8D44-5A7F78B6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2356-3B5B-4B76-825A-B431476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47B-95A0-4E91-A878-233DF5E2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4BB8E-FE72-4CAF-8427-860E1BDF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6FBA0-61A0-4455-BF8A-01ACEA74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3EC84-82E4-48C7-BBFB-2A764D0D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DD88B-3AB2-4202-B8D8-FB2AF1D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A002-24EC-41BE-8B5C-16283B7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F03B8-B322-41F2-9706-1387747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6CDF-5F51-4CDD-AD95-9174341D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338B-DBEA-4335-8687-C745914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4CA5-891F-4BE4-939B-FB51DAB2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4982-9A04-4ED4-920B-C6F6520C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6EB-4929-4E31-A879-834F4B94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FF1F-5B16-4938-B532-388F03BF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26BC9-547C-4611-B442-CCCA8370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D4CC-4548-479E-820F-43F7C3C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C9070-1A6E-4551-B24D-B3D6263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A609-F3DF-47E6-BFFF-4A4A0324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E30AD-901D-4A40-8681-3C6FF0FD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CDEF-9407-4941-9744-D7DC9671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5D42-DE2C-4535-96A4-FC6B7BD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EEF7-C6D9-4FA7-975E-9ABF372C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9755-7037-4937-A8CD-5AE22039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F0F-70AB-4792-9D4B-F00A0453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A783A-34A2-4B7F-957F-04D51D7F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7C9-ED40-42C1-9011-DFAB1A44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763-4777-49C8-85F7-29AB7CA8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24A-2D9D-4ECB-A95C-E034330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F00-0D21-4A41-B655-C27B049BC3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ED12-2DF3-49D9-8B10-31ADED7981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3528-D1CA-48E0-A239-8E3A76D792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D6B-EC65-4FB5-94ED-23FD52508F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CD28-5DAE-405D-88DB-6986794AC58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6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Section 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esting if Statemen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put Valid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ality Assurance (QA) – ongoing process of testing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lete code coverage – every line must be tested at least o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undary conditions – on or near boundaries between changes in condition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regular time to over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witching from overtime to double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treme conditions – data at the limits of valid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an 89 an A or a B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member the waterfall model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sting should be an important part of writing your progra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re’s a job for th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’s called a video game quality assurance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rite a paragraph or two on the life of a QA tes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GN has an article on i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stuffworks has one to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6:36:17Z</dcterms:created>
  <dc:creator>End User</dc:creator>
  <dc:description/>
  <dc:language>en-US</dc:language>
  <cp:lastModifiedBy>End User</cp:lastModifiedBy>
  <dcterms:modified xsi:type="dcterms:W3CDTF">2014-03-31T16:59:43Z</dcterms:modified>
  <cp:revision>3</cp:revision>
  <dc:subject/>
  <dc:title>Testing if Statements</dc:title>
</cp:coreProperties>
</file>