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D264-BE01-4876-9872-47DDC6679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BF5D-5283-41E5-8ECF-6B8BE351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D244-F207-4C92-A757-866FF1100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E95C-4707-44C5-8E09-FD7833014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5E45-96F1-4780-8E8D-6AB24D2B9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41EF-8927-4E34-8354-D06660FE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2A09D-A56D-48CD-B70A-F8E007DD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D8B5-6BDB-485B-A1B1-BF5950F1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0600-2738-4CD0-9D5C-AAABEA4D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61B5-E8B6-4CAA-9388-18EA0E9B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AA56-EA87-47E5-B6D4-3123151D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C14F-34B0-475A-A8D1-0C951136C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F1DD-3F88-4D8C-B168-BE8C3AC4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3422-8D81-4CC9-9FD4-53740756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982D-3969-4CD0-BB94-79C82000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7812-1A10-4477-9B7F-E1F387EAB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DD39-2646-46DB-A7D1-7C76FBA28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AC79A8-D3F6-448D-83EA-7F2732B23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5A4BB9-9A1E-4B2C-8AAD-C6DE3D89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8F75B3-0ADC-4796-8A51-17962DD5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966394-BA13-4D92-ADB7-04B1B925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65B7AD-A9D7-4727-A5AD-94F3A8D1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31FF-15FF-4D84-B259-0F3E033B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3A9F36-2DF6-4719-B39D-11294A48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06D3B2-6D23-420F-ABEC-DC317769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9119C3-25B4-4A55-95CB-88301D4C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1FF6DF-6F41-4A92-AB7E-0E605756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7FDA5D-2F3B-47E1-BD5B-57173D9E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22CDA8-2764-4209-9674-978B3B10F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AB5F62-EBFF-4813-9FFE-4F46F2829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4C686-25E8-40A5-9BA0-A4D4F2CA9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4A2C1-6FE4-4C83-A924-12AE50EF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C9157-4B2A-431D-9B0F-755502DF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CFF7-248D-4049-955B-C1B84A93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2CF99-8B65-4E6B-A57B-2C230232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3A4E2-8CBA-4CAF-BE7E-52DF5E1A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A204F-49DC-449A-81B0-677CD9C8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E5963-073A-4D4E-A6D6-CFAD9B60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8498A-F173-4F60-B3B2-B311EEA3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BDFDB-81A0-4720-B6F0-87A2FD09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2531E-98C1-43A5-A9FA-F6461FFF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32A0F-CBD6-4E03-AF44-5A3816E2F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42712-2C24-4142-A97E-428310F0D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0215-1B7F-46B3-B57D-7304E142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CD69-FCF4-486F-A278-48B0D35F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8ADE-635C-4896-B0E9-583F38F5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D520-F36C-4004-836F-29B7D26C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0285-D3DF-48E4-A8C5-5FFB9706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8421-4ADA-4207-9CDC-568FAC046C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Rectangle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Rectangle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Rounded Rectangle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Rounded Rectangle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Rectangle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Rectangle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Rectangle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Rectangle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4D76-18C9-4F03-859D-66915B0F5C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E626-CB1B-457A-A632-3C952BA7BF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BB04-3A2E-4A40-8C72-194FEC8DB42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Nested if statements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Chapter 6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Section 3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f(time is after 7PM){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f(you have a book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ad the book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atch TV;}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o for a walk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Remember the Grade program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t’s make it with nested if statemen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ut this time, use only the lower limit for the grade in your condi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oes it still process the same way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7T12:08:43Z</dcterms:created>
  <dc:creator>End User</dc:creator>
  <dc:description/>
  <dc:language>en-US</dc:language>
  <cp:lastModifiedBy>End User</cp:lastModifiedBy>
  <dcterms:modified xsi:type="dcterms:W3CDTF">2014-04-07T12:14:07Z</dcterms:modified>
  <cp:revision>1</cp:revision>
  <dc:subject/>
  <dc:title>Nested if statements</dc:title>
</cp:coreProperties>
</file>