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F2C-D4EC-4631-AAD8-248A7058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894-D9D0-4086-B461-723808E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95A-6079-4A26-BD7E-A1E422BA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74D-CB04-4659-A90D-7190A6F8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1558-1BC0-4D6A-B4F0-FF7B8840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2BAD-5F47-4157-B145-8479115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3B6B-7D8B-40B7-AB19-0325964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0E6A-8061-4064-B8B3-F1B49CFD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BC32-A1DA-409E-973A-19FC9B74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1B0-1CC1-4804-BEDA-5D6787D0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DA49-AC2D-4DE1-A65F-1BB2049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4482-9882-4AEE-B4B6-8EEECD40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E161-DAB0-46B7-8A2C-746EDF7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62A1-121D-4775-B973-40D4C70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A7D5-D985-48EB-936E-FBC737A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DBC9-8618-4C4B-9213-CB28A1E3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0514-690A-48E1-AC47-BA197D4A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66CD-33F3-418D-9A51-2592C411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E409F-C142-4E67-97E6-A8DF3600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29DA-E3D8-4DB2-A911-533546BE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DC28-E01A-46AF-BE92-532D221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9EE21-A4D7-45EA-9FE9-38BAAE57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F14-F2EC-4099-8FE3-768BA543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E9FC-1DC7-406E-8B3B-7D04025F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6972-FD5E-45C0-92FB-BFDCD80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BCC0-BF34-4546-90EF-CFE6B1E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D2AD-B060-4283-A886-656FB33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C220-3A2F-4D1B-962B-F0E9E20F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7DEAA-55D3-436E-92E8-C4BAC128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B6574-F520-42EF-8BB6-0E7F4632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DE06-9419-48FE-8EE7-38C800BD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51FE7-7D3D-4074-93F1-66F2027F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8BDE-31CD-41A9-BB46-F583535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A9D-B65E-4215-9343-CA9CC2D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67FE-0195-4829-9D3D-627ADE2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B50E-75BF-4A79-8CBC-6CCC3821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76621-4F60-4DB8-A123-9BDF1AE8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DBFEA-6795-425C-AD91-257E7B63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A6A8-3DA3-4D25-89C5-DCC93E89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FD86-CA61-4476-A094-34F3E13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1C70-2351-469C-AD41-7DE676D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AF26-910B-40F9-9BA0-093D562F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41CF-983E-4951-8016-F8C12B0F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D0F-58D8-490A-8241-EA17182E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F83-5985-4DDC-A5E1-84E0316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14F-A812-4AB8-AF02-B024EEC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387-A5B3-48C2-92CD-CD65012A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6B9-6598-47CB-B1D9-85C527C7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0275-8061-4045-8872-8565A7029F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A13A-F97F-45A8-8296-8CA00B39FE3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77D-B904-4014-8749-3710E322257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09D-C4E6-4140-A2C3-DE2F536E1C8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2-goq83uKJ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7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apter 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http://images.cdn.whathifi.com/sites/whathifi.com/files/images/LLAP.jpg"/>
          <p:cNvPicPr/>
          <p:nvPr/>
        </p:nvPicPr>
        <p:blipFill>
          <a:blip r:embed="rId2"/>
          <a:stretch/>
        </p:blipFill>
        <p:spPr>
          <a:xfrm>
            <a:off x="304920" y="3657600"/>
            <a:ext cx="50990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ogic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youtube.com/watch?v=2-goq83uKJQ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splaced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819520"/>
          <a:ext cx="7619760" cy="220968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weather is wet)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have umbrel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lk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}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un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 Bra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weather  we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(have umbrell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lk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n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on Err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statements in the wrong ord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523880" y="3048120"/>
          <a:ext cx="6248520" cy="1558800"/>
        </p:xfrm>
        <a:graphic>
          <a:graphicData uri="http://schemas.openxmlformats.org/drawingml/2006/table">
            <a:tbl>
              <a:tblPr/>
              <a:tblGrid>
                <a:gridCol w="312444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ersion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1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f (sales &gt;= 10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2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lse if (sales &gt;= 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ommission = sales * 0.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1:58:00Z</dcterms:created>
  <dc:creator>End User</dc:creator>
  <dc:description/>
  <dc:language>en-US</dc:language>
  <cp:lastModifiedBy>End User</cp:lastModifiedBy>
  <dcterms:modified xsi:type="dcterms:W3CDTF">2014-04-15T18:41:49Z</dcterms:modified>
  <cp:revision>13</cp:revision>
  <dc:subject/>
  <dc:title>Logic Errors in Nested if statements</dc:title>
</cp:coreProperties>
</file>