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4533-9B9A-4F87-994F-0D9F39B3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360" y="4306320"/>
            <a:ext cx="8313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3066-CF1F-4A26-93E4-A8D272EA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36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60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A3D-35F7-49E3-A7E2-5FDA2F30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600" y="212868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82840" y="212868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360" y="430632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600" y="430632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82840" y="430632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98F-CEC5-4D41-A2E0-A6DE9DC1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3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153-460C-43B2-9D79-6300163D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C60-994D-42B8-B069-D8BE79EC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347-07FC-468D-8381-CFB2FBD1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06A-5758-4E1A-B017-1E5F38A6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384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CE3-6768-49C1-B4F1-055E68E0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36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FD63-3F62-4B7C-B90D-EAB0B412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60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118-39BF-43DD-976A-0DADA3F1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360" y="4306320"/>
            <a:ext cx="8313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723-B757-41FA-A536-B6AD2FC6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0360" y="2128680"/>
            <a:ext cx="8313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280" y="6743520"/>
            <a:ext cx="23461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9000" y="6743520"/>
            <a:ext cx="31939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35720" y="6743520"/>
            <a:ext cx="234648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2F99B-54A2-4389-8DC8-5E55E9C8E4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662040"/>
            <a:ext cx="8675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st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sted Loo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a second/inner loop inside of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cond loop ends before the first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 second loop ends, the outer/first loop resets the variables for the next time th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not done with do while lo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52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(n = lower; n &lt;= upper; n++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nerLimit = (int) Math.sqrt (n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(d = 2; d &lt;= innerLimit; d++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56500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n % d == 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2144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(d &gt; innerLi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56500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.out.println(n + “ is prime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16:45:22Z</dcterms:created>
  <dc:creator>Mike Farver</dc:creator>
  <dc:description>Presentation Layout Template</dc:description>
  <dc:language>en-US</dc:language>
  <cp:lastModifiedBy/>
  <cp:revision>1</cp:revision>
  <dc:subject/>
  <dc:title>Fresco</dc:title>
</cp:coreProperties>
</file>