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CBD-DA3B-4716-9D28-CDBA0BF8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870E-52AC-4AAF-8CE9-C037BD56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B31-8F73-4743-B5FC-EA781513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191-2E3F-48F7-A869-1FD250D4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6BD7-BE82-4050-AE9B-0ABBD646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DFD0-38F4-46FA-ADFC-49FD9805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2A38-6163-4D58-A183-50B33F3B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A2C4-165C-42D8-ADAF-FC01DAD4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C0A8-12F7-47E0-B273-7C852C3D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6A53-67DF-46EB-B91D-1E29EDB0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A711-364C-4663-8383-F683E292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942-C0E1-4B80-8EA5-6A199E75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1656-88FC-4F0A-8671-15139C6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F3D8-FC56-4D8B-9E27-5BDB89C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B17B-2809-4856-AA2B-7F75F658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21C8-0A13-4467-BF7B-73B6C6EE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690F-96E8-4BE9-9E30-0B98BE2C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155-C63E-40F7-A65F-E6F660A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7CE-0755-4B1B-A19F-D255A6A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A25-7F17-4131-B183-01EFE4DF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73B-16F1-42C0-BB24-3C203E6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0C7-BF49-40D7-A761-3B8323B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9DA-3BED-44D6-B0B5-E4955A9D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84A-DF41-4D11-9D58-3141DEF6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684C-4132-492F-950C-4FA47901B8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3EEE-CFC1-4DD7-BE45-81A8A70A6D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mon Java Err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istyping a Method Nam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riding a meth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efault method would be called inst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r code is never used, but no errors gene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ing a method that does not exist will generate an err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arison vs. Assign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ing = in place of ==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t data types will generate an err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e data type will overwrite the val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error gener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c error in progra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aring Obje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ing == instead of .equals for an Ob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 never equal – Wh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error gene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ssing by Value or Refer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Valu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es the value into another memory sp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mitive data types by defau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Refer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s the pointer to the object; no copy ma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are using original data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va is 0 index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ings and arrays start counting at 0, not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other values are 1 less than exp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xOutOfBoundsException will be generated if you go o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pitalization Ru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methods and variables start with lowercase let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new word means a capi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mel cas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mport Statemen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ort statements let you use other classes than the defau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ror generated when compi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2:27:02Z</dcterms:created>
  <dc:creator>Nikitah Farver</dc:creator>
  <dc:description/>
  <dc:language>en-US</dc:language>
  <cp:lastModifiedBy>Nikitah Farver</cp:lastModifiedBy>
  <dcterms:modified xsi:type="dcterms:W3CDTF">2014-04-15T02:32:18Z</dcterms:modified>
  <cp:revision>2</cp:revision>
  <dc:subject/>
  <dc:title>Common Java Errors</dc:title>
</cp:coreProperties>
</file>