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D014-CA78-40FC-A7A5-4BEE1E6A3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4F76-E4CE-4691-846F-50F822CE3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576C-D55F-469E-8DB8-85495884E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9A8A-9CE9-4F28-A2C0-31293B27F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95B1E-BD3E-485D-BC0A-5C0E561D8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528F1-20AD-406E-8D9A-F19523EF5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40B96-3C1F-41CA-8732-CE25D9293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DB229-3384-407B-AD07-806FBF58A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E1638-DBB7-43FF-8052-0B9FC09ED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32286-BD33-4C30-949C-01A751AF9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E5D6E-A328-41E7-98E3-73BC82C0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A2B9-0BA6-4AE2-B0D7-0B2735081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1B1E7-46A3-4344-9D87-A527521B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60433-2671-4A3A-95A5-4F5B3A2A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AEC1E-966E-4382-9D65-ED457FBCC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8173C-0495-4FD2-964E-DC1CD4DD4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ACF65-7B99-433E-A396-A3E706895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7E84-6FD4-4049-86FA-68F06861A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B95C-3E60-4C31-91B7-A21D63C95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6031-7417-4F57-99FE-206BB7262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F374-93B7-4895-9E3D-8853EE104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AEFC-0335-4DBB-8AA3-0A7FB252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2BFF-533C-42FD-8E76-875C4367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E2F1-C1CE-4B90-A7AD-D79E657F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85423-D28F-4088-A884-B9EB40DB097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0D792-5A5A-4196-9352-6E8B67C198E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mmon Java Error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istyping a Method Nam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verriding a metho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default method would be called instea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Your code is never used, but no errors generat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lling a method that does not exist will generate an erro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mparison vs. Assignmen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sing = in place of ==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fferent data types will generate an err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ame data type will overwrite the valu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 error generat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ogic error in program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mparing Object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sing == instead of .equals for an Objec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ill never equal – Why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 error generat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assing by Value or Referenc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y Valu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pies the value into another memory spa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imitive data types by defaul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y Referen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vides the pointer to the object; no copy ma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You are using original data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Java is 0 indexe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rings and arrays start counting at 0, not 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l other values are 1 less than expect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dexOutOfBoundsException will be generated if you go ov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apitalization Rul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ll methods and variables start with lowercase lett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new word means a capit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mel case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mport Statement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mport statements let you use other classes than the defaul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rror generated when compil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5T02:27:02Z</dcterms:created>
  <dc:creator>Nikitah Farver</dc:creator>
  <dc:description/>
  <dc:language>en-US</dc:language>
  <cp:lastModifiedBy>Nikitah Farver</cp:lastModifiedBy>
  <dcterms:modified xsi:type="dcterms:W3CDTF">2014-04-15T02:32:18Z</dcterms:modified>
  <cp:revision>2</cp:revision>
  <dc:subject/>
  <dc:title>Common Java Errors</dc:title>
</cp:coreProperties>
</file>