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E22D-2239-4245-99A2-2CC69BC299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FBBF-3405-42AD-9DFE-0EFDC64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2D5B-B52F-477F-BEDD-4360C716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C057-7F73-4DA8-9E02-FC0F31E7A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FB146-734A-47C1-A9C8-C132B5163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F3626-0379-4097-A55C-958AF913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E6154-F7D0-442A-B045-BC4E3BB8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933C1-33A5-40CF-86E5-4C2D565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7236-0872-412B-862D-F2C5AAEC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2AAFF-9308-4DEF-97B1-E19C558E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0975A-D696-4A3A-8F68-B432E98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A2FD-7017-4CDA-AA91-B989404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4A2F7-F6DC-4530-BF30-C8AC5A42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0E229-5332-4A30-B374-796044EA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3967D-E39C-443D-982A-C6F081B5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1942C-10C3-4E90-9E18-4E29F97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6597A-DA30-4499-88CC-49511F6A23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40FF-424F-4166-987D-443BE1CC6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F682-C13D-4860-9F9F-B16EA2C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61B8-0E70-4FBF-A21F-6B67AF2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2190-B850-472E-9EC7-2B925DD3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1FA0-14F0-4896-9488-E1400CBB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82AE-806C-44DC-AE8A-E750F858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4AB-5B09-4897-8600-F68764CA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989-9521-44D3-B9EB-87688001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CD8-D289-4186-A8CE-7E5BB5C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9BC4-2459-46EE-8EF0-7DA682C0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44E9-86B6-4910-BE18-ED047F60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4B3B-3AB3-4066-8CBA-B6B9189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1128-142C-4A75-B1F8-D794125199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6D73E-4640-40CA-A500-9AE39DE3E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E4A50-9648-4B06-8150-926DCCC0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43198-4905-4DB0-B078-D518553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2944-A652-4F9E-90B6-69CE4D4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B35B8-6E57-46D0-AFD8-6996A49C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A027E-5EF6-49DD-A9AF-CD0AB678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FED65-1596-45E1-B5C8-774C722A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1677E-A2A5-4E6A-B2F9-962AF8F0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0F628-FE6F-4F7D-97F9-81AC150A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6FCBB-3A8F-4902-8207-7A819524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20376-D967-4625-BA42-A31F57D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F0070-1B6D-4AE8-80C7-EC56E99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7A0D2-D366-42BF-B6F0-EFD39082EC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F1DCC-EF2F-41CB-AAF6-DCE0454B1B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2C5D-16E3-4968-8BC7-A5FC12D0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124479-2986-49E8-BFBA-21FB70E7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A0EF62-27CA-4D5C-B819-28FDAE3F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DB257F-050C-4116-A470-23F88A4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524CB-2C16-4D59-85D7-2F27EFAF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7BED34-2ECF-47DA-B4EF-CEEB0223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4A6A9-9672-4E27-BD9C-984F9BD6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86DE58-D71C-42C3-9649-06C8E81B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6F363E-C991-4950-86FE-85E668E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31B68-7BDB-49A0-91CC-CE1F2892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58455-9D17-427C-8E8C-DC5CE3B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07CE-2DE9-4F57-8FF6-E7101741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8B2A2-9226-41B9-946A-164419B29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D9DB-CCEB-4D5B-A352-88C9CCE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910E-ECC0-4C44-92A4-CED5A935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394E-92AF-4F2F-BCAC-7A016D7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02EC-90DF-455E-B800-79413F3F9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138B9-9422-4481-853D-1FE6D063452F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96DD8-98D7-423C-9C67-C234C7B1492E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2518C-BCF6-4DDC-AFFE-45F6B667B835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BFC19-04F5-4B72-ACF7-57549D5779FB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jeptaI2T8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Logical Op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 Circuit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thi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youtube.com/watch?v=WjeptaI2T8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false in an &amp;&amp; statement, the whole condition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true in an || statement, the whole condit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stops evaluating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03280" y="4889520"/>
            <a:ext cx="81835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ercis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program that evaluates and displays true and false boolean variables using the !, &amp;&amp;, and ||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74680" indent="-50004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!, use !(variable 1 &amp;&amp; variable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grades program?  Let's change it to use boolean variables in the if statements and make our conditions shor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OT, AND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use these terms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AND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OR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NOT sun is shining, then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uth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9040" y="593640"/>
            <a:ext cx="7905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ava’s Logical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- &amp;&amp; - higher than only assignment and 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- || - higher than onl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- ! – higher precedence than mat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3280" y="530280"/>
            <a:ext cx="8183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2 tests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&amp;&amp;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1 test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||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at least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core1 &lt; 70 || score2 &lt;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530280"/>
            <a:ext cx="8183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a value of only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it easier to have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ns conditions for evalu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bothHigh = score1 &gt;= 90 &amp;&amp;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oneHigh = score1 &gt;= 90 ||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noLow = !(score1 &lt; 70 || score2 &lt;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both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one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noLow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the conditions and see what is contained 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is similar, it could probably be comb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280" y="530280"/>
            <a:ext cx="818352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ld use nested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un shine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un sh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Equival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||q) = !p &amp;&amp;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 &amp;&amp; q) = !p ||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|| (q &amp;&amp; r) = (p||q) &amp;&amp; (p||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&amp;&amp; (q||r) = (p &amp;&amp; q) || (p &amp;&amp; 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20:11Z</dcterms:created>
  <dc:creator>End User</dc:creator>
  <dc:description/>
  <dc:language>en-US</dc:language>
  <cp:lastModifiedBy>End User</cp:lastModifiedBy>
  <dcterms:modified xsi:type="dcterms:W3CDTF">2014-03-31T14:21:09Z</dcterms:modified>
  <cp:revision>6</cp:revision>
  <dc:subject/>
  <dc:title>Logical Operators</dc:title>
</cp:coreProperties>
</file>