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ACF47-41C1-4839-A342-19EAC43C34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76426-501D-4483-AB3C-220AA9C4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559B-086A-467F-8EEB-B5DBEF2C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0BA7-1CA1-4CF4-8FCB-1A7DFAF15E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BB880-DD0C-437A-B6A5-4E5707EB65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B69FF-305B-481C-BE06-62F672BF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6D96C-484E-4810-835D-E138AA19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3C2D6-8468-4DA7-BEAB-C4502993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7848C-F6B9-4136-B055-373C9250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DE1DF-1E01-43AA-83D6-45AF3D85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6FA00-F12D-40A1-89A5-EEEF3383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4476-77AE-4E4A-BF8D-719406D7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4D4D2-A2A9-48DA-8179-7CE2BB52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EDEA5-A5F7-42BB-9D7A-C54E978A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D7E96-8DF5-466F-8CD4-92DED227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C1792-2D9F-4630-A6BD-D247332F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6C9A3-1B62-4975-BF69-BFAD568A3B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0A15-33C2-4DA1-893E-4D3FA8A748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717C-D5BB-489D-A21D-9DCC1A48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0135-145B-48BF-ABA3-BAA7218F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403A-8E0B-4CCA-A2C6-0DF24D52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B3D2-0EBB-4BC1-ADC8-F7B87981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7930-32E4-419B-894D-202D5737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112F-7402-4CDC-89C8-75BC489C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79F6-25B3-4719-9E8D-15AD2265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3801-97CF-490A-8CB7-833EE11E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4DD4-6496-4C9E-9940-D548836D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64DD-4B4F-4106-8F80-E10E7C73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B93D-6BB9-4D1C-AF4B-BEE8E4EA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A0A9-03C8-401D-B5DD-9BC3CD81D0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35E52-E9DF-46FE-8562-61C3DB5769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B98A6-61F5-4821-8069-120C67D5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C25AB-47ED-4484-9DF4-50F90ADC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A9333-9827-4FC7-B1D4-5B284C46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9F813-D40E-4F05-A63F-4DD1292D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13F55-B19C-48A2-935F-F6D7934A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FAD3F-1010-457F-9DDB-81A07423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82598-5913-4CBF-9903-4B9EDA73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DDD5F-F540-4950-A236-7EFF62C8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22C49-772A-4B56-90EE-8AC38C20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706A1-5705-4BF2-9D34-748D458D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D38A8-6CDA-415D-937C-BF94C9A7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53F89-D92F-4493-A3C3-7A43467C02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443121-3C07-41F7-B18E-E7535DACD2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715C-A210-43B4-ABB7-124EAA98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4CCF36-582A-4215-A745-FCC755AD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7F595B-2FEF-4655-89CB-6CECB8F0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94FB3-08AE-45DC-8532-DB34B6D9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F7F823-BA31-4BDD-A6E6-B02553CE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2AF87-4804-4C7D-9D50-C480D045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9CE08B-979B-4624-BF32-2230560E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99B8AD-44DE-4355-8E02-D91650A6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A30B9-502B-493D-A804-576F2374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DFBBBD-D360-4073-9375-EDDFD5C6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D12609-DCBB-40CE-B972-5868A0B0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B30C-5EA5-482E-805D-97B0DCB0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171904-C602-4614-8B51-C31E0D1312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FD42D-63FB-47AC-B9B0-A3F4626F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EDDDF-7659-40E9-A014-D02DE782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C87C0-3258-409F-9E7B-5A2809BA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14360" y="426960"/>
            <a:ext cx="8312040" cy="5494320"/>
            <a:chOff x="414360" y="426960"/>
            <a:chExt cx="8312040" cy="549432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54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5720" cy="54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1C74B-920A-47F5-A815-CB6E5F0F8A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14360" y="426960"/>
            <a:ext cx="8312040" cy="3117960"/>
            <a:chOff x="414360" y="426960"/>
            <a:chExt cx="8312040" cy="311796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31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19880" cy="30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14E8A-08CE-41CA-9609-364D478531D6}" type="slidenum"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14360" y="426960"/>
            <a:ext cx="8312040" cy="4349880"/>
            <a:chOff x="414360" y="426960"/>
            <a:chExt cx="8312040" cy="43498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43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48680" cy="42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2906A-F3CE-42FC-B467-61FCD0560EF7}" type="slidenum"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9F8AA-E4C1-40C8-BD5B-7635D86A413E}" type="slidenum"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A921D-B417-4293-87B3-3E801AD6DDB2}" type="slidenum"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jeptaI2T8E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Logical Operator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0" anchor="t">
            <a:noAutofit/>
          </a:bodyPr>
          <a:p>
            <a:pPr marL="36360" algn="r">
              <a:lnSpc>
                <a:spcPct val="100000"/>
              </a:lnSpc>
              <a:tabLst>
                <a:tab algn="l" pos="0"/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80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80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hort Circuit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this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s://www.youtube.com/watch?v=WjeptaI2T8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part of the condition is false in an &amp;&amp; statement, the whole condition i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part of the condition is true in an || statement, the whole condition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 stops evaluating as soon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03280" y="4889520"/>
            <a:ext cx="81835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xercis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58720" indent="-55728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a program that evaluates and displays true and false boolean variables using the !, &amp;&amp;, and || op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74680" indent="-50004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!, use !(variable 1 &amp;&amp; variable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8720" indent="-55728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 the grades program?  Let's change it to use boolean variables in the if statements and make our conditions shor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NOT, AND,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use these terms ever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sun is shining AND is 8 AM, let’s go for a walk, else we stay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sun is shining OR is 8 AM, let’s go for a walk, else we stay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NOT sun is shining, then let’s go for a walk, else we stay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uth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89040" y="593640"/>
            <a:ext cx="7905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ava’s Logical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- &amp;&amp; - higher than only assignment and |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- || - higher than only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- ! – higher precedence than math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2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3280" y="530280"/>
            <a:ext cx="818352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 must pass 2 tests with a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(score1 &gt;= 90 &amp;&amp; score2 &gt;= 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System.out.println (“Qualified!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 must pass 1 test with a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(score1 &gt;= 90 || score2 &gt;= 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System.out.println (“Qualified!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 must at least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!(score1 &lt; 70 || score2 &lt; 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oolean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3280" y="530280"/>
            <a:ext cx="818352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a value of only 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it easier to have multiple 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ens conditions for evaluatio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bothHigh = score1 &gt;= 90 &amp;&amp; score2 &gt;= 9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oneHigh = score1 &gt;= 90 || score2 &gt;= 9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noLow = !(score1 &lt; 70 || score2 &lt; 7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(bothHigh)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(oneHigh)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(noLow)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198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198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2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2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hortening if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the conditions and see what is contained i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part is similar, it could probably be comb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hortening if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3280" y="530280"/>
            <a:ext cx="818352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ld use nested 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(sun shines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(eight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wal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!(eight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!walk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!(sun sh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wal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!wal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oolean Equival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!(p||q) = !p &amp;&amp; !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!(p &amp;&amp; q) = !p || !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 || (q &amp;&amp; r) = (p||q) &amp;&amp; (p||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 &amp;&amp; (q||r) = (p &amp;&amp; q) || (p &amp;&amp; 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3:20:11Z</dcterms:created>
  <dc:creator>End User</dc:creator>
  <dc:description/>
  <dc:language>en-US</dc:language>
  <cp:lastModifiedBy>End User</cp:lastModifiedBy>
  <dcterms:modified xsi:type="dcterms:W3CDTF">2014-03-31T14:21:09Z</dcterms:modified>
  <cp:revision>6</cp:revision>
  <dc:subject/>
  <dc:title>Logical Operators</dc:title>
</cp:coreProperties>
</file>