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2EF-734D-40D9-A6E0-529AB05C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524-F35B-4F95-BA6E-4079A135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C20-3ED1-47A5-93E5-3C748DC6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248F-4875-4596-B00E-430E251D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3CB4-914A-48E1-A7E3-988757F8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175F-3039-474E-AB07-876D9A3D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0599-7BAD-4C54-9E85-C6319683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E69A-437D-41F4-A1FE-56AFE279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81A0-F469-47E2-A889-96F0860A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BED3-8907-4873-8CA0-F6B2D5AE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5399-FE6B-4547-83AC-6BD07D9E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151-8F99-4873-B04D-4478B289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14E1-85D3-42E6-9487-043A192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3095-32D1-4935-BCC0-FBD02E2A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B10C-6925-4468-B915-284D1529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B313-FA2B-47F0-9333-9A5C8EBB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F259-59A5-4BD9-A3FE-7FEFD411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04B2-3ED0-4708-B2C2-6125A41E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69EF4-2755-4530-B721-F137A02C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3E4B-79F9-484A-B5B0-A0B41174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A273-2CBC-4D66-86B3-8645649B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EF40-48B2-4B04-B542-7A8E31EA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3D3-BCCC-4CB3-B1E0-8BBD1BA8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ABDD-A3A1-4A24-9252-33875BE8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1B9BA-C5A1-4B04-AEBB-AD284B2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9BFB-4ACD-4766-AD49-D93B3A56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F658-26C5-4BEF-9A16-BEA8843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F6D0-A838-4A68-A180-2B68F05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48CA-B4FF-4F40-9B71-D3B9BAA9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7BF0-3878-4274-80C0-E0269210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B2C4-2F19-46E0-9C0D-63FEC5B7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93DF-1792-4AC1-9F34-D010287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4F38-80F9-4F6A-8C6B-9953A2C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CAE-E841-4F2D-9C18-3A54919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7B94-0265-4926-9C72-2B196D06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1FCF-2CFC-4676-B656-7A0B5013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3012-1A5B-4E99-AEFB-77162D21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72048-0A8A-4DEF-8138-46F1B04D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CA399-D97F-4D0C-BF1B-DB2C41C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FF58-C660-4498-800F-5EBA95D9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F46D0-418F-403A-97B7-BE39C62F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E260-D47A-43C0-BE28-A2AFD41A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82E8-E7E3-485B-84CA-3574B157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84BC-E6A0-4BD0-9673-97402596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A57-F7D5-464C-A874-A3CA2110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7F08-D256-46AD-8D9B-09A9E4A5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095B8-9798-4423-B15A-131DBA6B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E664B-E760-4F65-87F5-31922A5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1555-8767-4DCB-BA70-CDA05AAC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4A84-926A-47ED-B374-7AAFAEB0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4561A-9C59-4FE2-A57E-63A60947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AB4B2-3E44-47FC-B3CE-4BE3FC43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7CC70-D6BD-494A-B123-B9EF5CD1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DD69-4AC9-4180-B601-6590FD3D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F6304-3906-4062-973C-202E6ADD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53F-E2E1-4F77-ADEB-CBBF4DDE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CD97-DFE2-4223-9786-A1B5C2A1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115-9AD7-4627-BF61-1DAE8DD5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DD9-2F43-4081-8947-C140E6AC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882-07E7-4022-BE3E-B697D9C4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DDB5-C3B0-40F1-BD4B-24CE63CB33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F22A-370A-4833-ACE1-7994A7A4FBF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7412-30C7-4E72-828E-B0003F51E5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DDC7-CD31-4C35-8E72-909D7B0B1BD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4327-0EA3-4CD3-95FB-BE79AE3B30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6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ection 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esting if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put Valid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ality Assurance (QA) – ongoing process of test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ete code coverage – every line must be tested at least o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undary conditions – on or near boundaries between changes in condition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witching from regular time to over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witching from overtime to double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treme conditions – data at the limits of valid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an 89 an A or a B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member the waterfall mode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sting should be an important part of writing your progra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re’s a job for th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called a video game quality assurance tes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 a paragraph or two on the life of a QA tes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GN has an article on 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wstuffworks has one to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6:36:17Z</dcterms:created>
  <dc:creator>End User</dc:creator>
  <dc:description/>
  <dc:language>en-US</dc:language>
  <cp:lastModifiedBy>End User</cp:lastModifiedBy>
  <dcterms:modified xsi:type="dcterms:W3CDTF">2014-03-31T16:59:43Z</dcterms:modified>
  <cp:revision>3</cp:revision>
  <dc:subject/>
  <dc:title>Testing if Statements</dc:title>
</cp:coreProperties>
</file>