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E780-9375-42C1-BB7C-2A9427D6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BE39-44F4-4845-8B81-4D9CCC12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DC20-6619-4CCD-83A9-EE9B8334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7D41-8157-4DC7-B75B-690F0FC5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DB32-2F36-4DCC-8F24-229398AD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6943-EBC8-42D5-BA67-8574AB62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3234-D025-4B78-9BF0-883807B5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B9CF-54E1-46CA-A633-E54824B4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9411-7C9F-456C-B006-7614CB7C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9471-44B4-4C83-B52E-70094104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62F6-97AB-4EBA-ACCD-213C3961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F648-EA71-4585-AE2B-00C7614A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4EC7-F348-4D52-91AC-FE986DB1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2DFA-D8FF-4C27-AB99-4FF2DCD9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8742-D886-4D80-9B28-BB870F76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37FB-4172-4353-9BF1-083397DE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435D-60CA-47F4-A923-426CC4A0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CFA6A-9664-489F-8D0D-D67C924E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9485C-D21F-4D29-9F04-54E02FB0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FDB23-CE0E-4D41-A137-6380BA1E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2ECF4-A7CA-4A67-AB0F-7876F7C4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276C8-DCDA-408D-B758-39925A0E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D2C1-8A1D-4E99-B454-8D1F336C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38083-0612-4C10-8B63-C518C1CD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6D7D0-4B6E-4E5A-945E-F4A5D47F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07E83-C68F-4CC6-B448-BB79F0EB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258EE-DAD9-4FD7-AE3F-2FC75957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B14FC-12D9-4270-879C-A72218ED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CE223-EB2E-465E-8168-D7F29C72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4DC2F-9BE8-4A6B-AF3B-F262CB22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FE43C-C302-4B77-AA48-B5801B52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9D5D1-74E2-4527-AD53-97C7A9DD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58838-BAF1-4316-BE09-77B46666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4FA8-36FF-4995-8D88-5927867C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A6E97-849D-42C3-A272-6DF8D9D4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85139-EB2A-42E8-99C7-3F4F479E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DDBBE-9901-4407-BC1F-A0F6CB82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57240-932C-4829-89FF-CFEFD8C8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D86B7-C047-4D87-99EB-7A0CF138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229DC-984F-4329-8D20-CAC34514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56456-86FA-42D5-B62D-2509942F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6A3E6-287D-4833-9B70-1153FD1E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8C432-0773-4B4D-AA27-7BF22586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37E87-9E58-48E4-BBB9-98EE9124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BB1F-936F-4778-811E-C6AB1ED9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9EC9E-5082-4BB1-97DF-22DF2C16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B2250-756B-4370-B3FD-0935D200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8ADA8-4C86-4CCA-927A-A191A892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39A05-F005-49C6-9363-A3BCBA41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F0532-99D5-4514-AC2C-BC3819FC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2A73C-2301-4E38-BD96-A2D49EB1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3917C-C90E-41D9-A887-84694DD4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DDED0-1011-4DC8-87AD-A6054311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71E1B-1685-459C-9307-33ABA077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C93D2-114B-4F25-9F02-F36628DC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4AA-B888-41BB-90F6-213B9EE3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14D4E-525D-48C8-A48E-F590E239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8150-4285-44A7-AE93-304C5348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2888-4AB4-497D-A009-F8759476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B016-E02C-46BF-A069-11A20CBA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6E5F-F512-454A-8040-E2419CA9D95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DD4E-AC37-4395-8668-C053D0E0F35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BB27-25B7-4D92-9D7A-269EE0A866E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FA59-74EF-4A1F-BAD1-3203297AD7B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2E0E-B338-4185-9790-B4C094CEEF8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Chapter 6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ection 2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Testing if Statemen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put Valida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ality Assurance (QA) – ongoing process of testing softw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lete code coverage – every line must be tested at least o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oundary conditions – on or near boundaries between changes in condition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witching from regular time to overt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witching from overtime to double t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treme conditions – data at the limits of valid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s an 89 an A or a B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member the waterfall model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sting should be an important part of writing your progra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re’s a job for th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’s called a video game quality assurance tes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rite a paragraph or two on the life of a QA tes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GN has an article on i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owstuffworks has one to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16:36:17Z</dcterms:created>
  <dc:creator>End User</dc:creator>
  <dc:description/>
  <dc:language>en-US</dc:language>
  <cp:lastModifiedBy>End User</cp:lastModifiedBy>
  <dcterms:modified xsi:type="dcterms:W3CDTF">2014-03-31T16:59:43Z</dcterms:modified>
  <cp:revision>3</cp:revision>
  <dc:subject/>
  <dc:title>Testing if Statements</dc:title>
</cp:coreProperties>
</file>