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CCE-6D5F-41CE-B90F-11214303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839-F6E4-443A-B1EB-7C4EEC39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6F3-3B0F-4592-9CD5-2DA54132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201-B309-4BC2-BA7A-9330B73B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040D-30EC-419F-A344-F2255710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7457-EE98-49D5-BEF0-755FE8F6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B37C-5E63-480E-A341-D5DDF42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B12F-9FEE-4FEF-A9FD-080BD8C5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ADC7-E73D-43A1-8D0A-F30B744A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80BF-36E4-4480-969B-9AFD09C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579A-D64D-49F6-8206-61E2239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3BB-3186-4311-BB4E-8CCF03F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95C7-9BD0-4682-A7B0-D5E4F6E4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EC94-100C-43B5-99E8-ADE515E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620-D7BF-4B8E-B54A-F441F0A4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5323-E7C8-404C-90A2-1728B256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E04F-95CE-4264-B61F-36119174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007E3-C792-40E6-BDA2-95AA270F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13DC8-0668-4AE1-8902-1050C8AC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3FC60-74B5-40FC-8669-6F398F69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132DB-ED03-498D-ACC4-3D9B300E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4ADCC-213F-4A1B-8126-1A304379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242-60C1-40FE-8B02-B06EAAC7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116D7-0FA0-4FC0-9BA6-C0F482C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6CD5-8D66-4B57-8A5F-F95FAFA7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320F5-A26B-4C68-863B-EE097F8D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1B7B9-E451-4E48-87A1-4C8317F4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4FB30-709B-4FD5-B474-1D4E0E0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0ABCF-D35E-410E-B6E1-CC08C533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538BA-E5A7-4317-92B2-6A8E2B6C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DBCE8-31EB-4618-A943-22ACA432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3EC0-379C-4EE6-95B7-99E24F3F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9CBD-2937-448F-846F-3335804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DEE-E5D8-4F65-87B9-DA3151BB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780C-FF8C-45BC-81F3-B67A115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F4511-0995-4100-BF47-5628FC15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006F-62C5-4246-A56B-2ACE06D6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C5F3D-854B-4DD1-9D63-792779E8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5443-E1A7-429A-B21F-34E93E23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02986-7814-4993-84EF-19D54B1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2B63-44F1-42FF-BB31-657A5D5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1C01-B80E-4EF6-94A7-4F4091AF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2FB8-6E64-4785-B2E0-A8984411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874-92B0-4B52-A0AF-59E38457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EB8-3189-41F9-92AC-B19EAC54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85F-E668-4A4A-A048-EE5CE01C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107-8D91-4D8C-951F-D60E6EF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EC5-CB3B-496A-A45C-E091155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D585-9F9C-4E81-9F8A-1F5F0CE39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9A46-F8A1-4295-8498-AE53861C73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F0E1-98A5-48DF-A910-9F13746374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4155-86F1-4475-A51E-937FCEB9E8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ested if statemen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(time is after 7PM)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(you have a book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 the book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TV;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 for a walk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member the Grade program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make it with nested if stat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is time, use only the lower limit for the grade in your cond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it still process the same way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2:08:43Z</dcterms:created>
  <dc:creator>End User</dc:creator>
  <dc:description/>
  <dc:language>en-US</dc:language>
  <cp:lastModifiedBy>End User</cp:lastModifiedBy>
  <dcterms:modified xsi:type="dcterms:W3CDTF">2014-04-07T12:14:07Z</dcterms:modified>
  <cp:revision>1</cp:revision>
  <dc:subject/>
  <dc:title>Nested if statements</dc:title>
</cp:coreProperties>
</file>