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AF83-2DD4-4F8E-8AA0-9FD469237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0B31-6E3D-4E98-94A9-C49DA19D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A5CD-A34C-469B-9B69-440ECF1DA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C017-0A6C-4BEB-AD82-2D93ADD7A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B4AC-36EE-4A84-87BA-B880602E9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CF95-969E-4A79-A991-550FF8F1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171F-9F18-434B-A03E-CD91678B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BBDA-4EF9-4447-B1EA-149B0CBA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B8E4-3DEE-47C6-912C-9B749A24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0662-EAEF-4000-9D04-77D30B3B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7200-F0EC-41D5-8875-5CD5DE99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72F8-A768-465B-9831-70C31DA8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048D-A52C-4593-BF0F-68E768FD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07FB-DC3B-420F-8A70-E366ED73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46BF-5707-422F-86B4-0A024E5F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E7CD-FD61-4EFE-BFAD-4341677F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C7B8-CE39-49ED-9170-8AD92FEBF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5965C4-ACB2-46A4-BCF8-B40B0689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7A74AE-1DA1-4564-A8E3-6A6265CD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65C8CD-3C2B-4A72-98C9-51B1B532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5D9205-CC8A-4DDE-918D-9E754D7C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CA0D71-4C18-4AA6-BCF6-3C39674A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6377-ABC7-493F-A1C0-F275E7E2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E59362-E9ED-4C77-9B1A-7D17B3A6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AC5D78-D880-4EDF-A89A-8CBDD7E4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AD6554-AFC9-49A2-B44E-86BE5A03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907932-142A-4464-B90B-1CE44613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4F8E87-3F75-4D07-9ED7-A45936FF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1F158F-F944-451C-AD9F-7A2E85004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6BBDE3-5AE4-4B56-866D-5E568C8B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71A3B-08EF-417C-86A4-C6196429A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E1BDA-B156-43EF-95DB-E10C6530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D5282-C4BB-46DD-9059-EA382223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6839-2214-4BAD-BAFD-6371AD65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9D40E-C41C-474F-A1FF-FB8DFBD4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D545B-B97C-493E-93AA-1DB372A9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8B46A-BF16-4F60-A7DF-BCE59BC7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872D5-6370-4768-BC58-333D0F0D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27733-A0E6-46D3-8225-8C692017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9D70E-D2F2-49A6-B2C2-0EC869C6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71865-4DBB-46DA-A98B-E982C871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03974-E284-47B1-B70B-D1C3D276B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90D93-8E4F-4E70-B01C-E3A72D99D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979B-FE58-47ED-9978-BDFF4434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063D-05E7-401F-8796-2BD4A91E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D31F-8910-4171-BD9C-8BD8021E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181E-823C-4B6F-80E2-11516F11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4582-92E5-42A3-A17E-252AE095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92F7-09B4-44C9-AFA4-AF1E414A40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990C-10E3-4157-8967-5EE8BCD6F8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B070-FFA3-4205-AB3F-D0796B33D6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5CA1-8788-4168-8A47-596C3533FA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Nested if statements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Chapter 6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Section 3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(time is after 7PM){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(you have a book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ad the book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atch TV;}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o for a walk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Remember the Grade program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t’s make it with nested if statem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ut this time, use only the lower limit for the grade in your condi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es it still process the same way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7T12:08:43Z</dcterms:created>
  <dc:creator>End User</dc:creator>
  <dc:description/>
  <dc:language>en-US</dc:language>
  <cp:lastModifiedBy>End User</cp:lastModifiedBy>
  <dcterms:modified xsi:type="dcterms:W3CDTF">2014-04-07T12:14:07Z</dcterms:modified>
  <cp:revision>1</cp:revision>
  <dc:subject/>
  <dc:title>Nested if statements</dc:title>
</cp:coreProperties>
</file>