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760C-D597-4B65-976A-BD4A834F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14D6-3877-4DA9-B79B-B77B6A25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DF66-7562-4C7B-A767-468C0F91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49E-D792-4A96-A9D7-0060BF74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DF8F-514F-4E93-AC27-5DAF7ED3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1FAC-B0FD-437F-BF7F-20EE8040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6AF3-80DD-4033-BC9B-D4408F09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2A1B-BB1F-4E5B-92BC-1D19FDD3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86EA-4B6F-4FCA-BE7C-ADD34620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49B9-A0B1-46CD-96AD-AF5E5BBF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39AD-F199-417C-A555-3F39982C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7185-0AA0-45AF-85BA-8C48FA55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F87F-1E39-4046-8098-07B8A138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9F05-DADD-4D09-A54A-B24EA897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0453-39B6-4474-AF52-12D7B26B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8F7C-199E-483C-9B74-9A79BC89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9092-DEA4-4CBF-B67F-663ECC9A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DAA0F-08F5-4AFF-A9C1-183A01A4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4A371-C0F5-4F38-9B37-949A964D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F24C9-CEE1-4ED8-992F-7EA2238E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2AFDC-7574-4B50-B544-61A7C8FB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4266E-013F-4EB2-B424-564D2B6F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CD3-7F54-488D-9CE0-27DB38F9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5E1C4-481C-4EA0-B8D6-CEF8A8B0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DBFD5-961E-477D-96BB-27C13A70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1991F-726C-44E4-8B6F-CABF6C16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00766-0BAC-4051-A792-69A35FFE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F2357-16A6-45AB-B919-8702CB62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3489B-A93E-41F6-BCED-77B6DD87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2CF0C-ACD2-4DD4-9594-7200E9E4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711F3-148F-4CBF-A56A-3BA7B652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7B45B-D7A9-47F6-A064-9B840E19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06410-BAE3-4051-ACAE-B07638FD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4DF0-B099-4518-AD1F-5C15ECED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63140-1C0A-46F6-918D-13706628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5E7C0-E3CC-47DC-B6D5-9ADD955F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9DB8D-195F-4ED3-AD46-2301858C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B68C7-2330-420A-8353-6482C409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BCAA8-A489-4FC7-8A92-4322D69E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0D308-5D57-4DBB-9493-FB1C9B20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B9536-9601-4B29-859F-8A498D2D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5F704-8D24-4C97-BC64-815D62E4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2AB57-FBBA-43D4-A351-344979B3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836F-3E4F-45ED-8D1C-7B1C0E99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7A3A-7EE7-408E-ACB0-376CA4AE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EAFC-F2FD-4C1C-8BF5-0885B391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E7BF-55B6-4C48-B86E-B8C3A4D2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9B4F-57D6-455A-9BFC-24900433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CF83-EEDE-4311-9A3F-9807450D237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BCB0-4AE2-48BB-A3A8-60FC454BD01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7C51-3CEE-4513-AB00-05B2270253B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AF1E-C075-4E3B-ADFF-AF5BB8353AD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-goq83uKJQ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7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apter 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tion 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http://images.cdn.whathifi.com/sites/whathifi.com/files/images/LLAP.jpg"/>
          <p:cNvPicPr/>
          <p:nvPr/>
        </p:nvPicPr>
        <p:blipFill>
          <a:blip r:embed="rId2"/>
          <a:stretch/>
        </p:blipFill>
        <p:spPr>
          <a:xfrm>
            <a:off x="304920" y="3657600"/>
            <a:ext cx="50990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ogic Erro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youtube.com/watch?v=2-goq83uKJQ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mmon Erro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splaced bra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990720" y="2819520"/>
          <a:ext cx="7619760" cy="220968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ersion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ersion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f (weather is wet)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f (have umbrel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alk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u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f (weather is wet)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f (have umbrel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alk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}e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u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mmon Erro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Bra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(weather  we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(have umbrell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lk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s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n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mmon Erro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statements in the wrong or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523880" y="3048120"/>
          <a:ext cx="6248520" cy="1558800"/>
        </p:xfrm>
        <a:graphic>
          <a:graphicData uri="http://schemas.openxmlformats.org/drawingml/2006/table">
            <a:tbl>
              <a:tblPr/>
              <a:tblGrid>
                <a:gridCol w="312444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ersion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ersion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f (sales &gt;= 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mission = sales * 0.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lse if (sales &gt;= 1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mission = sales * 0.2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f (sales &gt;= 10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mission = sales * 0.2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lse if (sales &gt;= 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mission = sales * 0.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8T11:58:00Z</dcterms:created>
  <dc:creator>End User</dc:creator>
  <dc:description/>
  <dc:language>en-US</dc:language>
  <cp:lastModifiedBy>End User</cp:lastModifiedBy>
  <dcterms:modified xsi:type="dcterms:W3CDTF">2014-04-15T18:41:49Z</dcterms:modified>
  <cp:revision>13</cp:revision>
  <dc:subject/>
  <dc:title>Logic Errors in Nested if statements</dc:title>
</cp:coreProperties>
</file>