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901-67F7-4E0A-8BD3-F312A167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FEE-03B7-4147-A6F6-6B3F9008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FC7-4B8A-44AF-B9B9-B0A54D2B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056-53C2-458B-A000-1B943CBD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FE81-0B40-423D-9310-A5239F58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681F-D1BC-4EEB-AB92-E2054859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25E-76A8-4FE9-86E1-E66461A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4FE4-70B8-4AE1-BDCE-1ED48C2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0A5-6783-429B-B57C-2D57359E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7FAD-867F-432E-91B8-C0EC49E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1188-817F-472F-9DCE-7B029870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A1A-697F-4907-B0B1-2751402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F93-08E0-4A74-ACD5-314C8DA7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490-65D3-4684-B704-32CF40E2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1FD1-80FE-4A4F-93D5-BEE2725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A62-2E94-45F0-BF32-B9697D9B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600-2741-4D4C-B8A7-0492A9B7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24E7-67DC-490E-A31A-1A3915D9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D4E02-4279-43A2-B704-13EF2E8C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2CF1-59F3-4B03-8647-3153288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9CBE-1246-4C3F-81C6-EA152488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98BE-56A3-42B2-9BCB-954CCEB1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0841-2B80-4802-AEB0-C8A6C4E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77BEF-0949-486B-900E-0C159144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234D-36E2-4071-A042-34319A6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BF86-A093-4B0E-9575-9D8410C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7AB1-8D1B-4C68-88EC-A28D859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FA3B-669E-4482-9427-048A7E0B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5680-D960-4C43-A345-7292B319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43F9-7A93-4C02-8515-8AA9F2BF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417DB-625C-408C-BFE0-8C788BF8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AF28-41A6-4B13-B401-4F5531D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4E5DD-B138-4DE8-8105-B5C11312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BDF-B3FC-422E-B8E7-A1B8F045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8A7D-25F6-410D-963E-EE1BB57B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910E-4ABF-46E3-890C-2D7C43BE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EFF5-D114-4E84-98A4-4C8C4B4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F23C-01CF-40DD-A8C5-37751A7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452B-6680-443C-B698-8CB4F08D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03BD-1705-4799-B624-03300DE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2A01-50A4-4BAA-B1AA-B61D924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10579-437F-4C83-9996-E8274CAE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B3972-63DC-4588-A05D-78A0B75E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0CA-D7CA-4DB5-81ED-9E03682C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F00-F9E3-430E-8A75-0EBC426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F9A-52D9-4685-89C0-BA42068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557-3362-4AD0-BBE5-76D4E2E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43B-CE27-4CCA-A223-4A138C5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B44-120D-4CAD-A0F4-831F2A999C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4C5F-397E-4197-B950-89EBB9707D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1516-38E0-4D83-BCB6-81C5AD38A9A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EF72-0C70-4677-B13B-71A2223012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-goq83uKJ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images.cdn.whathifi.com/sites/whathifi.com/files/images/LLAP.jpg"/>
          <p:cNvPicPr/>
          <p:nvPr/>
        </p:nvPicPr>
        <p:blipFill>
          <a:blip r:embed="rId2"/>
          <a:stretch/>
        </p:blipFill>
        <p:spPr>
          <a:xfrm>
            <a:off x="304920" y="3657600"/>
            <a:ext cx="5099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gic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2-goq83uKJQ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placed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819520"/>
          <a:ext cx="7619760" cy="220968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weather  we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have umbrell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statements in the wrong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3048120"/>
          <a:ext cx="6248520" cy="155880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10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1:58:00Z</dcterms:created>
  <dc:creator>End User</dc:creator>
  <dc:description/>
  <dc:language>en-US</dc:language>
  <cp:lastModifiedBy>End User</cp:lastModifiedBy>
  <dcterms:modified xsi:type="dcterms:W3CDTF">2014-04-15T18:41:49Z</dcterms:modified>
  <cp:revision>13</cp:revision>
  <dc:subject/>
  <dc:title>Logic Errors in Nested if statements</dc:title>
</cp:coreProperties>
</file>