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BA4-AA4B-496D-BBE9-0A61E4FF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430632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C1F-F58F-44E7-96B6-4BFDC691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60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1B8-837B-41BE-9F34-B7BD07B4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60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8284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84B-14AE-4C28-90A1-4D885BD6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A3C-3559-4B42-9C0B-9125CBC7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5E2-8215-4897-9F44-B1D5211E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58E-D36F-467E-80D0-BDC84E6A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942-9755-4548-B9F7-26A4A3FA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7A9-0709-43F7-8A04-53B1F21C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4C3-0E8E-4815-91F6-E234B5CD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60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DEF-E386-4708-83D4-E8B4851E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CAA-FA7C-4DD4-8BB7-D424527A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280" y="674352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9000" y="6743520"/>
            <a:ext cx="31939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720" y="6743520"/>
            <a:ext cx="234648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0E0C0-76D8-43A6-8CDE-1C3F7A20D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662040"/>
            <a:ext cx="8675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st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sted Loo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a second/inner loop inside of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cond loop ends before the first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second loop ends, the outer/first loop resets the variables for the next time th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not done with do while l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(n = lower; n &lt;= upper; n++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erLimit = (int) Math.sqrt (n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(d = 2; d &lt;= innerLimit; d++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56500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n % d ==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2144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(d &gt; innerLi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56500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.out.println(n + “ is prime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16:45:22Z</dcterms:created>
  <dc:creator>Mike Farver</dc:creator>
  <dc:description>Presentation Layout Template</dc:description>
  <dc:language>en-US</dc:language>
  <cp:lastModifiedBy/>
  <cp:revision>1</cp:revision>
  <dc:subject/>
  <dc:title>Fresco</dc:title>
</cp:coreProperties>
</file>