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63A-6BD5-42D4-B655-2BE1E8EC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4306320"/>
            <a:ext cx="8313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773-EF3F-40D2-BE27-E3D0706D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60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691-5272-4F99-994F-6A0D1D53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430632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600" y="430632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82840" y="430632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AB2-1018-4B69-ACFE-42D39903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C67-5BD6-4331-844F-77536599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43E-728F-4A8B-AD06-6BF9A569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7EE-900E-4505-9D04-061B4F44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070-78A3-4BB8-89A8-4B8BBEBD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30E-4801-464C-A60D-5A421248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1BAE-8D62-417A-AE67-8458BC5E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60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C58-0C98-497A-92D0-64061BF7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4306320"/>
            <a:ext cx="8313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B3BB-C2C3-4C3D-A952-1F429BBF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280" y="6743520"/>
            <a:ext cx="23461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9000" y="6743520"/>
            <a:ext cx="31939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35720" y="6743520"/>
            <a:ext cx="234648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4FFBD-6ECB-45F8-8BE4-E63FB05E6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662040"/>
            <a:ext cx="8675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st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sted Loo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a second/inner loop inside of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cond loop ends before the first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 second loop ends, the outer/first loop resets the variables for the next time th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not done with do while lo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(n = lower; n &lt;= upper; n++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erLimit = (int) Math.sqrt (n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(d = 2; d &lt;= innerLimit; d++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56500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n % d == 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2144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(d &gt; innerLi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56500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.out.println(n + “ is prime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16:45:22Z</dcterms:created>
  <dc:creator>Mike Farver</dc:creator>
  <dc:description>Presentation Layout Template</dc:description>
  <dc:language>en-US</dc:language>
  <cp:lastModifiedBy/>
  <cp:revision>1</cp:revision>
  <dc:subject/>
  <dc:title>Fresco</dc:title>
</cp:coreProperties>
</file>