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B09-476A-4B38-9DFF-F6E151C1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BE4-DA65-42E6-9C13-7196271E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5E9-8B8F-4D6F-9164-2901DEA4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6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141440"/>
            <a:ext cx="2850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C68-E989-47BA-8984-867D60C3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440-A001-4C5B-8B82-6ABFD9A5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270-AEA1-4693-8BB3-16E499B8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8A4-A3A8-401B-964E-4ACC5BA1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214-36CC-4712-8FED-691C5987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7B4-7BE1-40D6-A5F9-7E1A6C47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EBC-7FF9-46FA-AB8C-9EB3EAA2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1414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FDF-0693-4784-AE70-6241E3DC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640"/>
            <a:ext cx="432036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141440"/>
            <a:ext cx="88534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180-1FC0-4124-91A1-E46D0E4C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AC116-AACE-4963-ACCF-00028C0CF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Pay &amp;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80099"/>
                </a:solidFill>
                <a:latin typeface="Arial"/>
              </a:rPr>
              <a:t>Chapter 8 Sec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ays to be Pai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alary – set amount of money earned per year or fixed ti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 paycheck is the salary divided by number of pay period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ages – earnings paid by the hour, day, or item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iecework: name for being paid per item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ays to be Paid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mmission – a percentage or amount of profit given in exchange for making a s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uld be only commiss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uld be hourly/salary pay plus commiss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ips – money given by customers for a servic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air Labor Standards Act (FLSA)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quires equal pay for the same work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revents discrimination of women, minorities, and older worker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ts the minimum wage in the U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inimum Wag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urrently at $7.25 an hou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A is currently $7.25 an hour for those not receiving tip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A is currently $2.83 for those receiving tip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ashington state is currently $9.32 for both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ustralia has the highest minimum wage in the world: $16.88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Overtim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fter 40 hours per week, payrate increases to 1.5 x hourly ra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an become 2x or higher of ra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Not usually paid to salaried employe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nsidered exempt from overti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Insurance – health care, dental, life, vision, accidental death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tirement – 401(k), IRA'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Vested: longer time employed means more of the investment is available to the employe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ime off: paid holidays, vacations, sick ti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raining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mployment Classification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ull-time: 35 hours or more/week; higher pay than part-time; access to benefi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art-time: Less than 35 hours/week; may not receive benefi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ull-time Equivalent (FTE): 2 or more part-time employees who combined work more than 35 hour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emporary: short-term; paid by an agency; may not receive benefi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ntract: set time-frame &amp; ra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3:13:08Z</dcterms:created>
  <dc:creator>Mike Farver</dc:creator>
  <dc:description>Presentation Layout Template</dc:description>
  <dc:language>en-US</dc:language>
  <cp:lastModifiedBy/>
  <cp:revision>1</cp:revision>
  <dc:subject/>
  <dc:title>Blue Border</dc:title>
</cp:coreProperties>
</file>