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D2F-2A77-40BC-80A9-D37D6025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F96-845D-4B0F-94AE-34A0FD75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82D-CCAC-4FC9-B445-7076E750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796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133880"/>
            <a:ext cx="291996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3D6-E792-49BF-BD7B-D53A5B46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4A6-C766-4E6A-B70B-90E0BAC8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3C2-767B-4D28-91ED-8E8F42E4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DCF-5473-44AE-A91B-5A6C5D1D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F74-3054-4FC6-84A0-2E5267A0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362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B96-F3D1-4001-A16C-B2929EF7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EFE-1E0E-45A5-B7C5-AB90C6AF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13388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109-B4AD-4138-B59C-1B357A97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7960"/>
            <a:ext cx="4425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33880"/>
            <a:ext cx="906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8633-5299-4C8D-A251-72E0077F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362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67080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670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670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092A5-031C-44BA-8DB6-C078ACBBD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japersonalfinance.com/gsjapf/activities/UploadImages/paycheck.gif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36600"/>
            <a:ext cx="907092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ch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8 Sec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ay Period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r chooses how often and what day is pa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e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2 weeks (bi-week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ice a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on a Thursday or Fri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Direct Deposi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receive a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 a pay st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red from employer's account to your ac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ay Stub Informa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7898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japersonalfinance.com/gsjapf/activities/UploadImages/paycheck.g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cation – name, Social Security #, ID #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nings – hours, rate, gross p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pay: total number hours worked * pay rate, or salary rate for the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ductions – anything subtracted by gross p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l, state, and local t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Security, Medi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irement programs, charity do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36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ay Stub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 Pay – total left after taxes and de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00008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take home pay; is the amount of your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ours are consistent, you can estimate future pays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6:51:33Z</dcterms:created>
  <dc:creator>Mike Farver</dc:creator>
  <dc:description>Presentation Layout Template</dc:description>
  <dc:language>en-US</dc:language>
  <cp:lastModifiedBy/>
  <cp:revision>1</cp:revision>
  <dc:subject/>
  <dc:title>Blue and Red Gradient</dc:title>
</cp:coreProperties>
</file>