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F02-BEAC-4F4D-A9A3-4D3129BB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AE4-403F-4160-BB75-9F29CE75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574-44C8-482F-A941-B5D2FB8D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28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8920" y="19792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28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8920" y="4045680"/>
            <a:ext cx="26650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899-4F52-4BB6-8475-C59AE631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2B0-4AF4-4F4C-8369-F2BA871D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D83-5D66-4A4E-AE2D-5907276D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E33-90D1-4F33-B52C-6B29C151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652-EB77-4C97-A720-5F7E37E8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3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5E8-6AC3-4E9C-BA23-A6EF37A7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AB4-7AFE-4B70-81CE-0F44CE5A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160" y="40456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299-B907-45E9-AA17-73E63CB6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160" y="1979280"/>
            <a:ext cx="403920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045680"/>
            <a:ext cx="8277480" cy="188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962-3A4E-4756-B437-8E2EE93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3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7480" cy="395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1952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000" y="641952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7669FB-0E1E-48BF-AA4A-D7C754A4CF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554040"/>
            <a:ext cx="88567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 Sec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1840" indent="-644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-4: Withholding Allowance Certificat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Personal informat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xempt statu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llowances: factors that affect the amount of tax withheld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illed out when starting a job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89120" indent="-428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61840"/>
                <a:tab algn="l" pos="966960"/>
                <a:tab algn="l" pos="1415880"/>
                <a:tab algn="l" pos="1865160"/>
                <a:tab algn="l" pos="2314440"/>
                <a:tab algn="l" pos="2763720"/>
                <a:tab algn="l" pos="3213000"/>
                <a:tab algn="l" pos="3662280"/>
                <a:tab algn="l" pos="4111560"/>
                <a:tab algn="l" pos="4560840"/>
                <a:tab algn="l" pos="5010120"/>
                <a:tab algn="l" pos="5459400"/>
                <a:tab algn="l" pos="5908680"/>
                <a:tab algn="l" pos="6357960"/>
                <a:tab algn="l" pos="6807240"/>
                <a:tab algn="l" pos="7256520"/>
                <a:tab algn="l" pos="7705800"/>
                <a:tab algn="l" pos="8155080"/>
                <a:tab algn="l" pos="8604360"/>
                <a:tab algn="l" pos="905364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Needs to be updated if allowances change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eded to Fi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-2: From your employe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hows total earnings for the calendar year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ent by January 31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099: Income gained from other source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040 (A or EZ): Tax return form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Personal records: medical &amp; financia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108240" y="274680"/>
            <a:ext cx="3746520" cy="6946920"/>
            <a:chOff x="3108240" y="274680"/>
            <a:chExt cx="3746520" cy="6946920"/>
          </a:xfrm>
        </p:grpSpPr>
        <p:sp>
          <p:nvSpPr>
            <p:cNvPr id="47" name=""/>
            <p:cNvSpPr/>
            <p:nvPr/>
          </p:nvSpPr>
          <p:spPr>
            <a:xfrm>
              <a:off x="3941640" y="274680"/>
              <a:ext cx="2130480" cy="78912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at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c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41640" y="6396120"/>
              <a:ext cx="2027520" cy="8254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. File retu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t ref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 pay 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94200" y="1317600"/>
              <a:ext cx="2027160" cy="717480"/>
            </a:xfrm>
            <a:prstGeom prst="roundRect">
              <a:avLst>
                <a:gd name="adj" fmla="val 218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Filing St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Depend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08240" y="2614680"/>
              <a:ext cx="3746520" cy="1833480"/>
            </a:xfrm>
            <a:custGeom>
              <a:avLst/>
              <a:gdLst>
                <a:gd name="textAreaLeft" fmla="*/ 823680 w 3746520"/>
                <a:gd name="textAreaRight" fmla="*/ 2922840 w 3746520"/>
                <a:gd name="textAreaTop" fmla="*/ 403200 h 1833480"/>
                <a:gd name="textAreaBottom" fmla="*/ 1430280 h 18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. W-2 + 1099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Adjust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. - Dedu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. - Exemp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Taxable In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 - Tax cre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Tax 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01960" y="5064120"/>
              <a:ext cx="2340000" cy="1004760"/>
            </a:xfrm>
            <a:prstGeom prst="roundRect">
              <a:avLst>
                <a:gd name="adj" fmla="val 15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. Compare W-2 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held wit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x Ow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7" idx="4"/>
              <a:endCxn id="49" idx="0"/>
            </p:cNvCxnSpPr>
            <p:nvPr/>
          </p:nvCxnSpPr>
          <p:spPr>
            <a:xfrm flipH="1" rot="16200000">
              <a:off x="4882320" y="1190160"/>
              <a:ext cx="251640" cy="1080"/>
            </a:xfrm>
            <a:prstGeom prst="bentConnector3">
              <a:avLst>
                <a:gd name="adj1" fmla="val 49856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53" name=""/>
            <p:cNvCxnSpPr>
              <a:stCxn id="49" idx="2"/>
              <a:endCxn id="50" idx="3"/>
            </p:cNvCxnSpPr>
            <p:nvPr/>
          </p:nvCxnSpPr>
          <p:spPr>
            <a:xfrm rot="5400000">
              <a:off x="4706640" y="2311200"/>
              <a:ext cx="576360" cy="27720"/>
            </a:xfrm>
            <a:prstGeom prst="bentConnector3">
              <a:avLst>
                <a:gd name="adj1" fmla="val 35062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54" name=""/>
            <p:cNvCxnSpPr>
              <a:stCxn id="50" idx="1"/>
              <a:endCxn id="51" idx="0"/>
            </p:cNvCxnSpPr>
            <p:nvPr/>
          </p:nvCxnSpPr>
          <p:spPr>
            <a:xfrm rot="5400000">
              <a:off x="4670280" y="4749840"/>
              <a:ext cx="613440" cy="11880"/>
            </a:xfrm>
            <a:prstGeom prst="bentConnector3">
              <a:avLst>
                <a:gd name="adj1" fmla="val 50029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55" name=""/>
            <p:cNvCxnSpPr>
              <a:stCxn id="51" idx="2"/>
              <a:endCxn id="48" idx="0"/>
            </p:cNvCxnSpPr>
            <p:nvPr/>
          </p:nvCxnSpPr>
          <p:spPr>
            <a:xfrm rot="5400000">
              <a:off x="4800960" y="6223680"/>
              <a:ext cx="324360" cy="18000"/>
            </a:xfrm>
            <a:prstGeom prst="bentConnector3">
              <a:avLst>
                <a:gd name="adj1" fmla="val 24444"/>
              </a:avLst>
            </a:prstGeom>
            <a:ln w="9360">
              <a:solidFill>
                <a:srgbClr val="000000"/>
              </a:solidFill>
              <a:round/>
            </a:ln>
          </p:spPr>
        </p:cxn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ting a Tax Re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hoose a filing statu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nter your number of dependent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omeone who is supported by your inco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djusted Gross Inco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-2 + 1099's – adjustments to inco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ting a Tax Re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Deductions – reduces the amount of income taxe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temized: amounts actually spent on tax-deductible expense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tandard: set amount allowed by the IRS without listing each expens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2589120" indent="-428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quires using Form 1040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ting a Tax Retur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Based on exemptions claimed, additional amounts are subtracted from incom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alled your taxable inco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ax credits: subtracted directly from the tax owe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mpare the amount on W-2 to tax owe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If the W-2 is higher, get a return; otherwise pay the differenc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-Fil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92000" y="1979280"/>
            <a:ext cx="828072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le online with a bank, the IRS website, or tax preparation softwa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urboTax, TaxAct, other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sults in faster processing and receipt of your return – 21 days after receipt of retur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an be direct deposit into one or more accounts, a paper check, or a US Savings Bond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ax Audi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2000" y="1979640"/>
            <a:ext cx="82807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omputerized process to identif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ly 1% of returns are selected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Most are accepted after checking for correctnes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7:13:25Z</dcterms:created>
  <dc:creator>Mike Farver</dc:creator>
  <dc:description>Presentation Layout Template</dc:description>
  <dc:language>en-US</dc:language>
  <cp:lastModifiedBy/>
  <cp:revision>1</cp:revision>
  <dc:subject/>
  <dc:title>Light Blue Shapes</dc:title>
</cp:coreProperties>
</file>