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640-93BF-4991-A403-2C590221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287-1FDA-4EC6-A72E-B6FD7B71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3FA-7810-4F90-8D75-D6C306FD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946-F799-4239-B0A0-20983BE5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77C-B3A0-45D2-99A4-86F48E52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44C-0AC9-411E-9FFC-8F4228C3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CAC-5103-439F-A2A8-7DB8F461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CF3-CD8C-4356-8081-08102157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C0D-DD1C-43DD-94DF-E848864F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AF0-AD63-4F5F-8757-60F7317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828-8BAE-4D62-BE85-09E3B4AE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D49-701E-487F-9751-FB9C56C3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FDDC5-3934-4F5A-8CBE-20539BA1B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Pay &amp;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Chapter 8 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ays to be Pai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alary – set amount of money earned per year or fixed ti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paycheck is the salary divided by number of pay period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ges – earnings paid by the hour, day, or item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iecework: name for being paid per item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ays to be Pai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mission – a percentage or amount of profit given in exchange for making a s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uld be only commiss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uld be hourly/salary pay plus commiss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ips – money given by customers for a servic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air Labor Standards Act (FLSA)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quires equal pay for the same work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revents discrimination of women, minorities, and older worker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ts the minimum wage in the U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inimum Wag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urrently at $7.25 an hou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 is currently $7.25 an hour for those not receiving tip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 is currently $2.83 for those receiving tip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shington state is currently $9.32 for both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ustralia has the highest minimum wage in the world: $16.88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Overtim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fter 40 hours per week, payrate increases to 1.5 x hourly ra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an become 2x or higher of ra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Not usually paid to salaried employe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nsidered exempt from overti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Insurance – health care, dental, life, vision, accidental death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tirement – 401(k), IRA'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ested: longer time employed means more of the investment is available to the employe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ime off: paid holidays, vacations, sick ti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raining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mployment Classification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ull-time: 35 hours or more/week; higher pay than part-time; access to benef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rt-time: Less than 35 hours/week; may not receive benef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ull-time Equivalent (FTE): 2 or more part-time employees who combined work more than 35 hour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emporary: short-term; paid by an agency; may not receive benef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tract: set time-frame &amp; ra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3:13:08Z</dcterms:created>
  <dc:creator>Mike Farver</dc:creator>
  <dc:description>Presentation Layout Template</dc:description>
  <dc:language>en-US</dc:language>
  <cp:lastModifiedBy/>
  <cp:revision>1</cp:revision>
  <dc:subject/>
  <dc:title>Blue Border</dc:title>
</cp:coreProperties>
</file>