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D662-77A6-46F5-ABA3-02AC38D6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3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141440"/>
            <a:ext cx="8853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1697-C020-44C9-BD61-DAD91476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708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E5F5-E731-4C4C-A2E8-DAE836BE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760" y="19796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7160" y="19796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1414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760" y="41414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7160" y="41414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0AA2-DD0F-434A-96A8-C567E8FE0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1C17-CB92-4956-9E88-BE0F6AE5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FE1E-BD1F-4640-A73F-2C835470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279A-20BF-4552-836B-581AE1C0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1C4F-E157-4BBC-997E-7561F6A6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C40A-911E-4FB4-B2E0-B716B56E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0113-ABA2-446E-9F2F-2172765F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708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C618-DD33-4AB5-AA3B-82501B84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141440"/>
            <a:ext cx="8853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C2E0-56CB-4CE9-A027-87187294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D9160-8D2B-4D94-93DE-E307DDBBB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Pay &amp;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Chapter 8 Sec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Ways to be Paid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alary – set amount of money earned per year or fixed tim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 paycheck is the salary divided by number of pay period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ages – earnings paid by the hour, day, or item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Piecework: name for being paid per item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Ways to be Paid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ommission – a percentage or amount of profit given in exchange for making a sal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ould be only commission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ould be hourly/salary pay plus commission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ips – money given by customers for a servic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Fair Labor Standards Act (FLSA)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Requires equal pay for the same work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Prevents discrimination of women, minorities, and older worker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ts the minimum wage in the U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Minimum Wag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urrently at $7.25 an hour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PA is currently $7.25 an hour for those not receiving tip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PA is currently $2.83 for those receiving tip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ashington state is currently $9.32 for both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ustralia has the highest minimum wage in the world: $16.88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Overtim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fter 40 hours per week, payrate increases to 1.5 x hourly rat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an become 2x or higher of rat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Not usually paid to salaried employee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onsidered exempt from overtim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Insurance – health care, dental, life, vision, accidental death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Retirement – 401(k), IRA'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Vested: longer time employed means more of the investment is available to the employe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ime off: paid holidays, vacations, sick tim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raining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Employment Classification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ull-time: 35 hours or more/week; higher pay than part-time; access to benefit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Part-time: Less than 35 hours/week; may not receive benefit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Full-time Equivalent (FTE): 2 or more part-time employees who combined work more than 35 hour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emporary: short-term; paid by an agency; may not receive benefit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ontract: set time-frame &amp; rat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3:13:08Z</dcterms:created>
  <dc:creator>Mike Farver</dc:creator>
  <dc:description>Presentation Layout Template</dc:description>
  <dc:language>en-US</dc:language>
  <cp:lastModifiedBy/>
  <cp:revision>1</cp:revision>
  <dc:subject/>
  <dc:title>Blue Border</dc:title>
</cp:coreProperties>
</file>