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46F-EB6B-428B-9872-869221A05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860-0892-406A-8DDE-566AE739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0C5-5518-45A8-B352-9C627393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6DDF-4982-47B4-A305-1B1D1785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A639-3D58-4832-AD30-4FFB5A0D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F9A5-D870-4BF1-9070-EE798F3D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B2A7-171F-44EC-8256-F81EDEB5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8CB-C3BE-49A8-B0BF-3589DB50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186-FCC1-47CA-943A-88D353CB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8A9-B49C-4E13-9F38-4D636170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1C72-A878-4A4D-93D1-EDA8DA0C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2C9-2BAD-43C1-A329-B5F69CE1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67080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670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670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8DF7C-7C96-4B1B-BFA5-2A71163A5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japersonalfinance.com/gsjapf/activities/UploadImages/paycheck.gif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36600"/>
            <a:ext cx="907092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che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8 Sec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ay Period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r chooses how often and what day is pa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e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2 weeks (bi-week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ice a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on a Thursday or Fri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Direct Deposi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receive a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 a pay st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red from employer's account to your ac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ay Stub Informa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7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japersonalfinance.com/gsjapf/activities/UploadImages/paycheck.g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cation – name, Social Security #, ID #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nings – hours, rate, gross p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 pay: total number hours worked * pay rate, or salary rate for the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ductions – anything subtracted by gross p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l, state, and local t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Security, Medi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irement programs, charity do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ay Stub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 Pay – total left after taxes and de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take home pay; is the amount of your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ours are consistent, you can estimate future pays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6:51:33Z</dcterms:created>
  <dc:creator>Mike Farver</dc:creator>
  <dc:description>Presentation Layout Template</dc:description>
  <dc:language>en-US</dc:language>
  <cp:lastModifiedBy/>
  <cp:revision>1</cp:revision>
  <dc:subject/>
  <dc:title>Blue and Red Gradient</dc:title>
</cp:coreProperties>
</file>