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D1A-FB0D-44EF-827F-24122DF2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208-DF65-4DB6-820A-860E09AA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7E5-5BC9-43AF-B257-845FE9E5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28C-5C15-4426-91F6-0C01E5FC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06D-F756-4593-8270-956F20B3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E2A-A2DD-4924-ACDE-99892C8B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0D5-CA2C-4829-8668-1C5213C9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BBC0-9BD9-4CFA-8673-12D1EA3C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A6F2-4A93-42A8-AC80-BE0E2588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1BE-D13D-4B3E-8EDB-940044C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8E0-FD46-4590-83DD-9F3057B1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187-90C8-4442-ABCD-C6F7ADB5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70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670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670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F931F-C99E-42A6-914A-E633F82E7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apersonalfinance.com/gsjapf/activities/UploadImages/paycheck.gif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36600"/>
            <a:ext cx="90709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 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ay Period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chooses how often and what day is pa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2 weeks (bi-week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ice a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on a Thursday or Fri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Direct Deposi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receive a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 a pay st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red from employer's account to your 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ay Stub Informa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japersonalfinance.com/gsjapf/activities/UploadImages/paycheck.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tion – name, Social Security #, ID 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nings – hours, rate, gross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pay: total number hours worked * pay rate, or salary rate for th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uctions – anything subtracted by gross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, state, and local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Security, Medi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irement programs, charity do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ay Stub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Pay – total left after taxes and d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take home pay; is the amount of your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ours are consistent, you can estimate future pays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6:51:33Z</dcterms:created>
  <dc:creator>Mike Farver</dc:creator>
  <dc:description>Presentation Layout Template</dc:description>
  <dc:language>en-US</dc:language>
  <cp:lastModifiedBy/>
  <cp:revision>1</cp:revision>
  <dc:subject/>
  <dc:title>Blue and Red Gradient</dc:title>
</cp:coreProperties>
</file>