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EE8-F903-4529-BB32-93CF16AF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C36-6187-42B5-92D4-11808356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02B-5432-44D8-8483-46F926E6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D38-307F-4C3E-AB5E-BEB38D3C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1DE-D0B9-429D-8D57-32066750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E908-60C2-4FA0-929C-EC07BBE4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207-6EE8-45DF-A89B-332EAC40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3D2-3019-41AB-9C26-471885BE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78C-9047-4E47-A9D8-B89530A7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494-1695-4CC4-BDDA-A1423414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936-BBD9-4722-B650-6C5E4132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7F3-A29B-451E-ACE3-E8F18641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00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C589EE-BA68-4EAD-8DBD-65C4BFCD02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554040"/>
            <a:ext cx="88567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1840" indent="-64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-4: Withholding Allowance Certifica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ersonal informat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xempt statu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llowances: factors that affect the amount of tax withheld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illed out when starting a job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89120" indent="-428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eds to be updated if allowances chang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eded to Fi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-2: From your employe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ows total earnings for the calendar year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nt by January 31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099: Income gained from other sourc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040 (A or EZ): Tax return form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ersonal records: medical &amp; financia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108240" y="274680"/>
            <a:ext cx="3746520" cy="6946920"/>
            <a:chOff x="3108240" y="274680"/>
            <a:chExt cx="3746520" cy="6946920"/>
          </a:xfrm>
        </p:grpSpPr>
        <p:sp>
          <p:nvSpPr>
            <p:cNvPr id="47" name=""/>
            <p:cNvSpPr/>
            <p:nvPr/>
          </p:nvSpPr>
          <p:spPr>
            <a:xfrm>
              <a:off x="3941640" y="274680"/>
              <a:ext cx="2130480" cy="78912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41640" y="6396120"/>
              <a:ext cx="2027520" cy="8254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. File re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ref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 pay 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94200" y="1317600"/>
              <a:ext cx="2027160" cy="717480"/>
            </a:xfrm>
            <a:prstGeom prst="roundRect">
              <a:avLst>
                <a:gd name="adj" fmla="val 218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Filing St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Depen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08240" y="2614680"/>
              <a:ext cx="3746520" cy="1833480"/>
            </a:xfrm>
            <a:custGeom>
              <a:avLst/>
              <a:gdLst>
                <a:gd name="textAreaLeft" fmla="*/ 823680 w 3746520"/>
                <a:gd name="textAreaRight" fmla="*/ 2922840 w 3746520"/>
                <a:gd name="textAreaTop" fmla="*/ 403200 h 1833480"/>
                <a:gd name="textAreaBottom" fmla="*/ 1430280 h 18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W-2 + 1099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Adjust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 - Dedu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 - Exemp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Taxable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 - Tax cre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Tax 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1960" y="5064120"/>
              <a:ext cx="2340000" cy="1004760"/>
            </a:xfrm>
            <a:prstGeom prst="roundRect">
              <a:avLst>
                <a:gd name="adj" fmla="val 15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 Compare W-2 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held wit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x Ow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7" idx="4"/>
              <a:endCxn id="49" idx="0"/>
            </p:cNvCxnSpPr>
            <p:nvPr/>
          </p:nvCxnSpPr>
          <p:spPr>
            <a:xfrm flipH="1" rot="16200000">
              <a:off x="4882320" y="1190160"/>
              <a:ext cx="251640" cy="1080"/>
            </a:xfrm>
            <a:prstGeom prst="bentConnector3">
              <a:avLst>
                <a:gd name="adj1" fmla="val 49856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53" name=""/>
            <p:cNvCxnSpPr>
              <a:stCxn id="49" idx="2"/>
              <a:endCxn id="50" idx="3"/>
            </p:cNvCxnSpPr>
            <p:nvPr/>
          </p:nvCxnSpPr>
          <p:spPr>
            <a:xfrm rot="5400000">
              <a:off x="4706640" y="2311200"/>
              <a:ext cx="576360" cy="27720"/>
            </a:xfrm>
            <a:prstGeom prst="bentConnector3">
              <a:avLst>
                <a:gd name="adj1" fmla="val 35062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54" name=""/>
            <p:cNvCxnSpPr>
              <a:stCxn id="50" idx="1"/>
              <a:endCxn id="51" idx="0"/>
            </p:cNvCxnSpPr>
            <p:nvPr/>
          </p:nvCxnSpPr>
          <p:spPr>
            <a:xfrm rot="5400000">
              <a:off x="4670280" y="4749840"/>
              <a:ext cx="613440" cy="11880"/>
            </a:xfrm>
            <a:prstGeom prst="bentConnector3">
              <a:avLst>
                <a:gd name="adj1" fmla="val 50029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55" name=""/>
            <p:cNvCxnSpPr>
              <a:stCxn id="51" idx="2"/>
              <a:endCxn id="48" idx="0"/>
            </p:cNvCxnSpPr>
            <p:nvPr/>
          </p:nvCxnSpPr>
          <p:spPr>
            <a:xfrm rot="5400000">
              <a:off x="4800960" y="6223680"/>
              <a:ext cx="324360" cy="18000"/>
            </a:xfrm>
            <a:prstGeom prst="bentConnector3">
              <a:avLst>
                <a:gd name="adj1" fmla="val 24444"/>
              </a:avLst>
            </a:prstGeom>
            <a:ln w="9360">
              <a:solidFill>
                <a:srgbClr val="000000"/>
              </a:solidFill>
              <a:round/>
            </a:ln>
          </p:spPr>
        </p:cxn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a Tax Re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hoose a filing statu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nter your number of dependen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omeone who is supported by your inco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djusted Gross Inco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-2 + 1099's – adjustments to inco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a Tax Re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Deductions – reduces the amount of income tax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temized: amounts actually spent on tax-deductible expens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tandard: set amount allowed by the IRS without listing each expens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89120" indent="-428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quires using Form 1040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a Tax Re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Based on exemptions claimed, additional amounts are subtracted from inco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alled your taxable inco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ax credits: subtracted directly from the tax ow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pare the amount on W-2 to tax ow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If the W-2 is higher, get a return; otherwise pay the differenc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Fil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8072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le online with a bank, the IRS website, or tax preparation softwa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urboTax, TaxAct, other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sults in faster processing and receipt of your return – 21 days after receipt of retur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an be direct deposit into one or more accounts, a paper check, or a US Savings Bon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x Audi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puterized process to identif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ly 1% of returns are selected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ost are accepted after checking for correctnes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7:13:25Z</dcterms:created>
  <dc:creator>Mike Farver</dc:creator>
  <dc:description>Presentation Layout Template</dc:description>
  <dc:language>en-US</dc:language>
  <cp:lastModifiedBy/>
  <cp:revision>1</cp:revision>
  <dc:subject/>
  <dc:title>Light Blue Shapes</dc:title>
</cp:coreProperties>
</file>