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B848-65B9-4C2F-A7AB-583B72D3C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82774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91640" y="4045680"/>
            <a:ext cx="82774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56B7-8BAF-44FA-88CA-F6596308F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9164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3316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3926-66BC-4C1F-9199-DAD5FCA2F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0280" y="19792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88920" y="19792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91640" y="40456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0280" y="40456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88920" y="40456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6F03-D291-4088-9054-768AD51CD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91640" y="1979280"/>
            <a:ext cx="827748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3710-DB26-4906-B259-F62BF4EE4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827748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50E1-675E-40AE-9F1D-1DA8CCCC5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1528-2EBD-48C0-AEA8-D0B15EDF8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8DC7-C0C4-45E3-9A14-E1C709C48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553680"/>
            <a:ext cx="8853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82CC-24CF-41BC-864B-2DA36899B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9164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D910-7415-4BC5-9AE5-FEB6A3092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316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22D2-B20B-4E2D-A020-091752DF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91640" y="4045680"/>
            <a:ext cx="82774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40D1-094F-4287-A577-AA07956D8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91640" y="1979280"/>
            <a:ext cx="827748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2000"/>
          </a:bodyPr>
          <a:p>
            <a:pPr marL="31536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9280" y="6419520"/>
            <a:ext cx="23446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419520"/>
            <a:ext cx="31924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83000" y="6419520"/>
            <a:ext cx="23446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39896C8-97A7-40BF-B599-5CD46FA7A14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3280" y="554040"/>
            <a:ext cx="8856720" cy="53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8 Section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me Ta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3280" y="554040"/>
            <a:ext cx="8856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92000" y="1979640"/>
            <a:ext cx="82807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861840" indent="-644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61840"/>
                <a:tab algn="l" pos="966960"/>
                <a:tab algn="l" pos="1415880"/>
                <a:tab algn="l" pos="1865160"/>
                <a:tab algn="l" pos="2314440"/>
                <a:tab algn="l" pos="2763720"/>
                <a:tab algn="l" pos="3213000"/>
                <a:tab algn="l" pos="3662280"/>
                <a:tab algn="l" pos="4111560"/>
                <a:tab algn="l" pos="4560840"/>
                <a:tab algn="l" pos="5010120"/>
                <a:tab algn="l" pos="5459400"/>
                <a:tab algn="l" pos="5908680"/>
                <a:tab algn="l" pos="6357960"/>
                <a:tab algn="l" pos="6807240"/>
                <a:tab algn="l" pos="7256520"/>
                <a:tab algn="l" pos="7705800"/>
                <a:tab algn="l" pos="8155080"/>
                <a:tab algn="l" pos="8604360"/>
                <a:tab algn="l" pos="9053640"/>
                <a:tab algn="l" pos="95029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W-4: Withholding Allowance Certificate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61840"/>
                <a:tab algn="l" pos="966960"/>
                <a:tab algn="l" pos="1415880"/>
                <a:tab algn="l" pos="1865160"/>
                <a:tab algn="l" pos="2314440"/>
                <a:tab algn="l" pos="2763720"/>
                <a:tab algn="l" pos="3213000"/>
                <a:tab algn="l" pos="3662280"/>
                <a:tab algn="l" pos="4111560"/>
                <a:tab algn="l" pos="4560840"/>
                <a:tab algn="l" pos="5010120"/>
                <a:tab algn="l" pos="5459400"/>
                <a:tab algn="l" pos="5908680"/>
                <a:tab algn="l" pos="6357960"/>
                <a:tab algn="l" pos="6807240"/>
                <a:tab algn="l" pos="7256520"/>
                <a:tab algn="l" pos="7705800"/>
                <a:tab algn="l" pos="8155080"/>
                <a:tab algn="l" pos="8604360"/>
                <a:tab algn="l" pos="9053640"/>
                <a:tab algn="l" pos="95029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Personal information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61840"/>
                <a:tab algn="l" pos="966960"/>
                <a:tab algn="l" pos="1415880"/>
                <a:tab algn="l" pos="1865160"/>
                <a:tab algn="l" pos="2314440"/>
                <a:tab algn="l" pos="2763720"/>
                <a:tab algn="l" pos="3213000"/>
                <a:tab algn="l" pos="3662280"/>
                <a:tab algn="l" pos="4111560"/>
                <a:tab algn="l" pos="4560840"/>
                <a:tab algn="l" pos="5010120"/>
                <a:tab algn="l" pos="5459400"/>
                <a:tab algn="l" pos="5908680"/>
                <a:tab algn="l" pos="6357960"/>
                <a:tab algn="l" pos="6807240"/>
                <a:tab algn="l" pos="7256520"/>
                <a:tab algn="l" pos="7705800"/>
                <a:tab algn="l" pos="8155080"/>
                <a:tab algn="l" pos="8604360"/>
                <a:tab algn="l" pos="9053640"/>
                <a:tab algn="l" pos="95029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Exempt status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61840"/>
                <a:tab algn="l" pos="966960"/>
                <a:tab algn="l" pos="1415880"/>
                <a:tab algn="l" pos="1865160"/>
                <a:tab algn="l" pos="2314440"/>
                <a:tab algn="l" pos="2763720"/>
                <a:tab algn="l" pos="3213000"/>
                <a:tab algn="l" pos="3662280"/>
                <a:tab algn="l" pos="4111560"/>
                <a:tab algn="l" pos="4560840"/>
                <a:tab algn="l" pos="5010120"/>
                <a:tab algn="l" pos="5459400"/>
                <a:tab algn="l" pos="5908680"/>
                <a:tab algn="l" pos="6357960"/>
                <a:tab algn="l" pos="6807240"/>
                <a:tab algn="l" pos="7256520"/>
                <a:tab algn="l" pos="7705800"/>
                <a:tab algn="l" pos="8155080"/>
                <a:tab algn="l" pos="8604360"/>
                <a:tab algn="l" pos="9053640"/>
                <a:tab algn="l" pos="95029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Allowances: factors that affect the amount of tax withheld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61840"/>
                <a:tab algn="l" pos="966960"/>
                <a:tab algn="l" pos="1415880"/>
                <a:tab algn="l" pos="1865160"/>
                <a:tab algn="l" pos="2314440"/>
                <a:tab algn="l" pos="2763720"/>
                <a:tab algn="l" pos="3213000"/>
                <a:tab algn="l" pos="3662280"/>
                <a:tab algn="l" pos="4111560"/>
                <a:tab algn="l" pos="4560840"/>
                <a:tab algn="l" pos="5010120"/>
                <a:tab algn="l" pos="5459400"/>
                <a:tab algn="l" pos="5908680"/>
                <a:tab algn="l" pos="6357960"/>
                <a:tab algn="l" pos="6807240"/>
                <a:tab algn="l" pos="7256520"/>
                <a:tab algn="l" pos="7705800"/>
                <a:tab algn="l" pos="8155080"/>
                <a:tab algn="l" pos="8604360"/>
                <a:tab algn="l" pos="9053640"/>
                <a:tab algn="l" pos="95029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Filled out when starting a job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lvl="2" marL="2589120" indent="-4284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61840"/>
                <a:tab algn="l" pos="966960"/>
                <a:tab algn="l" pos="1415880"/>
                <a:tab algn="l" pos="1865160"/>
                <a:tab algn="l" pos="2314440"/>
                <a:tab algn="l" pos="2763720"/>
                <a:tab algn="l" pos="3213000"/>
                <a:tab algn="l" pos="3662280"/>
                <a:tab algn="l" pos="4111560"/>
                <a:tab algn="l" pos="4560840"/>
                <a:tab algn="l" pos="5010120"/>
                <a:tab algn="l" pos="5459400"/>
                <a:tab algn="l" pos="5908680"/>
                <a:tab algn="l" pos="6357960"/>
                <a:tab algn="l" pos="6807240"/>
                <a:tab algn="l" pos="7256520"/>
                <a:tab algn="l" pos="7705800"/>
                <a:tab algn="l" pos="8155080"/>
                <a:tab algn="l" pos="8604360"/>
                <a:tab algn="l" pos="9053640"/>
                <a:tab algn="l" pos="950292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Needs to be updated if allowances change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3280" y="554040"/>
            <a:ext cx="8856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eeded to Fi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92000" y="1979640"/>
            <a:ext cx="82807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W-2: From your employer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Shows total earnings for the calendar year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Sent by January 31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1099: Income gained from other sources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1040 (A or EZ): Tax return form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Personal records: medical &amp; financia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3108240" y="274680"/>
            <a:ext cx="3746520" cy="6946920"/>
            <a:chOff x="3108240" y="274680"/>
            <a:chExt cx="3746520" cy="6946920"/>
          </a:xfrm>
        </p:grpSpPr>
        <p:sp>
          <p:nvSpPr>
            <p:cNvPr id="47" name=""/>
            <p:cNvSpPr/>
            <p:nvPr/>
          </p:nvSpPr>
          <p:spPr>
            <a:xfrm>
              <a:off x="3941640" y="274680"/>
              <a:ext cx="2130480" cy="789120"/>
            </a:xfrm>
            <a:prstGeom prst="ellipse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08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ath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cum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941640" y="6396120"/>
              <a:ext cx="2027520" cy="825480"/>
            </a:xfrm>
            <a:prstGeom prst="ellipse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08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. File retur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et refu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r pay ow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994200" y="1317600"/>
              <a:ext cx="2027160" cy="717480"/>
            </a:xfrm>
            <a:prstGeom prst="roundRect">
              <a:avLst>
                <a:gd name="adj" fmla="val 218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08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. Filing Stat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. Depend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108240" y="2614680"/>
              <a:ext cx="3746520" cy="1833480"/>
            </a:xfrm>
            <a:custGeom>
              <a:avLst/>
              <a:gdLst>
                <a:gd name="textAreaLeft" fmla="*/ 823680 w 3746520"/>
                <a:gd name="textAreaRight" fmla="*/ 2922840 w 3746520"/>
                <a:gd name="textAreaTop" fmla="*/ 403200 h 1833480"/>
                <a:gd name="textAreaBottom" fmla="*/ 1430280 h 1833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08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. W-2 + 1099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 Adjustm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. - Deduc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. - Exemp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 Taxable Inco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. - Tax cred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 Tax Ow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801960" y="5064120"/>
              <a:ext cx="2340000" cy="1004760"/>
            </a:xfrm>
            <a:prstGeom prst="roundRect">
              <a:avLst>
                <a:gd name="adj" fmla="val 15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08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. Compare W-2 ta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ithheld wit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ax Owed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47" idx="4"/>
              <a:endCxn id="49" idx="0"/>
            </p:cNvCxnSpPr>
            <p:nvPr/>
          </p:nvCxnSpPr>
          <p:spPr>
            <a:xfrm flipH="1" rot="16200000">
              <a:off x="4882320" y="1190160"/>
              <a:ext cx="251640" cy="1080"/>
            </a:xfrm>
            <a:prstGeom prst="bentConnector3">
              <a:avLst>
                <a:gd name="adj1" fmla="val 49856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53" name=""/>
            <p:cNvCxnSpPr>
              <a:stCxn id="49" idx="2"/>
              <a:endCxn id="50" idx="3"/>
            </p:cNvCxnSpPr>
            <p:nvPr/>
          </p:nvCxnSpPr>
          <p:spPr>
            <a:xfrm rot="5400000">
              <a:off x="4706640" y="2311200"/>
              <a:ext cx="576360" cy="27720"/>
            </a:xfrm>
            <a:prstGeom prst="bentConnector3">
              <a:avLst>
                <a:gd name="adj1" fmla="val 35062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54" name=""/>
            <p:cNvCxnSpPr>
              <a:stCxn id="50" idx="1"/>
              <a:endCxn id="51" idx="0"/>
            </p:cNvCxnSpPr>
            <p:nvPr/>
          </p:nvCxnSpPr>
          <p:spPr>
            <a:xfrm rot="5400000">
              <a:off x="4670280" y="4749840"/>
              <a:ext cx="613440" cy="11880"/>
            </a:xfrm>
            <a:prstGeom prst="bentConnector3">
              <a:avLst>
                <a:gd name="adj1" fmla="val 50029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55" name=""/>
            <p:cNvCxnSpPr>
              <a:stCxn id="51" idx="2"/>
              <a:endCxn id="48" idx="0"/>
            </p:cNvCxnSpPr>
            <p:nvPr/>
          </p:nvCxnSpPr>
          <p:spPr>
            <a:xfrm rot="5400000">
              <a:off x="4800960" y="6223680"/>
              <a:ext cx="324360" cy="18000"/>
            </a:xfrm>
            <a:prstGeom prst="bentConnector3">
              <a:avLst>
                <a:gd name="adj1" fmla="val 24444"/>
              </a:avLst>
            </a:prstGeom>
            <a:ln w="9360">
              <a:solidFill>
                <a:srgbClr val="000000"/>
              </a:solidFill>
              <a:round/>
            </a:ln>
          </p:spPr>
        </p:cxn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554040"/>
            <a:ext cx="8856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pleting a Tax Retur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92000" y="1979640"/>
            <a:ext cx="82807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hoose a filing status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Enter your number of dependents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Someone who is supported by your income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Adjusted Gross Income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W-2 + 1099's – adjustments to income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554040"/>
            <a:ext cx="8856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pleting a Tax Retur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92000" y="1979640"/>
            <a:ext cx="82807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Deductions – reduces the amount of income taxed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Itemized: amounts actually spent on tax-deductible expenses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Standard: set amount allowed by the IRS without listing each expense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lvl="2" marL="2589120" indent="-4284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Requires using Form 1040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3280" y="554040"/>
            <a:ext cx="8856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pleting a Tax Retur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92000" y="1979640"/>
            <a:ext cx="82807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Based on exemptions claimed, additional amounts are subtracted from income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1708200" indent="-5673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Called your taxable income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ax credits: subtracted directly from the tax owed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ompare the amount on W-2 to tax owed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If the W-2 is higher, get a return; otherwise pay the difference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3280" y="554040"/>
            <a:ext cx="8856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-Filing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92000" y="1979280"/>
            <a:ext cx="828072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ile online with a bank, the IRS website, or tax preparation software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1708200" indent="-5673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TurboTax, TaxAct, others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Results in faster processing and receipt of your return – 21 days after receipt of return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an be direct deposit into one or more accounts, a paper check, or a US Savings Bond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3280" y="554040"/>
            <a:ext cx="8856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ax Audit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92000" y="1979640"/>
            <a:ext cx="82807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omputerized process to identify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Only 1% of returns are selected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Most are accepted after checking for correctness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0T17:13:25Z</dcterms:created>
  <dc:creator>Mike Farver</dc:creator>
  <dc:description>Presentation Layout Template</dc:description>
  <dc:language>en-US</dc:language>
  <cp:lastModifiedBy/>
  <cp:revision>1</cp:revision>
  <dc:subject/>
  <dc:title>Light Blue Shapes</dc:title>
</cp:coreProperties>
</file>