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72C9E-110C-4C80-B31A-44BD95141F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98C37-B1AE-43D2-95B6-69C39DD2B3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722B6-7377-4789-BE60-18A26EEF4B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1B430-3A21-4D58-965F-56855B9F8E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3B189-650C-4D6E-9759-A95673155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0A895-D307-4AEB-96FC-F40D28701A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00561-3DDC-47F8-903F-CAD2F3351F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59F2D-48F0-45CF-9CB2-C2E57B8F85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CD5C-EFE9-4D14-AD12-266C19B2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8DAA-D047-443A-AAA4-52A9E417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1950-3D0A-4738-A3F5-B7AFE1F5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7204-C154-411F-90A0-A609901A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DF01-C2F8-425B-8DF2-36D6F593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51F-31F4-47EA-B83F-9D1FEA68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4138-4A11-4113-9124-26192316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2450-AF9D-418E-93E2-D716FE12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E80-B814-4E38-AC83-6222E2A5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5A45-0709-4CE5-8156-B27AC6F7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DC0E-DED0-47FC-9C53-8FFB3706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F023-F437-4457-919D-3DFA5AD8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DA613C-9BF0-475A-B905-6935DC8288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ng Value Returning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reating a Functio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very function has been created in adv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s can be program-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647640" indent="-4302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Means it is located within the same file as the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s can be stored in a different file as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Parts of a Functio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 header – first line of a function, no semicol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s return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ction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of para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int calcRectangleArea (int len, int wi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Times New Roman"/>
              </a:rPr>
              <a:t>return len * wi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} //end of calcRectangle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Parameter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l Parameters – variables named in the head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used only in the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ual Parameters (or arguments) – value passed to the function when you call it, they give a value (or reference) to the formal para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Passing Argument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ing by value – copies the passed variable's value into the variable in the formal param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ing by reference – copies the variable's memory location into the variable in the formal param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vered more in chapter 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values passed must match the the number in the function hea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unction Body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the code to be execu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turn statement to be execu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include more than one return statement, but only one must be available at any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(x &gt; 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 x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 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Practice!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new function that receives as arguments two integers and returns their sum to the main fun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main function needs to call it and display the output all on one l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16:52:10Z</dcterms:created>
  <dc:creator>Mike Farver</dc:creator>
  <dc:description>Presentation Layout Template</dc:description>
  <dc:language>en-US</dc:language>
  <cp:lastModifiedBy>End User</cp:lastModifiedBy>
  <dcterms:modified xsi:type="dcterms:W3CDTF">2014-03-28T12:33:53Z</dcterms:modified>
  <cp:revision>4</cp:revision>
  <dc:subject/>
  <dc:title>Brown</dc:title>
</cp:coreProperties>
</file>